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A9B0-8352-400A-A6FF-FDA53515B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B077-FA63-49B5-A3FC-DD729FD65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C090-16A5-4FA5-B0A6-F650295A0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4CBF-3F95-4C8C-9502-5179771D3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A0F75-A019-4C6D-B210-B4992D7E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3EA40-A734-4709-973C-05CE77B7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11CA1-1FD9-498A-8CF8-FDE331E6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F23E1-38DB-4428-A98B-EF98006B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271B9-0B61-46C6-AC4C-3944185D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10DB9-66C9-46FB-9726-025AA9F4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C7A43-723D-4186-B969-226CA3B3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DC1F-1B18-4499-B08C-D498C1994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17EEC-F86A-4302-8A84-3DFDDFC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F450B-E8F5-4ACB-9BF6-773721FB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58C57-2F6C-4B11-9137-246CE5FD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12801-4215-407E-A4FA-75D4EC4C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B2A37-0BDB-405F-B6E2-E97F9F2E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44FE-DECA-4AD3-A36E-E9E2828ED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BE26-155A-4EBA-BF3F-3A9F38F7E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6361-4E39-4A68-A161-5F6087ACB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5762-AA56-44FF-8EE7-FC7D0764A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5BF7-7FE4-4369-B1CE-E4DF7BFBB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EE27-EAB0-43F8-AB9D-B6371224A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459C-6BCF-49FF-84EE-EC4F1A1B8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59F6-3A58-430D-AB9D-ED186A6F85F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4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0"/>
            <a:ext cx="1143000" cy="6857640"/>
            <a:chOff x="0" y="0"/>
            <a:chExt cx="1143000" cy="6857640"/>
          </a:xfrm>
        </p:grpSpPr>
        <p:grpSp>
          <p:nvGrpSpPr>
            <p:cNvPr id="11" name=""/>
            <p:cNvGrpSpPr/>
            <p:nvPr/>
          </p:nvGrpSpPr>
          <p:grpSpPr>
            <a:xfrm>
              <a:off x="0" y="0"/>
              <a:ext cx="1143000" cy="3428640"/>
              <a:chOff x="0" y="0"/>
              <a:chExt cx="1143000" cy="3428640"/>
            </a:xfrm>
          </p:grpSpPr>
          <p:pic>
            <p:nvPicPr>
              <p:cNvPr id="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" name=""/>
            <p:cNvGrpSpPr/>
            <p:nvPr/>
          </p:nvGrpSpPr>
          <p:grpSpPr>
            <a:xfrm>
              <a:off x="0" y="3429000"/>
              <a:ext cx="1143000" cy="3428640"/>
              <a:chOff x="0" y="3429000"/>
              <a:chExt cx="1143000" cy="3428640"/>
            </a:xfrm>
          </p:grpSpPr>
          <p:pic>
            <p:nvPicPr>
              <p:cNvPr id="1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06BD-84A8-4457-843D-490D3B257F5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68360" y="5950080"/>
            <a:ext cx="863640" cy="907560"/>
            <a:chOff x="468360" y="5950080"/>
            <a:chExt cx="863640" cy="907560"/>
          </a:xfrm>
        </p:grpSpPr>
        <p:sp>
          <p:nvSpPr>
            <p:cNvPr id="58" name=""/>
            <p:cNvSpPr/>
            <p:nvPr/>
          </p:nvSpPr>
          <p:spPr>
            <a:xfrm>
              <a:off x="46836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720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51012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972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1048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691640" cy="6857640"/>
            <a:chOff x="0" y="0"/>
            <a:chExt cx="1691640" cy="6857640"/>
          </a:xfrm>
        </p:grpSpPr>
        <p:grpSp>
          <p:nvGrpSpPr>
            <p:cNvPr id="65" name=""/>
            <p:cNvGrpSpPr/>
            <p:nvPr/>
          </p:nvGrpSpPr>
          <p:grpSpPr>
            <a:xfrm>
              <a:off x="0" y="0"/>
              <a:ext cx="1691640" cy="3428640"/>
              <a:chOff x="0" y="0"/>
              <a:chExt cx="1691640" cy="3428640"/>
            </a:xfrm>
          </p:grpSpPr>
          <p:pic>
            <p:nvPicPr>
              <p:cNvPr id="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"/>
            <p:cNvGrpSpPr/>
            <p:nvPr/>
          </p:nvGrpSpPr>
          <p:grpSpPr>
            <a:xfrm>
              <a:off x="0" y="3429000"/>
              <a:ext cx="1691640" cy="3428640"/>
              <a:chOff x="0" y="3429000"/>
              <a:chExt cx="1691640" cy="3428640"/>
            </a:xfrm>
          </p:grpSpPr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" name=""/>
          <p:cNvGrpSpPr/>
          <p:nvPr/>
        </p:nvGrpSpPr>
        <p:grpSpPr>
          <a:xfrm>
            <a:off x="395280" y="5834160"/>
            <a:ext cx="863640" cy="907560"/>
            <a:chOff x="395280" y="5834160"/>
            <a:chExt cx="863640" cy="907560"/>
          </a:xfrm>
        </p:grpSpPr>
        <p:sp>
          <p:nvSpPr>
            <p:cNvPr id="72" name=""/>
            <p:cNvSpPr/>
            <p:nvPr/>
          </p:nvSpPr>
          <p:spPr>
            <a:xfrm>
              <a:off x="395280" y="656064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4120" y="612180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437040" y="583416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6640" y="613548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37400" y="584676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152388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7944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da operação de subtração em BCD (A-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tração é dividida em 3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mplementar cada dígito do subtra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pós o complemento fazer a soma de mais 1.         (A + Bc +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s dígitos em que não houver "vai um" deve-se somar 10, a fim de corrigi-l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25856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2708-89AC-484B-A1A7-F1AEF2D3C3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09680" y="2374920"/>
            <a:ext cx="624852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 subtração 7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6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m B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245124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1  0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1  10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   +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  11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10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  1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0       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4508640"/>
            <a:ext cx="2057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5651640"/>
            <a:ext cx="2057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350720" y="240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4508640"/>
            <a:ext cx="6098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41A4-994D-42EA-BFA6-A9725FA355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71600" y="229248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face da complexidade dos processos e a pouca utilidade prática em computação, não serão apresentados detalhes nem exemplos de métodos para realização de operações de multiplicação e divisão com valores representados em B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492880"/>
            <a:ext cx="6858000" cy="73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-se efetuar a multiplicação através de sucessivas somas  e a divisão através de sucessivas subtrações (processo lento!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350720" y="234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7924-6964-41BF-B17A-6401279103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79440" y="1956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algoritmos da aritmética em BCD são os mesmos que os correspondentes à aritmética em decimal, à qual sempre estivemos acostum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exemplo, na soma em BCD, soma-se os algarismos individualmente, em decimal; quando a soma ultrapassa dez, "vai um" para o dígito de maior ordem (a próxima "casa"), e assim por di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58560" y="356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608D-134D-4459-AFE8-FB7CF0475F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7600" y="202896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da operação de adição em BCD (A+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r os números A e B em grupos de 4 bits, cada grupo representando um dos algarismos decimais do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Somar os novos números A e B (aritmética binária), como se fossem valores binários puros (bit a b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Se o resultado da soma dos quatro primeiros algarismos for igual ou menor que 1001 (9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le está correto. Retornar ao item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387080" y="275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D4B6-12EB-48B5-ADE2-034D1032E4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7280" y="181296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da operação de adição em BCD (A+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Se o resultado for superior a 1001 e menor (ou igual) que 1111, soma-se 0110 (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àquele valor;  o novo resultado é o algarismo desejado; o “vai 1” após o último bit ‘a esquerda é ainda acrescentado à soma da parcela seguinte. Retornar ao item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 Se o resultado for superior a 1111, somar 0110 ao resultado; o “vai 1” obtido com essa última soma é transferido para a parcela seguinte. Retornar ao item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  O processo acaba após a adição do último grupo de 4 bits (algarismo decimal mais significativ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42720" y="288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2D78-3F29-485A-A454-D4687905ED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09680" y="2695680"/>
            <a:ext cx="4267440" cy="3657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18568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icionar A=7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B=6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m B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300024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1  0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0  01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1  1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 0011 1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1     3       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067280"/>
            <a:ext cx="2057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5133960"/>
            <a:ext cx="2057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35072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1CDD-4C69-47E0-879F-F1467A541C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2165400"/>
            <a:ext cx="7162920" cy="457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600" y="1631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icionar A=17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B= 498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165400"/>
            <a:ext cx="6553440" cy="46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01 0111 0011 01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173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00 1001 1000 01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49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671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1 (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´1 1011          (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0000   0001 10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01  01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110  0111  0001 10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200b5b"/>
                </a:solidFill>
                <a:latin typeface="Arial"/>
              </a:rPr>
              <a:t>6        7       1      9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0" y="3079800"/>
            <a:ext cx="4800600" cy="2743200"/>
            <a:chOff x="2286000" y="3079800"/>
            <a:chExt cx="4800600" cy="2743200"/>
          </a:xfrm>
        </p:grpSpPr>
        <p:sp>
          <p:nvSpPr>
            <p:cNvPr id="133" name=""/>
            <p:cNvSpPr/>
            <p:nvPr/>
          </p:nvSpPr>
          <p:spPr>
            <a:xfrm>
              <a:off x="2286000" y="3156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5880" y="307980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4832640"/>
              <a:ext cx="2666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5823000"/>
              <a:ext cx="2666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rot="16111800">
            <a:off x="2589120" y="604836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111800">
            <a:off x="3276360" y="605160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111800">
            <a:off x="3962160" y="605160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111800">
            <a:off x="4647960" y="605160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437508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772C-5621-487E-8653-063DFA738E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94920" y="1752120"/>
            <a:ext cx="72392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ição Ráp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a-se 6 a todos os dígitos da parcel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guir somam-se as parcelas levando em conta o "vai 1" normal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s dígitos em que não houver "vai 1" para a casa seguinte, soma-se dez, sendo que os    "vai 1“ desta última operação serão desprez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943600"/>
            <a:ext cx="74296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ntagem deste método é que ao se corrigir os dígitos não é necessário transportar o "vai um", ele é simplesmente abandon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6F5A-2BE0-44C6-A0D6-963BAC96A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icionar A=17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B= 498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3880" y="2003400"/>
            <a:ext cx="7162920" cy="4910400"/>
            <a:chOff x="1523880" y="2003400"/>
            <a:chExt cx="7162920" cy="4910400"/>
          </a:xfrm>
        </p:grpSpPr>
        <p:sp>
          <p:nvSpPr>
            <p:cNvPr id="148" name=""/>
            <p:cNvSpPr/>
            <p:nvPr/>
          </p:nvSpPr>
          <p:spPr>
            <a:xfrm>
              <a:off x="1523880" y="2003400"/>
              <a:ext cx="7162920" cy="488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3880" y="2003400"/>
              <a:ext cx="6553440" cy="49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001 0111 0011 010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110 0110 0110 011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+ 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111 1101 1001 101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      1   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111 1101 1001 101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(A+6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100 1001 1000 0101              + B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00 0111 0001 111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10                    101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(+10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110  0111  0001 100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2200" spc="-1" strike="noStrike">
                  <a:solidFill>
                    <a:srgbClr val="200b5b"/>
                  </a:solidFill>
                  <a:latin typeface="Arial"/>
                </a:rPr>
                <a:t>6      7       1      9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362320" y="2917800"/>
              <a:ext cx="4419360" cy="2819160"/>
              <a:chOff x="2362320" y="2917800"/>
              <a:chExt cx="4419360" cy="2819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362320" y="2993760"/>
                <a:ext cx="2743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91320" y="2917800"/>
                <a:ext cx="9903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62320" y="4746600"/>
                <a:ext cx="26668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438280" y="5736960"/>
                <a:ext cx="26672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350720" y="2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5406-8119-4BFF-9FB5-5D8D7AA54C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1932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ão de subtração em aritmética 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peração de subtração de números representados na forma decimal é pouco simples e prática, devido ao fato de não ser possível converter de modo rápido os números negativos para sua representação de comple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B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BACC-41F0-4E07-9FF1-EAEA5CDC2F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dcterms:modified xsi:type="dcterms:W3CDTF">2007-10-01T11:55:12Z</dcterms:modified>
  <cp:revision>810</cp:revision>
  <dc:subject/>
  <dc:title>Introdução à Computação</dc:title>
</cp:coreProperties>
</file>