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782E-C8D1-4D7E-8B4B-D223960BE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95AA-0BDB-492F-A7A6-A1EE96C56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D6FB-5AFC-4161-9867-E8DD06124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D262-B6F7-4D89-9483-2FD4AF496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8D65B-87F7-4D57-943A-754628D9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C35AD-F88D-4007-8235-0C526EDA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00E8B-B84D-48C1-9519-FD221233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44CEB-A9D3-430D-805E-E715B7D0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90694-D0A9-401C-B9CD-694B48C5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A3E06-F5C8-4F24-8F22-BF56B521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94DB3-8A1B-4C90-849B-693BE5A5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B4E9-AA4E-44E8-BD21-3159E56A0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21EBF-3861-4035-9450-CF48B19F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AFB53-B7D6-4FD2-B8E0-24FAD08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A4840-6647-42D8-8F58-EC5FCD99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6B57C-0B0E-4BA0-99EF-62AFF08C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8706F-599E-40F3-B477-153A191C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49C0-C22A-4583-A6DF-A404A5AC8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7C16-26E6-46B5-8F7A-BB224FB64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0E24-7302-467C-977F-04104D3D6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613D-2F42-4AF3-88DE-20B2E8B1A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D5F8-B6CD-4A4F-9FD4-C82E41006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F28B-A70A-4BD1-B4C6-9556C9932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8107-3368-43BB-8BCC-61EE65FBF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143000" cy="6857640"/>
            <a:chOff x="0" y="0"/>
            <a:chExt cx="1143000" cy="6857640"/>
          </a:xfrm>
        </p:grpSpPr>
        <p:grpSp>
          <p:nvGrpSpPr>
            <p:cNvPr id="2" name=""/>
            <p:cNvGrpSpPr/>
            <p:nvPr/>
          </p:nvGrpSpPr>
          <p:grpSpPr>
            <a:xfrm>
              <a:off x="0" y="0"/>
              <a:ext cx="1143000" cy="3428640"/>
              <a:chOff x="0" y="0"/>
              <a:chExt cx="1143000" cy="3428640"/>
            </a:xfrm>
          </p:grpSpPr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" name=""/>
            <p:cNvGrpSpPr/>
            <p:nvPr/>
          </p:nvGrpSpPr>
          <p:grpSpPr>
            <a:xfrm>
              <a:off x="0" y="3429000"/>
              <a:ext cx="1143000" cy="3428640"/>
              <a:chOff x="0" y="3429000"/>
              <a:chExt cx="1143000" cy="3428640"/>
            </a:xfrm>
          </p:grpSpPr>
          <p:pic>
            <p:nvPicPr>
              <p:cNvPr id="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FD0C-EA4D-4D64-A042-C391B3DE9C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120600" y="5950080"/>
            <a:ext cx="863640" cy="907560"/>
            <a:chOff x="120600" y="5950080"/>
            <a:chExt cx="863640" cy="907560"/>
          </a:xfrm>
        </p:grpSpPr>
        <p:sp>
          <p:nvSpPr>
            <p:cNvPr id="12" name=""/>
            <p:cNvSpPr/>
            <p:nvPr/>
          </p:nvSpPr>
          <p:spPr>
            <a:xfrm>
              <a:off x="12060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944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1620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7196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623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6BF9-8301-482E-ACFC-2973910985E0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1691640" cy="6857640"/>
            <a:chOff x="0" y="0"/>
            <a:chExt cx="1691640" cy="685764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1691640" cy="3428640"/>
              <a:chOff x="0" y="0"/>
              <a:chExt cx="1691640" cy="3428640"/>
            </a:xfrm>
          </p:grpSpPr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0" y="3429000"/>
              <a:ext cx="1691640" cy="3428640"/>
              <a:chOff x="0" y="3429000"/>
              <a:chExt cx="1691640" cy="3428640"/>
            </a:xfrm>
          </p:grpSpPr>
          <p:pic>
            <p:nvPicPr>
              <p:cNvPr id="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" name=""/>
          <p:cNvGrpSpPr/>
          <p:nvPr/>
        </p:nvGrpSpPr>
        <p:grpSpPr>
          <a:xfrm>
            <a:off x="468360" y="5950080"/>
            <a:ext cx="863640" cy="907560"/>
            <a:chOff x="468360" y="5950080"/>
            <a:chExt cx="863640" cy="907560"/>
          </a:xfrm>
        </p:grpSpPr>
        <p:sp>
          <p:nvSpPr>
            <p:cNvPr id="66" name=""/>
            <p:cNvSpPr/>
            <p:nvPr/>
          </p:nvSpPr>
          <p:spPr>
            <a:xfrm>
              <a:off x="46836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720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1012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972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1048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57040" y="33523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58920" y="19162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s inteiros codificados 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ário de 8 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sistema que utiliza complemento de 2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128, -127, ...,  -2. -1,  0,  +1,  +2,...,  +12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10000000, 10000001, ..., 11111110, 11111111,  00000000, 00000001, 00000010, ..., 01111111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mais significativo       informação de sina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 = positivo e 1 = negativ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100" spc="-1" strike="noStrike">
                <a:solidFill>
                  <a:srgbClr val="000000"/>
                </a:solidFill>
                <a:latin typeface="Tahoma"/>
              </a:rPr>
              <a:t>Representação em complemento de 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5661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2460-924E-472B-ACC8-ACB775AA05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95280" y="1600200"/>
            <a:ext cx="76201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só circu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mador) para fazer a adição e a subtra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á apenas uma representação para o val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isponibilidade par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 uma representaçã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ais um número negativo pode ser representado (para 8 bits, pode-se representar o número –12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00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antidade de números positivos 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er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 quantidade de números negativ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100" spc="-1" strike="noStrike">
                <a:solidFill>
                  <a:srgbClr val="000000"/>
                </a:solidFill>
                <a:latin typeface="Tahoma"/>
              </a:rPr>
              <a:t>Representação em complemento de 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8800-3B39-4FA8-B833-F2037B010E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400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reva os números decimais abaixo nas seguintes representações: sinal e magnitude; representação em complemento de 1; representação em complemento de 2 e excesso de 128 (utilizando 8 bits, se existir representaçã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–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–127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–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presentação de Números Int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E4AE-3754-4715-BDC0-2EF5121DB4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8920" y="1860480"/>
            <a:ext cx="7620120" cy="495324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55700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s negativos de 8 bits expressos em 4 sistemas difer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presentação de Números Int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03280" y="1933560"/>
          <a:ext cx="7315200" cy="4783320"/>
        </p:xfrm>
        <a:graphic>
          <a:graphicData uri="http://schemas.openxmlformats.org/drawingml/2006/table">
            <a:tbl>
              <a:tblPr/>
              <a:tblGrid>
                <a:gridCol w="990360"/>
                <a:gridCol w="1143000"/>
                <a:gridCol w="1219320"/>
                <a:gridCol w="1371600"/>
                <a:gridCol w="1371600"/>
                <a:gridCol w="121932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cima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inári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nal-magnitude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mple-mento de 1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mple-mento de 2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sso de 128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0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10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01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0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0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1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1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existe represen-taçã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existe represen-taçã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B0C7-6AE6-49EC-A915-06162744C4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rá sempre um padrão de bits a mais ou a menos, não importa qual a representação escolh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adrão de bits extra pode ser usado como –0, como o menor número negativo da representação, ou algo assim, mas, independentemente de como esse padrão de bits for usado, ele poderá ser um estor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presentação de Números Int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745D-375A-4251-A553-4B1377C5BC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32000" y="5106960"/>
            <a:ext cx="7543800" cy="914400"/>
          </a:xfrm>
          <a:prstGeom prst="rect">
            <a:avLst/>
          </a:prstGeom>
          <a:solidFill>
            <a:srgbClr val="ffff99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260280"/>
            <a:ext cx="7924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de Números Re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9232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lguns tipos de cálculo, a faixa de variação dos números envolvidos é muito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) Massa do elétron - da ordem de 9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) Massa do Sol - aproximadamente igual a 2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3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ixa de variação: &gt;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de representação (34 dígitos à esquerda do ponto decimal e 28 dígitos à direita do me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o representar esses números no computado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5259240"/>
            <a:ext cx="7619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0000000000000000000000000000000000.0000000000000000000000000009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2000000000000000000000000000000000.000000000000000000000000000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E888-3290-4F88-B3F8-DE092D7466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260280"/>
            <a:ext cx="7924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de Números Re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58560" y="1700280"/>
            <a:ext cx="770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 usual de representação de  números reai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e inteira, vírgula (ou ponto), parte fracioná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representação, embora cômoda para cálculos no papel, não é adequada para processamento no comput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45,7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BAE9-D48C-48BD-BCE4-BE3C89527C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775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de Números Re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núme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,7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e ser expresso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,724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724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45724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necessário o uso de um sistema de representação de números no qual a faixa de variação dos números seja independente do número de dígitos significativos dos números represent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B3E8-4A4E-4808-AC7E-C9466D408E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067280" y="2852640"/>
            <a:ext cx="1944720" cy="609840"/>
          </a:xfrm>
          <a:prstGeom prst="rect">
            <a:avLst/>
          </a:prstGeom>
          <a:solidFill>
            <a:srgbClr val="ffff99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maneira de separar a faixa de variação dos números de sua precisão consiste em representá-lo na notação cient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ração ou significando (ou manti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expoente (inteiro positivo ou nega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lquer número (inteiro ou fracionário) pode ser expresso no format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número x base</a:t>
            </a:r>
            <a:r>
              <a:rPr b="1" lang="pt-BR" sz="2200" spc="-1" strike="noStrike" baseline="30000">
                <a:solidFill>
                  <a:srgbClr val="000000"/>
                </a:solidFill>
                <a:latin typeface="Arial"/>
              </a:rPr>
              <a:t>expo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podendo-se variar a posição da vírgula  e o expoen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nominação (computacional):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presentação em ponto flutua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(o ponto varia sua posição, modificando, em conseqüência, o valor representado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61B6-961D-4BF9-91E8-8302F9CA98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ção pode variar (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tu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) a posição da vírgula, ajustando a potência da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14 = 0,31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,1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000001=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1 = 0,194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xa de vari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s números é determinada pela quantidade de dígitos do expoente 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 determinada pela quantidade de dígitos do signific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7DA5-0EF0-4C3C-A6A9-32EF78DE5E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2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computador são armazenados e processados apenas dados e instru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computador executa operações sobre dados numéricos (os números) ou alfabéticos (letras e símbol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preciso definir uma forma de representar os dados, codificados em uns e zeros, que possam ser interpretados pelo computador, de forma correta e eficiente (com bom desempenho e pouco consumo de memóri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3F3C-A1C2-4298-85C3-F6C55B0101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18960" y="1628280"/>
            <a:ext cx="79246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a normalizad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a um único dígito antes da vírgula, diferente de zero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 representação computacional de números em ponto flutuante, a representação normalizada é, em geral, melhor que a não-normaliz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 normaliz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ó existe uma forma de representar um núm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 não normaliz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m mesmo número pode ser representado de diversas manei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5065560"/>
            <a:ext cx="7620120" cy="166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drão IEEE 754 para números em ponto flutuante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do normaliz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eça com um bit 1, seguido de um ponto (vírgula) binário e pelo resto do significando (número = ± 1,_ _  ...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i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meça com o ponto (vírgula) binário seguido por um bit 1 e pelo resto da mantissa (bit antes da vírgula igual a zero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A3CB-A618-4E27-BB06-DB103D1086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67920" y="170028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ustr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stema biná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010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0,10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1010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,011010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s armazenados em um computador - os expoentes serão também gravados na base d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3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7=11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,101 x (1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10101x(1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0110101x(1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ção normalizada - há apenas um “1” antes da vírg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10101x(10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9D00-8A51-4315-9F6C-5AE04F35AC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númer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1,10101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10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,10101 = signific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01 = expo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base binária  não precisa ser explicitad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o computador usa sempre es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“1” antes da vírgula, na representação normalizada – se esta for adotada, também pode ficar implícito, economizando um bit                 (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t escond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5A2A-A266-4B7E-AAC3-9D8366B32D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organização/arquitetura do computador, deve-se defi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de bits do significando (precisão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de bits do expoente (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bit (“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ara + e “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ara -) de sinal (tipicamente o primeiro, da esquer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7BDE-4CBA-41CF-B232-F6DA9A3277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98640" y="2629080"/>
            <a:ext cx="6477120" cy="137160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ustração (8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 do número: 0 = + e 1 =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s: 8 combinações poss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ão seguem aritmética norm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.ex.: Utiliza notação em exces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636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0920" y="2781360"/>
          <a:ext cx="6172200" cy="1068480"/>
        </p:xfrm>
        <a:graphic>
          <a:graphicData uri="http://schemas.openxmlformats.org/drawingml/2006/table">
            <a:tbl>
              <a:tblPr/>
              <a:tblGrid>
                <a:gridCol w="838440"/>
                <a:gridCol w="761760"/>
                <a:gridCol w="762120"/>
                <a:gridCol w="762120"/>
                <a:gridCol w="768240"/>
                <a:gridCol w="755640"/>
                <a:gridCol w="762120"/>
                <a:gridCol w="761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ente (+/-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27C8-89AA-4E5A-877D-B8CB6DF58C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32000" y="2060640"/>
            <a:ext cx="7467480" cy="441936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89200" y="2212920"/>
            <a:ext cx="3429000" cy="4140360"/>
            <a:chOff x="1789200" y="2212920"/>
            <a:chExt cx="3429000" cy="4140360"/>
          </a:xfrm>
        </p:grpSpPr>
        <p:sp>
          <p:nvSpPr>
            <p:cNvPr id="204" name=""/>
            <p:cNvSpPr/>
            <p:nvPr/>
          </p:nvSpPr>
          <p:spPr>
            <a:xfrm>
              <a:off x="2703600" y="5835600"/>
              <a:ext cx="25146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o especia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89200" y="5835600"/>
              <a:ext cx="9144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03600" y="5318280"/>
              <a:ext cx="25146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89200" y="5318280"/>
              <a:ext cx="9144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3600" y="4800600"/>
              <a:ext cx="25146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89200" y="4800600"/>
              <a:ext cx="9144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03600" y="4283280"/>
              <a:ext cx="25146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89200" y="4283280"/>
              <a:ext cx="9144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3600" y="3765600"/>
              <a:ext cx="25146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89200" y="3765600"/>
              <a:ext cx="9144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03600" y="3247920"/>
              <a:ext cx="25146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-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89200" y="3247920"/>
              <a:ext cx="9144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03600" y="2730600"/>
              <a:ext cx="25146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–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89200" y="2730600"/>
              <a:ext cx="9144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03600" y="2212920"/>
              <a:ext cx="25146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o especia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89200" y="2212920"/>
              <a:ext cx="9144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89200" y="221292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89200" y="27306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89200" y="32479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89200" y="37656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89200" y="42832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89200" y="48006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89200" y="53182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89200" y="58356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89200" y="63532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89200" y="2212920"/>
              <a:ext cx="0" cy="414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03600" y="2212920"/>
              <a:ext cx="0" cy="414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18200" y="2212920"/>
              <a:ext cx="0" cy="414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522760" y="274644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79960" y="297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aixo de z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22760" y="427032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79960" y="4727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ima de z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46440" y="3813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polar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36E2-1968-4381-B040-41E8F64F99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71600" y="1981080"/>
            <a:ext cx="7521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Realize as conversões abaix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,75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= (   ?   )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nto flutuante, com 8 bit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10 1001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nto flutuante, com 8 bits)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(   ?   )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95FC-D1EB-49F9-B31D-EF173EE890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4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,75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0,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101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: 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x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do: 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nto flutuante, com 8 bi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1011011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B20A-14D0-4FEE-927F-FAF9FF302A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81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10 1001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nto flutuante, 8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: 1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do: 10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(negativo) 1,10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00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12,5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4A87-DC51-4C5D-A0F7-C3D35BD113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263600" y="1956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nda os expoentes na ilustração (8 bits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or número posi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embre do bit escondid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110 1111 =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1,1111 = 1111,1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,5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r número posi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mbre do bit escondid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01 0000 =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 1,0000 = 0,01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25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7094-4541-4B76-8EC6-4F12C20F1E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600" y="1700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dados podem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fab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ras, números e símbolos (codificados em ASCII e EBCDI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ér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nto fixo, números intei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nto flutuante (números reais ou fracioná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(representação decimal codificada em binár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áveis que possuem apenas dois valores para representação (FALSO e VERDADEIRO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685F-3145-4EE2-BABE-5098FDA838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ções especiais dos expoentes na ilustraçã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presentação NÃO norm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do passa a ser 0,_ _ _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 (000) =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r número positivo passa a 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00 0001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 0,0001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015625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5867280"/>
            <a:ext cx="739152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orma IEEE prevê 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nderflow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gradual (a mantissa deixa de ser normalizada), permitindo obter números bem mais próximos de zer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8AA7-AD80-43EA-8A09-5C9D081940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inda as combinações especiai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rmalização não permite representar zer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representação NÃO norm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0000000 = + 0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000000 = - 0 decimal (iguais em comparaçõ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representações de infin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1110000 = +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110000 = -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111000 = indetermin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s combinações 11111_ _ _ =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t A Numb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AN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47E2-9DF6-4F35-9635-1046FD44D9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391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é meados dos anos 1980, cada fabricante de computador tinha seu próprio formato para representar números em ponto flutua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Solu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criação do </a:t>
            </a: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Padrão 75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IEEE 1985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adrão IEEE 754 procurou uniformizar a maneira como as diferentes máquinas representam os números em ponto flutuante, bem como devem operá-l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adrão IEEE 754 para ponto (vírgula) flutuante é a representação mais comum para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números reai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m computadores de hoje, incluindo PC's compatíveis com Intel, Macintosh, e a maioria das plataformas Unix/Linu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19F1-4EA6-42F1-8899-1F753B9762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O padrão IEEE 754 define três formatos</a:t>
            </a: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 si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2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 dup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4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ão estendida (80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formatos de precisão simples e precisão dupla usam a base 2 para o significando e a notação em excesso para o expo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315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FF5D-3DA1-483C-9E42-0EB0DB0E00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95280" y="4383000"/>
            <a:ext cx="7620120" cy="1905120"/>
          </a:xfrm>
          <a:prstGeom prst="rect">
            <a:avLst/>
          </a:prstGeom>
          <a:solidFill>
            <a:srgbClr val="ffff99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62320" y="1716120"/>
            <a:ext cx="5486400" cy="1905120"/>
          </a:xfrm>
          <a:prstGeom prst="rect">
            <a:avLst/>
          </a:prstGeom>
          <a:solidFill>
            <a:srgbClr val="ffff99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95480" y="1868400"/>
            <a:ext cx="4800600" cy="1755000"/>
            <a:chOff x="2895480" y="1868400"/>
            <a:chExt cx="4800600" cy="1755000"/>
          </a:xfrm>
        </p:grpSpPr>
        <p:sp>
          <p:nvSpPr>
            <p:cNvPr id="258" name=""/>
            <p:cNvSpPr/>
            <p:nvPr/>
          </p:nvSpPr>
          <p:spPr>
            <a:xfrm>
              <a:off x="3657600" y="2325600"/>
              <a:ext cx="2286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86200" y="232560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2325600"/>
              <a:ext cx="243828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61360" y="1868400"/>
              <a:ext cx="33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ts  1     8                2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34240" y="2401560"/>
              <a:ext cx="183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gnificand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480" y="31636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al           Expoent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429000" y="2934720"/>
              <a:ext cx="30492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4267080" y="2934720"/>
              <a:ext cx="60984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274400" y="4535640"/>
            <a:ext cx="7488720" cy="1755000"/>
            <a:chOff x="1274400" y="4535640"/>
            <a:chExt cx="7488720" cy="1755000"/>
          </a:xfrm>
        </p:grpSpPr>
        <p:sp>
          <p:nvSpPr>
            <p:cNvPr id="267" name=""/>
            <p:cNvSpPr/>
            <p:nvPr/>
          </p:nvSpPr>
          <p:spPr>
            <a:xfrm>
              <a:off x="2057400" y="4992840"/>
              <a:ext cx="2286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6000" y="4992840"/>
              <a:ext cx="11430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4992840"/>
              <a:ext cx="533412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74400" y="4535640"/>
              <a:ext cx="50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ts  1     11                                  5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9320" y="5069160"/>
              <a:ext cx="183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gnificand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583092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al           Expoent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905120" y="5526000"/>
              <a:ext cx="30456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2895480" y="5601960"/>
              <a:ext cx="60984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590920" y="36212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 sim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621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 dup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EA6C-D5A6-4E2B-86B3-C61C968E0A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447920" y="1747800"/>
            <a:ext cx="7238880" cy="182880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371600" y="2205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0 = + e 1 =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nal + Expoente + Signific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ção 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o de 1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it de polarização): precisão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ção 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o de 10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it de polarização): precisão dup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315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00200" y="1900080"/>
          <a:ext cx="6934320" cy="1523880"/>
        </p:xfrm>
        <a:graphic>
          <a:graphicData uri="http://schemas.openxmlformats.org/drawingml/2006/table">
            <a:tbl>
              <a:tblPr/>
              <a:tblGrid>
                <a:gridCol w="2133720"/>
                <a:gridCol w="1143000"/>
                <a:gridCol w="1828800"/>
                <a:gridCol w="18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ente(+/-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2bits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31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30-23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22-00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4 bits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63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62-52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51-00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4160-5654-47CA-A381-1956A5EDF53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184040" y="19162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ecisão simp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/256 combin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0111111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127</a:t>
            </a:r>
            <a:r>
              <a:rPr b="0" lang="pt-BR" sz="22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= expoente zero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polarizaçã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0000000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menor expoente = –126 (abaixo de ze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1111111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maior expoente = +127 (acima de ze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371240" y="315720"/>
            <a:ext cx="71629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E94C-C3E9-4ACA-8EFE-FD34103C38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371240" y="1988640"/>
            <a:ext cx="7304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Realize as conversões abaix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,875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(   ?   )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EEE 754, com 32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000001110100000000000000000000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(IEEE 754, com 32 bits)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(   ?   )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0106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8362-B458-4054-BC8A-D262614592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,875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10,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1011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: 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1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x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3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000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do: 010111000000000000000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EEE 754, com 32 bi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1000001001011100000000000000000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0102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12CF-DCD5-4407-986D-93DD79C151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33200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000001110100000000000000000000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EEE 754, com 32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: 10000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3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1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13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do: 101000000000000000000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(negativo) 1,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0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26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371240" y="134640"/>
            <a:ext cx="7086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CAEA-8DD7-4976-918F-6D55EF29FD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6920" y="1844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dados numéricos são representados em um computador como uma seqüência de 0s e 1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números podem ser positivos ou negativos. As operações aritméticas, em particular a subtração, podem originar resultados negativ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aspecto primordial a ser definido seria então como representar o s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o é que um computador sabe que um dado número é nega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presentação de Números Int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4156-F802-4F16-B764-860B15B14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32000" y="2571840"/>
            <a:ext cx="7543800" cy="380988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40796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numéricos IEEE 7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371240" y="134640"/>
            <a:ext cx="71629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332000" y="2800440"/>
            <a:ext cx="7390800" cy="2821680"/>
            <a:chOff x="1332000" y="2800440"/>
            <a:chExt cx="7390800" cy="2821680"/>
          </a:xfrm>
        </p:grpSpPr>
        <p:grpSp>
          <p:nvGrpSpPr>
            <p:cNvPr id="294" name=""/>
            <p:cNvGrpSpPr/>
            <p:nvPr/>
          </p:nvGrpSpPr>
          <p:grpSpPr>
            <a:xfrm>
              <a:off x="1712880" y="2800440"/>
              <a:ext cx="7009560" cy="383040"/>
              <a:chOff x="1712880" y="2800440"/>
              <a:chExt cx="7009560" cy="383040"/>
            </a:xfrm>
          </p:grpSpPr>
          <p:sp>
            <p:nvSpPr>
              <p:cNvPr id="295" name=""/>
              <p:cNvSpPr/>
              <p:nvPr/>
            </p:nvSpPr>
            <p:spPr>
              <a:xfrm>
                <a:off x="2931480" y="280044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07800" y="287640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12720" y="280044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88680" y="287640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0 &lt; Exp &lt; Max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912920" y="280044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12920" y="287640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Qualquer configuração de bits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12880" y="287640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rmalizado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2931840" y="3409920"/>
              <a:ext cx="38088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08160" y="348624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13080" y="3409920"/>
              <a:ext cx="159984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89040" y="348624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00 ... 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13280" y="3409920"/>
              <a:ext cx="380952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13280" y="348624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quer configuração de bits diferente de zero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32000" y="3486240"/>
              <a:ext cx="15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ão-Normaliza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712880" y="4019400"/>
              <a:ext cx="7009560" cy="383040"/>
              <a:chOff x="1712880" y="4019400"/>
              <a:chExt cx="7009560" cy="383040"/>
            </a:xfrm>
          </p:grpSpPr>
          <p:sp>
            <p:nvSpPr>
              <p:cNvPr id="310" name=""/>
              <p:cNvSpPr/>
              <p:nvPr/>
            </p:nvSpPr>
            <p:spPr>
              <a:xfrm>
                <a:off x="2931480" y="401940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007800" y="409536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12720" y="401940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88680" y="409536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00 ... 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12920" y="401940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12920" y="409536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00 ...0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12880" y="409536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ero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712880" y="4629240"/>
              <a:ext cx="7009560" cy="383040"/>
              <a:chOff x="1712880" y="4629240"/>
              <a:chExt cx="7009560" cy="383040"/>
            </a:xfrm>
          </p:grpSpPr>
          <p:sp>
            <p:nvSpPr>
              <p:cNvPr id="318" name=""/>
              <p:cNvSpPr/>
              <p:nvPr/>
            </p:nvSpPr>
            <p:spPr>
              <a:xfrm>
                <a:off x="2931480" y="462924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07800" y="470520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12720" y="462924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88680" y="470520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1 ... 1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12920" y="462924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12920" y="470520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00 ..0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12880" y="470520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finito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2931840" y="5238720"/>
              <a:ext cx="38088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8160" y="531504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13080" y="5238720"/>
              <a:ext cx="159984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89040" y="531504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1 ... 1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13280" y="5238720"/>
              <a:ext cx="380952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13280" y="531504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quer configuração de bits diferente de zero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07960" y="531504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Not a Numbe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703600" y="60008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 de sin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160800" y="569556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8276-9568-46C8-A40E-9C92BB91E3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218960" y="177336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ecisão simp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/256 combin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eeb0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=1 e significando = 0...0 : -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=0 e significando = 0...0 : +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eeb0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=1 e significando = 0...0 : -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=0 e significando = 0...0 : +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=1 e significando =10...0:  in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/outras combinações: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1371240" y="206280"/>
            <a:ext cx="7162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175A-2C3D-48A7-A309-09609BEED4F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r número posi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embre do bit escondido e não normaliz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 00000000 00…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-1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or número posi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embre do bit escond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 11111110 11...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127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x (2-2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-2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402920" y="260280"/>
            <a:ext cx="7162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3744-6BCA-4B4A-942A-6E9D77C4879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218960" y="17002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ecisão dup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01111111111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1023</a:t>
            </a:r>
            <a:r>
              <a:rPr b="0" lang="pt-BR" sz="22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= expoente zer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polariz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00000000001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= menor expoente = –1022 (abaixo de ze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11111111110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= maior expoente = +1023 (acima de ze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or número pos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lembre do bit escondido e não normaliz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6160" indent="-200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0 00000000000 00…0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-102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-5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pt-BR" sz="2400" spc="-1" strike="noStrike" baseline="30000">
                <a:solidFill>
                  <a:srgbClr val="ffcc00"/>
                </a:solidFill>
                <a:latin typeface="Arial"/>
              </a:rPr>
              <a:t>-10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4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ior número pos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lembre do bit escond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6160" indent="-200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0 11111111110 11...1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pt-BR" sz="2400" spc="-1" strike="noStrike" baseline="30000">
                <a:solidFill>
                  <a:srgbClr val="ffcc00"/>
                </a:solidFill>
                <a:latin typeface="Arial"/>
              </a:rPr>
              <a:t>1023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x (2-2</a:t>
            </a:r>
            <a:r>
              <a:rPr b="1" lang="pt-BR" sz="2400" spc="-1" strike="noStrike" baseline="30000">
                <a:solidFill>
                  <a:srgbClr val="ffcc00"/>
                </a:solidFill>
                <a:latin typeface="Arial"/>
              </a:rPr>
              <a:t>-52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162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B41B-A6B6-4C58-B8FA-AA52B2B7D0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539720" y="2771640"/>
            <a:ext cx="7239240" cy="304812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dro Resumo - IEEE 7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371240" y="206280"/>
            <a:ext cx="7162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692360" y="2924280"/>
          <a:ext cx="6933960" cy="2711520"/>
        </p:xfrm>
        <a:graphic>
          <a:graphicData uri="http://schemas.openxmlformats.org/drawingml/2006/table">
            <a:tbl>
              <a:tblPr/>
              <a:tblGrid>
                <a:gridCol w="1371240"/>
                <a:gridCol w="2133720"/>
                <a:gridCol w="2057400"/>
                <a:gridCol w="137160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a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a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1-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x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2-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x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~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4.8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~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.5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7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1-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x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2-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x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~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3.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~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.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E649-0D52-4925-A34E-ECB2C329684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258560" y="22046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presentação em ponto flutuante tem limites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 limitado pelo número de bits 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 determinada pelo número de bits 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7B67-D2E3-4946-920E-1DABC91D9AD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corre </a:t>
            </a:r>
            <a:r>
              <a:rPr b="1" i="1" lang="pt-BR" sz="2400" spc="-1" strike="noStrike">
                <a:solidFill>
                  <a:srgbClr val="eeb00b"/>
                </a:solidFill>
                <a:latin typeface="Arial"/>
              </a:rPr>
              <a:t>overflo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ando o valor absoluto do dado a ser representado excede a capacidade de representação, porque o número de bits do expoente (neste caso, positivo) é insuficiente para representar o d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corre </a:t>
            </a:r>
            <a:r>
              <a:rPr b="1" i="1" lang="pt-BR" sz="2400" spc="-1" strike="noStrike">
                <a:solidFill>
                  <a:srgbClr val="eeb00b"/>
                </a:solidFill>
                <a:latin typeface="Arial"/>
              </a:rPr>
              <a:t>underflo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ando o valor absoluto do dado a ser representado é tão pequeno que fica menor que o menor valor absoluto representáv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caso de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imprec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 normalização permite que o dado seja representado, porém com perda de precis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EA4D-D448-4117-9226-DD244711EB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presentação de números reais em ponto flutuante é perfeitamente adequada para fazer cálculos matemáticos, científico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representação em ponto flutuante pode-se ter perda de precisão do número representado ou mesmo haverá números que não podem ser representados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 representação de números em que é necessário manter precisão até o último algarismo, não é admissível erro por aproxim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Solu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sar a representa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inary Coded Decim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cimal Representado em Binári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6242-7494-4181-A0DB-EA548CE4DA3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760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déia do BCD é representar, em binário, cada algarismo de forma  que o número original seja integralmente preserv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dificação BCD não possui extensão fixa, possibilitando representar números com precisão variável - quanto maior o número de bits, maior será a precis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B235-5EEE-4F6E-817D-D8F48B4BCCF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828800" y="2093760"/>
            <a:ext cx="6400800" cy="434340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19232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ela de Representação dos Números Decimais em B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981080" y="2246400"/>
          <a:ext cx="6095880" cy="40305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6553080" y="6477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a ..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3E39-63B3-4891-9D25-D210CD40BC3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posta a esta pergunta é que isso depende da convenção usada na representação de núm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onvenções mais usuais são as seguin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de grandeza com sinal      (sinal e magnitu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em complemento 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presentação de Números Int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97360"/>
            <a:ext cx="7620120" cy="1920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ras formas de representação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mento d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ara negar o valor de um número deve-se inverter os bits do sinal (obsoleta)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sso de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presentação do número é dada pela soma de seu valor absoluto com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xemplo: Um sistema de 8 bits é chamado de excesso de 128 e um número é armazenado com seu valor real somado a 128. Ex.:-3=0111110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-3+128=125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92D1-F98A-4F4A-9017-FD7BA2E37A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828800" y="1941480"/>
            <a:ext cx="6400800" cy="281952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20680" y="16034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ela de Representação dos Números Decimais em B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981080" y="2093760"/>
          <a:ext cx="6096240" cy="25527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19280" y="4869000"/>
            <a:ext cx="701028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39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(  ?   ) BCD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 001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= 10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logo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= 001000111001 (BCD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D8A9-E34A-4DE7-A519-7C4AB8FD32D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611360" y="4724280"/>
            <a:ext cx="7086600" cy="198144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dificação de um dígito em BCD requer 4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 utilização de apenas 4 bits por byte não é eficiente, normalmente são armazenados 2 dígitos BCD em um só byte. Esta representação é chamada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BCD comprimido ou compactado</a:t>
            </a:r>
            <a:r>
              <a:rPr b="0" lang="pt-BR" sz="2400" spc="-1" strike="noStrike">
                <a:solidFill>
                  <a:srgbClr val="eeb00b"/>
                </a:solidFill>
                <a:latin typeface="Arial"/>
              </a:rPr>
              <a:t> ("</a:t>
            </a:r>
            <a:r>
              <a:rPr b="1" i="1" lang="pt-BR" sz="2400" spc="-1" strike="noStrike">
                <a:solidFill>
                  <a:srgbClr val="eeb00b"/>
                </a:solidFill>
                <a:latin typeface="Arial"/>
              </a:rPr>
              <a:t>packed BCD</a:t>
            </a:r>
            <a:r>
              <a:rPr b="0" lang="pt-BR" sz="2400" spc="-1" strike="noStrike">
                <a:solidFill>
                  <a:srgbClr val="eeb00b"/>
                </a:solidFill>
                <a:latin typeface="Arial"/>
              </a:rPr>
              <a:t>"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4239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(  ?   ) 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763640" y="4876920"/>
          <a:ext cx="6781680" cy="1701720"/>
        </p:xfrm>
        <a:graphic>
          <a:graphicData uri="http://schemas.openxmlformats.org/drawingml/2006/table">
            <a:tbl>
              <a:tblPr/>
              <a:tblGrid>
                <a:gridCol w="1525680"/>
                <a:gridCol w="1611360"/>
                <a:gridCol w="1525320"/>
                <a:gridCol w="21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cim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000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0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ção BCD comprimi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2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reç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C3AB-5DD3-4F41-9BC3-41FD91FAD9A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os algarismos sem código válido em decimal (códigos representativos dos valores decimais de 10 a 15), é comum utilizar alguns deles para indicar o sinal do núm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á sistemas que adotam a seguinte convenção para o sinal dos números representados em BC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epresenta o sinal positivo (“+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epresenta o sinal negativo (“-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5013360"/>
            <a:ext cx="380880" cy="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5394240"/>
            <a:ext cx="380880" cy="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DE90-0C1C-4B26-A9D0-613623CD748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nesta representação ainda há um desperdício de códigos; como BCD usa 4 bits (16 representações possíveis) para representar 10 algarismos, 6 (ou 4) códigos não são utiliz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nto, essa representação é menos eficiente em relação à utilização dos recursos do computador que a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representação em ponto flutu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59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ED85-B201-4FAB-88B9-7AEB38DFA46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772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Observaçõ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Representação em Ponto F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 método consiste na determinação de uma posição fixa para a vírg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u ponto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valores representados em ponto fixo para uma determinada operação possuem a mesma quantidade de algarismos inteiros, bem como a mesma quantidade de algarismos fracioná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1101,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0,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,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3C47-E049-453C-ADAB-B80CCC4EFEB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Observaçõ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Representação em Ponto F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posições mais adotadas para a vírgula 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extremidade esquerda do número – nesse caso, o número é totalmente fracioná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extremidade mais a direita do número – nesse caso, o número é intei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qualquer desses casos, no entanto, a vírgula fracionária não estará fisicamente representada na memória; sua posição é determinada na definição da variável, realizada pelo programador (ou pelo compilador), e o sistema memoriza essa posição, mas não a representa fis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88A8-7FEF-4F9B-8594-4FD7536F9F2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25892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Observaçõ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Representação em Ponto F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maioria das linguagens de programação e nos sistemas de computação (e os compiladores da maior parte das linguagens de programação) emprega-se a representação de números em ponto fixo para indicar apenas valores inteiros (a vírgula fracionária é assumida na posição mais à direita do número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s fracionários são, nesses casos, representados apenas em ponto flutu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s de tipos de dados na linguagem Pas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b00b"/>
                </a:solidFill>
                <a:latin typeface="Arial"/>
              </a:rPr>
              <a:t>Tipo de dado</a:t>
            </a:r>
            <a:r>
              <a:rPr b="1" lang="en-US" sz="22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eb00b"/>
                </a:solidFill>
                <a:latin typeface="Arial"/>
              </a:rPr>
              <a:t>Representação inter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nto fixo (intei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nto flutuante (re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DEAF-5AD4-4D89-8610-814BDC4BD58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Representação de grandeza com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628640"/>
            <a:ext cx="792468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bit mais significativo representa o s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indica um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úmero positiv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indica um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úmero negativ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s demais bits representam a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grandeza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(magnitude)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 valor dos bits usados para representar a magnitude independe do sinal (sendo o número positivo ou negativo, a representação binária da magnitude será a mesm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5229360"/>
            <a:ext cx="3697200" cy="141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7520" indent="-4752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empl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11160" indent="-5763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0010100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  = +4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11160" indent="-5763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1010100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  = - 4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514600" y="3619440"/>
            <a:ext cx="4876920" cy="457200"/>
            <a:chOff x="2514600" y="3619440"/>
            <a:chExt cx="4876920" cy="457200"/>
          </a:xfrm>
        </p:grpSpPr>
        <p:sp>
          <p:nvSpPr>
            <p:cNvPr id="124" name=""/>
            <p:cNvSpPr/>
            <p:nvPr/>
          </p:nvSpPr>
          <p:spPr>
            <a:xfrm>
              <a:off x="3371760" y="3619440"/>
              <a:ext cx="4019760" cy="4572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gnitud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3619440"/>
              <a:ext cx="857160" cy="4572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al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14600" y="3619440"/>
              <a:ext cx="487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4600" y="4076640"/>
              <a:ext cx="487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14600" y="3619440"/>
              <a:ext cx="0" cy="45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71760" y="36194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91520" y="3619440"/>
              <a:ext cx="0" cy="45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FE99-C5F3-4B48-AAF0-9C0BD39BF4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47640" y="2276640"/>
            <a:ext cx="6934320" cy="32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63640" y="2421000"/>
            <a:ext cx="6477120" cy="2895480"/>
            <a:chOff x="1763640" y="2421000"/>
            <a:chExt cx="6477120" cy="2895480"/>
          </a:xfrm>
        </p:grpSpPr>
        <p:sp>
          <p:nvSpPr>
            <p:cNvPr id="133" name=""/>
            <p:cNvSpPr/>
            <p:nvPr/>
          </p:nvSpPr>
          <p:spPr>
            <a:xfrm>
              <a:off x="3922920" y="4859280"/>
              <a:ext cx="4317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1111111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3640" y="4859280"/>
              <a:ext cx="2159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-127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2920" y="4325760"/>
              <a:ext cx="4317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01111111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63640" y="4325760"/>
              <a:ext cx="2159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+127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2920" y="3792240"/>
              <a:ext cx="4317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0001001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3640" y="3792240"/>
              <a:ext cx="2159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-9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22920" y="3247920"/>
              <a:ext cx="43178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00001001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3640" y="3247920"/>
              <a:ext cx="215928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+9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22920" y="2421000"/>
              <a:ext cx="431784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alor binário com 8 bits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7 + bit de sinal)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3640" y="2421000"/>
              <a:ext cx="215928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alor decimal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3640" y="2421000"/>
              <a:ext cx="6477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63640" y="3247920"/>
              <a:ext cx="647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3792240"/>
              <a:ext cx="647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3640" y="4325760"/>
              <a:ext cx="647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63640" y="4859280"/>
              <a:ext cx="647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63640" y="5316480"/>
              <a:ext cx="6477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3640" y="2421000"/>
              <a:ext cx="0" cy="2895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22920" y="242100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0760" y="2421000"/>
              <a:ext cx="0" cy="2895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29920" y="1700280"/>
            <a:ext cx="29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empl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5668920"/>
            <a:ext cx="746748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m, uma representação em binário c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teria disponível para a representação do númer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(o bit mais significativo representa o sinal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Representação de grandeza com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260A-F1BE-47A0-8B37-9F5C1BA0FE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senta uma gran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vantag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la exige um grande número de testes para se realizar uma simples soma de dois números inteiro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00b5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 que na UAL existam dois circuitos distintos para a adição e a subt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õ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o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1896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Representação de grandeza com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EBB6-C393-49A6-8CA8-ACA064FC97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029200" y="4581360"/>
            <a:ext cx="3581280" cy="197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6080" indent="-46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0010100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  = +4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101011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2 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= -4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Representação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4581360"/>
            <a:ext cx="3505320" cy="1981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6080" indent="-46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000011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  = +1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11101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2 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= -1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5572080"/>
            <a:ext cx="1076400" cy="501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5495760"/>
            <a:ext cx="1076400" cy="501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6294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buClr>
                <a:srgbClr val="200b5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de números inteiros positi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gual à representação de grandeza com sinal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buClr>
                <a:srgbClr val="200b5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de números inteiros neg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ém-se os bits menos significativos da direita para a esquerda até à ocorrência do primeiro bit igual a 1 (inclusive), sendo os bits restantes complementados de 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 operação equivale a realizar: complemento de 1 +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3E40-C79B-48A3-B41B-04C317D356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USE</cp:lastModifiedBy>
  <dcterms:modified xsi:type="dcterms:W3CDTF">2007-07-18T11:09:30Z</dcterms:modified>
  <cp:revision>703</cp:revision>
  <dc:subject/>
  <dc:title>Introdução à Computação</dc:title>
</cp:coreProperties>
</file>