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CBF7-C0A8-4807-B485-2218ED1DB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A6B1-74B9-4759-B6C1-5306AF65F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7D5E-3F9E-4A82-92DC-0A778EB5C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481B-8FD0-4F33-8C41-149F67E4B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21233-2758-4E7A-A1AE-FD7E37BC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DC0F9-B521-4B39-A1CC-E7AD1E96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52743-2E19-46F3-81F6-E1635168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D1B16-F93E-4211-922A-99DF9E1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EA4C5-3B04-456D-8FEA-D58FDDC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61B7F-5716-422D-89A6-0BC90EA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4739D-FAB8-4AD1-B556-7FB955B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AEBD-D0FB-4F73-A2C6-A6D716B31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9B9CC-020B-4736-9E70-F7B1C63A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B3453-696B-42A2-9F2B-A0EB7A4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2D4BD-8998-45D2-86C7-9ED8F18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06184-5697-49D4-A2A1-7D1C3F78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60C74-7FF1-4681-B4F9-C7E4E513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FB2F-AF77-4171-9AE8-AE20A25B7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7FF4-C21C-4D3E-AB40-B7607461F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4E0E-C414-4026-B581-F8A612E2F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F741-D3A2-4FD4-BAD0-5AE3603BF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333C-EFB3-4321-98A0-6654D2398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7412-10C7-4F83-A915-2AA54EFD9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B018-8D8D-496B-93D5-6E8C6BAB6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6C59-2606-461A-A45B-F051EE13E4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5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8000" y="17002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572A-2AE2-4C66-89AC-D48841F7575E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6762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YTE (BInary 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upo ordenado de 8 bits, para efeito de manipulação interna mais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tado de forma individual, como unidade de armazenamento e transfer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nidade de memória usada para representar um caract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47920" y="4468680"/>
            <a:ext cx="7315200" cy="2252880"/>
            <a:chOff x="1447920" y="4468680"/>
            <a:chExt cx="7315200" cy="2252880"/>
          </a:xfrm>
        </p:grpSpPr>
        <p:sp>
          <p:nvSpPr>
            <p:cNvPr id="135" name=""/>
            <p:cNvSpPr/>
            <p:nvPr/>
          </p:nvSpPr>
          <p:spPr>
            <a:xfrm>
              <a:off x="1447920" y="5078160"/>
              <a:ext cx="7315200" cy="54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lnSpc>
                  <a:spcPct val="101000"/>
                </a:lnSpc>
                <a:spcBef>
                  <a:spcPts val="913"/>
                </a:spcBef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O termo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 apareceu em 1949, inventado por John Tukey, um pioneiro dos computadores. Segundo Tukey, era melhor que as alternativas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g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 ou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n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7920" y="5688000"/>
              <a:ext cx="7315200" cy="10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lnSpc>
                  <a:spcPct val="101000"/>
                </a:lnSpc>
                <a:spcBef>
                  <a:spcPts val="913"/>
                </a:spcBef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O termo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 foi criado por Werner Buchholz em 1956 durante o desenho do computador IBM Stretch. Inicialmente era um grupo de 1 a 6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, mas logo se transformou num de 8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. A palavra é uma mutação de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e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, para não confundir com </a:t>
              </a:r>
              <a:r>
                <a:rPr b="0" i="1" lang="pt-PT" sz="1600" spc="-1" strike="noStrike">
                  <a:solidFill>
                    <a:srgbClr val="000000"/>
                  </a:solidFill>
                  <a:latin typeface="Arial"/>
                </a:rPr>
                <a:t>bit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4468680"/>
              <a:ext cx="7315200" cy="54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lnSpc>
                  <a:spcPct val="101000"/>
                </a:lnSpc>
                <a:spcBef>
                  <a:spcPts val="913"/>
                </a:spcBef>
                <a:tabLst>
                  <a:tab algn="l" pos="0"/>
                  <a:tab algn="l" pos="152280"/>
                  <a:tab algn="l" pos="304920"/>
                  <a:tab algn="l" pos="457200"/>
                  <a:tab algn="l" pos="609480"/>
                  <a:tab algn="l" pos="762120"/>
                  <a:tab algn="l" pos="914400"/>
                  <a:tab algn="l" pos="1066680"/>
                  <a:tab algn="l" pos="1219320"/>
                  <a:tab algn="l" pos="1371600"/>
                  <a:tab algn="l" pos="1523880"/>
                  <a:tab algn="l" pos="1676520"/>
                  <a:tab algn="l" pos="1828800"/>
                  <a:tab algn="l" pos="1981080"/>
                  <a:tab algn="l" pos="2133720"/>
                  <a:tab algn="l" pos="2286000"/>
                  <a:tab algn="l" pos="2438280"/>
                  <a:tab algn="l" pos="2590920"/>
                  <a:tab algn="l" pos="2743200"/>
                  <a:tab algn="l" pos="2895480"/>
                  <a:tab algn="l" pos="304812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Arial"/>
                </a:rPr>
                <a:t>Com 8 bits, podemos arranjar 256 configurações diferentes: dá para 256 caracteres, ou para números de 0 a 255, ou de –128 a 127, por exemplo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E422-0A1E-4EFB-B313-A84CFE349A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as as letras, números e outros caracteres são codificados e decodificados pelos equipamentos através dos bytes que os representam, permitindo, dessa forma, a comunicação entre o usuário e a máqu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mais importantes desenvolvidos para representar símbolos com números binários (bit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BCDI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tended Binary Coded Decimal Interchange Co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Código Ampliado de Caracteres Decimais Codificados em Binário para o Intercâmbio de Da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merican Standard Code for Information Interchan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Código Padrão Americano para o Intercâmbio de Informaçõ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Unicódig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C293-9C33-4F7A-8FF5-63FF4A6D18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6920" y="1700280"/>
            <a:ext cx="782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BC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de 8 bits (256 símbo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IBM e em sistemas de médio porte, raramente encontrado em micro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 definido pela organização AN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ódigo de 7 bits (128 combinações de caracte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PC existe o ASCII Estendido (utiliza outros 128 códigos para símbolos gráficos, e línguas diferentes do inglê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o padrão para representação de dados, oferecerá 2 bytes para a representação de símbolos (mais de 65.000 símbo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E45D-3C71-45F1-A8A8-1A3568DA12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47640" y="2781360"/>
            <a:ext cx="6913800" cy="6476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852640"/>
            <a:ext cx="73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byte = 8 bits = 1 caractere (letra, número ou símbol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445000"/>
            <a:ext cx="7086600" cy="8240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definir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lavr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um conjunto de bits que representa uma informação útil para os computadores. A palavra nos computadores é um valor fixo e constante para um dado processador (p.ex.: 32 bits, 64 bits)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F660-D8FC-4608-9F29-8068BB1209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es do conjunto de caracteres AS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5653080"/>
            <a:ext cx="7543800" cy="10674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os principais códigos de representação de caracteres utilizam grupos de 8 bits por caractere, os conceitos byte e caractere tornam-se semelhantes, e as, palavras, quase sinônimas. O termo caractere é mais usado para fins comerciais e o termo byte é mais empregado na linguagem técnica de profissionais da área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35280" y="2214720"/>
          <a:ext cx="6095880" cy="3330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 0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 0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 0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 00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 11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 11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 1011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 111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332360" y="482760"/>
            <a:ext cx="679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43D6-1AA0-4188-9763-759148E3488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377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ções numéricas dos computa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t - 2 estados: 0 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2637000"/>
          <a:ext cx="7058160" cy="2893680"/>
        </p:xfrm>
        <a:graphic>
          <a:graphicData uri="http://schemas.openxmlformats.org/drawingml/2006/table">
            <a:tbl>
              <a:tblPr/>
              <a:tblGrid>
                <a:gridCol w="1905120"/>
                <a:gridCol w="636480"/>
                <a:gridCol w="1746360"/>
                <a:gridCol w="27702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lo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u Kilobyte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byt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K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48.57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M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73.741.8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byt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4 G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.099.511.627.77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332000" y="5805360"/>
            <a:ext cx="739116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valores utilizados em computação para indicar capacidade de memória são normalmente compostos de um número (entre 0 e 999) e uma das abreviaturas citadas (ex.: 256K, 64M, etc.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6720" y="549360"/>
            <a:ext cx="69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ção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0959-8AD1-4C96-BE01-20D68AA707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31640" y="177300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 computadores manipula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sinais brutos e sem significado individual) para produzi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çõ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versão de dados em informações, e estas novamente em dados, é uma parte tão fundamental em relação ao que os computadores fazem que é preciso saber como a conversão ocorre para compreender como o computador funcio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lizmente os computadores não usam nosso sistema de numer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5789520"/>
            <a:ext cx="7777080" cy="8600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ora os códigos de caracteres sejam úteis para representar dados textuais e números inteiros (0 a 9), eles não são úteis para números que possuem pontos fracionários, como 1,25. Para representar números com frações, bem como números extremamente grandes, por exemplo, os computadores utilizam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ção de ponto flutua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 ser vista posteriormente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EB07-4B09-4BC7-90E9-FD86A5D706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e N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junto de símbolos utilizados para representação de quantidades e de regras que definem a forma de represent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sistema de numeração é apenas um método diferente de representar quantidades. As quantidades em si não mudam; mudam apenas os símbolos usados para representá-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quantidade de algarismos disponíveis em um dado sistema de numeração é chamada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ção numérica mais empregada: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otação posicion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AE13-CC2A-4337-B145-9C6758B6239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Pos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 atribuído a um símbol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end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posição em que ele se encontra no conjunto de símbolos que representa uma quant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valor total do número é a soma dos valores relativos de cada algarismo (decim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419720"/>
            <a:ext cx="7391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numeração deci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5                                              57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0      30        5                           500      70       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828440" y="5410080"/>
            <a:ext cx="609480" cy="60984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00360" y="5406840"/>
            <a:ext cx="0" cy="6858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3080" y="5407200"/>
            <a:ext cx="0" cy="6858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5411880"/>
            <a:ext cx="60984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171840" y="5411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46880" y="5411880"/>
            <a:ext cx="60984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24D1-2ACD-4646-885D-8B64FD8FF3E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772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ção Não Pos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 atribuído a um símbolo é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alterá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dependente da posição em que se encontre no conjunto de símbolos que representam uma quant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038480"/>
            <a:ext cx="7391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e Numera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oma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XI                                               XI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       10        1                           10         1        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195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00360" y="5238360"/>
            <a:ext cx="0" cy="6382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5229360"/>
            <a:ext cx="0" cy="63792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195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267240" y="5195880"/>
            <a:ext cx="609480" cy="60948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181480"/>
            <a:ext cx="609480" cy="60984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0A99-C1B2-48DD-B207-4B7E898142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computador, sendo um equipamento eletrônico, armazena e movimenta as informações internamente sob forma eletrônica; tudo o que faz é reconhecer dois estados físicos distintos, produzidos pela eletricidade, pela polaridade magnética ou pela luz refletida – em essência, eles sabem dizer se um “interruptor” está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ad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liga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computador, por ser uma máquina eletrônica, só consegue processar duas informações: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senç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ê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que a máquina pudesse representar eletricamente todos os símbolos utilizados na linguagem humana, seriam necessários mais de 100 diferentes valores de tensão (ou de corrent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350D-8761-4BE1-A94E-3CC6C5EBBB8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32000" y="2421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 de numeração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ão básica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rupo com um determinado número de objetos –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ase (rai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stemas de numeração bási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n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2160" y="1657440"/>
            <a:ext cx="3533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Num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9F11-2BF1-4429-8FFD-5C8B139F2B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s de Sistemas de Num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58920" y="2276640"/>
          <a:ext cx="7467480" cy="3108240"/>
        </p:xfrm>
        <a:graphic>
          <a:graphicData uri="http://schemas.openxmlformats.org/drawingml/2006/table">
            <a:tbl>
              <a:tblPr/>
              <a:tblGrid>
                <a:gridCol w="2049120"/>
                <a:gridCol w="922320"/>
                <a:gridCol w="449604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arism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nár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,8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odecim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,8,9,A,B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,3,4,5,6,7,8,9,A,B,C,D,E,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332000" y="5661000"/>
            <a:ext cx="7391160" cy="10674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o os números representados em base 2 são muito extensos e, portanto, de difícil manipulação visual, costuma-se representar externamente os valores binários em outras bases de valor mais elevado (octal ou hexadecimal). Isso permite maior compactação de algarismos e melhor visualização dos valor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9BA3-0D14-47B3-90CC-A1C69A6EE22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drões de Represen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ra após o número para indicar a ba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úmero entre parênteses e a base como um índice do núm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stema Decimal – 276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ou (2763)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ou 2763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5240" y="1700280"/>
            <a:ext cx="3533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Num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1F38-65A3-445E-A32C-DBA608DE2E9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3429000"/>
            <a:ext cx="6553080" cy="552600"/>
          </a:xfrm>
          <a:prstGeom prst="rect">
            <a:avLst/>
          </a:prstGeom>
          <a:solidFill>
            <a:srgbClr val="ffffcc"/>
          </a:solidFill>
          <a:ln w="316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4520" y="1700280"/>
            <a:ext cx="4044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cimal (Base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2472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233856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istema mais utiliz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0 símbolos para representar  quant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1      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       5       6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7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8    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– representar quantidades maiores que a b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so trouxe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ze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(dez unidades)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enten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(cem unidades)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ilh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(mil unidades)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zena de milh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entena de milh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: 2574 é composto por 4 unidades, 7 dezenas, 5 centenas e 2 milhares, ou 2000 + 500 + 70 + 4 = 25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AA66-F5C2-43FB-969D-3988630C72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84720" y="3068640"/>
            <a:ext cx="16765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33440" y="1773360"/>
            <a:ext cx="3755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Binário (Base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32720" y="45720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66560" y="2554200"/>
            <a:ext cx="76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tiliza dois símbolos para representar quant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gue as regras do sistema decimal - válidos os conceitos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s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si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 Posições não têm nome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a algarismo é chamad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101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ressão 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diferente dos  números decim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e mais à esquerd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ost-Significative-Bit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S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ractere  mais à direit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east-Significative-B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S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5F8F-4BAF-4AAF-9F59-A3FF1F29386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68360" y="3141720"/>
            <a:ext cx="5810400" cy="628560"/>
          </a:xfrm>
          <a:prstGeom prst="rect">
            <a:avLst/>
          </a:prstGeom>
          <a:solidFill>
            <a:srgbClr val="ffffcc"/>
          </a:solidFill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3080" y="1773360"/>
            <a:ext cx="346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Octal (Base 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720" y="45720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5960" y="2554200"/>
            <a:ext cx="73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tiliza 8 símbo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1        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3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       5       6      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563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ressão 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similar ao sistema bi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7CAE-60D6-422D-8069-AAB2393A11C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25600" y="3402000"/>
            <a:ext cx="7467480" cy="73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40920" y="2627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ssui 16 símbolos (algarismos) para representar qualquer quant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         1        2         3        4        5       6       7       8      9        A      B        C        D         E        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so das letras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acilidade de manuse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5A3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ressão 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similar ao sistema bin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520" y="1700280"/>
            <a:ext cx="4737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Hexadecimal (Base 1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C546-A204-471E-A25C-F282F23C0CD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o trabalhar com sistemas de numeração, em qualquer base, deve-se observar o segui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número de dígitos usado no sistema é igual à 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maior dígito é sempre menor que a 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dígito mais significativo está à esquerda, e o menos significativo à dire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m “vai-um” de uma posição para outra tem um peso igual a uma potência  da 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 geral se toma a base decimal como referê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5E73-BF39-41ED-9EBA-72659C358D8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40000" y="1052640"/>
            <a:ext cx="5715000" cy="5562360"/>
          </a:xfrm>
          <a:prstGeom prst="rect">
            <a:avLst/>
          </a:prstGeom>
          <a:solidFill>
            <a:srgbClr val="ff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411280" y="1143000"/>
          <a:ext cx="561672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43000"/>
                    <a:ext cx="561672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440720" y="26028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A1D8-5843-467D-B8E0-7FCCB1EE7C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62864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31640" y="2492280"/>
            <a:ext cx="75834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cedimentos básic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divi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números inteiros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polinôm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- agrupamento de bi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7020000" cy="26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6357-2055-46C5-93AB-C8F21460754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3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grand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6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alóg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ntí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screta (passo a pas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utadores analóg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Trabalham com sinais elétricos de infinitos valores de tensão e corrente (modelo continuamente variável, o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alog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 que quer que estejam medin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5805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utadores digit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Trabalham com dois níveis de sinais elétricos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o e baix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Representam dados por meio de um símbolo facilmente identificado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890C-7B0D-4B58-87B9-878064ED56F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v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cimal         outro siste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inteira (do quociente) sucessiva pela base, até que resto seja menor do que a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na base = composição 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último quoci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SB) co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rimeiro resto é bit menos significativo - LS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2924280"/>
            <a:ext cx="44928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58560" y="162864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296360" y="47628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D894-55FE-4137-89D5-D6699A8212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25520" y="1600200"/>
            <a:ext cx="781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vis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utro siste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vidir o número po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base do sistema) e os resultados consecutivas vez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25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538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95280" y="4462560"/>
          <a:ext cx="357840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462560"/>
                    <a:ext cx="3578400" cy="2179440"/>
                  </a:xfrm>
                  <a:prstGeom prst="rect">
                    <a:avLst/>
                  </a:prstGeom>
                  <a:ln w="284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195800" y="2565360"/>
            <a:ext cx="37620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34120" y="4648320"/>
          <a:ext cx="361296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3612960" cy="1790640"/>
                  </a:xfrm>
                  <a:prstGeom prst="rect">
                    <a:avLst/>
                  </a:prstGeom>
                  <a:ln w="284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233360" y="162864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CAE5-33CA-47AF-AEEB-8750336B07A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39920" y="4800600"/>
            <a:ext cx="7499160" cy="762120"/>
          </a:xfrm>
          <a:prstGeom prst="rect">
            <a:avLst/>
          </a:prstGeom>
          <a:solidFill>
            <a:srgbClr val="ffffcc"/>
          </a:solidFill>
          <a:ln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370160" y="24098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tação Polinomial ou Pos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álida para qualquer base numéric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EI DE 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otação ou Representação Polinom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úmero =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= algarismo, 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base do núm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= quantidade de algarismo 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86280" y="4816440"/>
                <a:ext cx="5535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87280" y="162864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A1DD-AACA-42C4-837C-C161D8E7FA2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71600" y="220500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111101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 (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 2x16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+ 1x16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+ 10x16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pt-BR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538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11880" y="3392640"/>
            <a:ext cx="669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1111101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1x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258560" y="1773000"/>
            <a:ext cx="70102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B3D6-EBE4-4191-BF11-F0844ED7A2D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331640" y="2276640"/>
            <a:ext cx="759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upamento d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stemas octal e hex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inário (e vice ver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ociando 3 bits ou 4 bits (quando octal ou hexadecimal, respectivamente) e vice-vers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011110010100111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 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A79E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 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3213000"/>
            <a:ext cx="30456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03280" y="5300640"/>
          <a:ext cx="353232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300640"/>
                    <a:ext cx="3532320" cy="1208160"/>
                  </a:xfrm>
                  <a:prstGeom prst="rect">
                    <a:avLst/>
                  </a:prstGeom>
                  <a:ln w="3816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364000" y="5300640"/>
          <a:ext cx="3410280" cy="11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5300640"/>
                    <a:ext cx="3410280" cy="1195560"/>
                  </a:xfrm>
                  <a:prstGeom prst="rect">
                    <a:avLst/>
                  </a:prstGeom>
                  <a:ln w="3816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33360" y="1647360"/>
            <a:ext cx="70106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642D-72F3-4B95-BC5F-246759B4243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352160" y="227664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versão octal      hexa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é realizada diretamente - não há relação de potências entre as bases oito e dezess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lhante à conversão entre duas bases quaisquer -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ase intermediá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base binár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versão em dua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 - número: base octal (hexadecimal)       biná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 - resultado intermediário: binária            hexadecimal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   (oct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5516640"/>
            <a:ext cx="30492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11800" y="5950080"/>
            <a:ext cx="30492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2492280"/>
            <a:ext cx="30492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187280" y="1699920"/>
            <a:ext cx="7010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084D-7335-4CD2-A0A9-24377AD7027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7294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75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= ( ? 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75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1111101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7D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(?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21A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(001000011010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(1032)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7280" y="1647720"/>
            <a:ext cx="7010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2360" y="482760"/>
            <a:ext cx="679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7199-EE68-4617-8773-72F43528FE9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7711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versão de Números Fracion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ei de Formação ampliada (polinômio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95280" y="3733920"/>
          <a:ext cx="756288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733920"/>
                    <a:ext cx="7562880" cy="961920"/>
                  </a:xfrm>
                  <a:prstGeom prst="rect">
                    <a:avLst/>
                  </a:prstGeom>
                  <a:ln w="572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0106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entre  Sistemas de Numer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181480"/>
            <a:ext cx="769608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: (101,110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 ( ? 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+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5,75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9760-2246-46DB-A66C-AB46FDF2CEB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628280"/>
            <a:ext cx="701028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ão de Números Fracioná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37920" y="2781000"/>
            <a:ext cx="742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ção inversa: multiplicar a parte fracionária pela base até que a parte fracionária do resultado seja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55320" y="2205000"/>
            <a:ext cx="45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mal         outro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2421000"/>
            <a:ext cx="449280" cy="0"/>
          </a:xfrm>
          <a:prstGeom prst="line">
            <a:avLst/>
          </a:prstGeom>
          <a:ln w="572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16360" y="357336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8,375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( ? 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057400" y="4143240"/>
          <a:ext cx="571500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43240"/>
                    <a:ext cx="5715000" cy="2562480"/>
                  </a:xfrm>
                  <a:prstGeom prst="rect">
                    <a:avLst/>
                  </a:prstGeom>
                  <a:ln w="28440">
                    <a:solidFill>
                      <a:srgbClr val="200b5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680C-5841-4441-8906-847212D02B9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r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8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01,11001100...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ma dízi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,6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011,10011001100...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írgula foi deslocada uma casa para a direita, pois 11,6 = 2 x 5,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6360" y="54612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2A9D-C720-42C0-8132-2337946DCF3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79640" y="170028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os computadores modernos representam as informaçõ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858000" cy="365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8CB2-A53E-4F2A-A438-E9B9DF8E343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77560"/>
            <a:ext cx="72327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ercí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543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a caixa alienígena com o número 25 gravado na tampa foi entregue a um grupo de cientistas. Ao abrirem a caixa, encontraram 17 objetos. Considerando que o alienígena tem um formato humanóide, quantos dedos ele tem nas duas mã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2910-4151-49EE-BD22-E4FE1B0A32C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ercí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65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= 2x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5x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= 2b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(17-5)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b5b"/>
                </a:solidFill>
                <a:latin typeface="Arial"/>
              </a:rPr>
              <a:t>b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3700-D4FC-483E-93B9-207D23DC5CC9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5373720"/>
            <a:ext cx="59770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o computador, tudo são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 Digi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rmalmente a informação a ser processada é de forma numérica ou text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dificada internamente através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numér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 mais comum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 que é utilizado o sistema binári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360" y="482760"/>
            <a:ext cx="679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F59E-1B0E-46F5-9054-D66E072406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os computadores representam as informações utilizando apenas dois estados possíveis - eles são totalmente adequados para números biná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 binário no computador: 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[de “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inary dig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”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A unidade de inform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Uma quantidade computacional que pode tomar um de dois valores, tais como verdadeiro e falso ou 1 e 0, respectivamente (lógica positiv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2852640"/>
            <a:ext cx="2087280" cy="938880"/>
          </a:xfrm>
          <a:prstGeom prst="rect">
            <a:avLst/>
          </a:prstGeom>
          <a:noFill/>
          <a:ln cap="sq" w="1908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– desligad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– ligad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6006960"/>
            <a:ext cx="7467480" cy="78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1000"/>
              </a:lnSpc>
              <a:spcBef>
                <a:spcPts val="913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Um bit está ligado (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) quando vale 1, desligado ou limpo (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) quando vale 0; comutar, ou inverter (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toggle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invert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) é passar de 0 para 1 ou de 1 para 0. (lógica positiva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7EA2-26FA-43DF-BCF2-02863226F7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 bit pode representar apena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ímbolos (0 e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cessid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unidade maior, formada por um conjunto de bits, para representar números e outros símbolos, como os caracteres e os sinais de pontuação que usamos nas linguagens escri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dade maior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po de b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precisa ter bits suficientes para representar todos os símbolos que possam ser usa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ígitos numéric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ras maiúsculas e minúsculas do alfabe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ais de pontuaçã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ímbolos matemáticos e assim por di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6360" y="6206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3A25-D0EA-4944-A342-4714CA87F3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979640" y="2421000"/>
          <a:ext cx="6005520" cy="3373200"/>
        </p:xfrm>
        <a:graphic>
          <a:graphicData uri="http://schemas.openxmlformats.org/drawingml/2006/table">
            <a:tbl>
              <a:tblPr/>
              <a:tblGrid>
                <a:gridCol w="4557600"/>
                <a:gridCol w="14479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s alfabéticos maiúscu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s alfabéticos minúscu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arism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is de pontuação e outros símbo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es de control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03280" y="18446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6360" y="54936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EE16-7BF2-4D42-9860-891792C103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636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dade de represe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35280" y="2421000"/>
          <a:ext cx="6095880" cy="40640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296360" y="595440"/>
            <a:ext cx="72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7D93-DD8A-4773-AB91-38137A3AD2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dcterms:modified xsi:type="dcterms:W3CDTF">2007-07-04T00:38:31Z</dcterms:modified>
  <cp:revision>562</cp:revision>
  <dc:subject/>
  <dc:title>Introdução à Computação</dc:title>
</cp:coreProperties>
</file>