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0579-F440-4242-9533-5BC74E458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3E77-76C9-4FD2-9AE5-C6203BA33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ECD6-A9FE-4F4A-86EF-95F02A4E6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5B22-4C40-465B-AE8D-FE0B8D55B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27170-6F66-4CDC-95DE-46B134E0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011C7-FF34-48A5-86C5-AFCEC011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472E1-B56C-4681-BD70-AEBD8CE6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45F33-49F0-4E53-9BB8-C8D57F4C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48C1C-12E9-40C1-A81E-95C7CAC5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9121F-7AC6-4D03-B952-8E05E5C9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6145B-379B-43B9-A6D3-843EA084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8A0F-983F-44DB-A600-9135764F4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47C87-74D0-4D32-9E5B-BF987F88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7A1C4-5651-4815-ADC9-AC6D98D4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1840C-F048-42E7-BE47-BA77C75D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D79EC-6395-464B-89DC-8B68B258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9F227-1576-406F-893E-14324FC4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7A2F-099E-43D5-9882-675D54F95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E7C9-89FB-4BAC-9DD0-72BF606EE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DF08-BA5D-48C5-B550-D6FF22221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376A-0F28-4D75-B18F-4C181786E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CA00-A6F5-4419-96E7-54126939D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D445-EB97-408A-8A63-50BEFCDD6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B473-2646-4BD2-88F1-C589C5190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4508640"/>
            <a:ext cx="1066680" cy="234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77E3-7F78-4CA0-9090-64018078A579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20600" y="5950080"/>
            <a:ext cx="863640" cy="907560"/>
            <a:chOff x="120600" y="5950080"/>
            <a:chExt cx="863640" cy="907560"/>
          </a:xfrm>
        </p:grpSpPr>
        <p:sp>
          <p:nvSpPr>
            <p:cNvPr id="5" name=""/>
            <p:cNvSpPr/>
            <p:nvPr/>
          </p:nvSpPr>
          <p:spPr>
            <a:xfrm>
              <a:off x="12060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944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flipV="1">
              <a:off x="16200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7196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623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-23760" y="2347920"/>
            <a:ext cx="106668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4"/>
          <a:stretch/>
        </p:blipFill>
        <p:spPr>
          <a:xfrm>
            <a:off x="-23760" y="0"/>
            <a:ext cx="1066680" cy="234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1752480" cy="242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CEBB-E6E0-45CE-B346-799848076F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52480" cy="2205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55" name=""/>
          <p:cNvGrpSpPr/>
          <p:nvPr/>
        </p:nvGrpSpPr>
        <p:grpSpPr>
          <a:xfrm>
            <a:off x="539640" y="5950080"/>
            <a:ext cx="863640" cy="907560"/>
            <a:chOff x="539640" y="5950080"/>
            <a:chExt cx="863640" cy="907560"/>
          </a:xfrm>
        </p:grpSpPr>
        <p:sp>
          <p:nvSpPr>
            <p:cNvPr id="56" name=""/>
            <p:cNvSpPr/>
            <p:nvPr/>
          </p:nvSpPr>
          <p:spPr>
            <a:xfrm>
              <a:off x="53964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848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8140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100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5817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0" y="2205000"/>
            <a:ext cx="1752480" cy="223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nextcomfigure.com/" TargetMode="External"/><Relationship Id="rId3" Type="http://schemas.openxmlformats.org/officeDocument/2006/relationships/hyperlink" Target="http://www.nextcomfigure.com/" TargetMode="External"/><Relationship Id="rId4" Type="http://schemas.openxmlformats.org/officeDocument/2006/relationships/hyperlink" Target="http://www.nextcomfigure.com/" TargetMode="Externa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ª GERAÇÃO (anos 90 - ????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vido ao avanço tecnológico o conceito de geração torna-se obsolet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ULSI é o componente básico (menor que o VLS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racteriza-se pelas aplicações de Linguagem Natural, Processamento Paralelo, Inteligência Artificial,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tíssima velocidade de processament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to grau de interatividade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1.: Para alguns historiadores a 3ª GERAÇÃO de computadores vai até hoje. Outros, afirmam que de 1970 até os dias de hoje fazem parte da 4ª GERAÇÃO. Outros definem que a 4ª GERAÇÃO começou a partir de 1975 com os circuitos de VLSI. Para outros, desde as máquinas RISC, circuito integrados de escala ULSI e processamento paralelo, já estamos na 5ª GERAÇÃO DE COMPUT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5013360"/>
            <a:ext cx="7543800" cy="1676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A98C-F8FB-4FD1-BDDF-C0024C4AD8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anto ao princípio de constr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 Ana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resenta variáveis por meio de analogias fís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rata-se de uma classe de computadores que resolve problemas referentes à condições físicas, por meio de quantidades mecânicas ou elétricas, utilizando circuitos equivalentes como analogia ao fenômeno físico que está sendo trat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nformação é recebida e processada de um mod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tínu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nformação pode ser, por exemplo, um conjunto de valores de corrente elétrica, de temperatura ou de velocida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ADFE-F5B8-4C53-9AF8-82F4A5E3D4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a informações representadas por combinações de dados discretos ou descontínu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s especificamente: trata-se de um dispositivo projetado para executar seqüências de operações lógicas e aritmét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s computadores são bastante versáteis e por isso são muito mais utilizados do que os computadores analógic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computador analógico me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computador digital cont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1440" y="6093000"/>
            <a:ext cx="7162920" cy="609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, quando não é feita qualquer referência à natureza do computador subentende-se que se trata de um computad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0343-0C7B-4E57-BC58-7596BBDB7B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o ao âmb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es de âmbito específico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adores desenhados para desempenhar um conjun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ito reduzid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taref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ados, por exemplo, no controlo de mecanismos industriais e em cálculos científic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5074-70E4-4EC4-A535-DA10C4D0FA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es de âmbito g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adores capazes de desempenhar uma grande variedade de tarefas, através da execução de um grande número de programas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s computadores são bastante utilizados em escritórios, escolas e mesmo em cas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18960" y="1728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B7F7-36CF-4469-907D-0AF5EE56B1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 computadores também podem ser classificado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to à utilizaçã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e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ador Científic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ador Comerc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dor Científ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irigido ao emprego em áreas de cálculos e pesquisas científicas, nas quais são requeridos resultados de maior precisão e pequeno volume de entrada e saída de d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dor Comer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onstitui a grande maioria dos equipamentos utilizados nas empresas, caracteriza-se por permitir o trato rápido e seguro de problemas que comportam grande volume de entrada e saída de d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ioria dos fabricantes hoje dispõe de produtos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tos de uso g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que comportam emprego tanto na área científica quanto na área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7B70-EA01-454D-BF3C-4E4205CE30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403280" y="1700280"/>
            <a:ext cx="69343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anto ao 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in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i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ções de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dores pesso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ote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alm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6021360"/>
            <a:ext cx="746748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o grande desenvolvimento que as comunicações têm sofrido, foi criado um novo conceito de computador: 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ador de re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0309-EDFC-4801-A27D-6AC47ACF12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adores com grande poder de process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ados principalmente no campo científico, nos quais se destacam as simulaçõ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ros exemplos de aplicação: previsão de tempo e modelagem tridimensio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s computadores são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âmbito específic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realizando um grupo de tarefas reduzido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u custo é muito elev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suem um tamanho muito grande e necessitam de condições especiais de funcionam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AY Y-M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IBM 902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4A79-32F8-4E32-8CCB-A903ACAE2A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Super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558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BM Blue Ge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2703600"/>
            <a:ext cx="3745080" cy="28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FC25-450D-49EC-84ED-640E9431B5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802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inframes (Computadores de Grande 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ão sistemas projetados para manusear considerável volume de dados e executar simultaneamente programas de uma grande quantidade de usuári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dos por grandes empresas que necessitam armazenar grande quantidade de informação e ter um acesso rápido à e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usuários acessam o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mainfram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través de terminais. Um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ainfram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ossui à ele conectado uma grande quantidade de termina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o contrário dos supercomputadores, são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âmbito extens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utilizadas em grandes organizações como bancos, companhias de seguros e centros de investiga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Sistemas IBM 3090 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ntrol Dat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CDC 6600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BE78-C4B9-40AC-B257-E86331169F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utador é uma máquina eletrônica capaz de receber informações, submetê-las a um conjunto especificado e pré-determinado de operações lógicas e aritméticas, e fornecer o resultado destas oper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computadores de hoje são dispositivos eletrônicos que, sob direção e controle de um programa, executam quatro operações básic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a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am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mazen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1722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de Comput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399D-2EA5-4455-8E28-A06D6990D7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71600" y="2060640"/>
            <a:ext cx="7448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3830760" cy="2873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08360" y="558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860B-BE05-4057-B274-28AAAC7431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in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Terminal burr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todo o processamento é feito n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ainfram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O terminal apenas é um meio de entrada e visualização dos d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Terminal intelig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faz parte do processamento no terminal. Geralmente é um computador pesso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8968-A2B8-45ED-BB97-0E85004109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ni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inicomputador foi resultado de uma redução no tamanho dos computad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rande capacidade de processam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sui terminais conectados a e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inicomputadores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ão computadores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édio por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dequados a tarefas como, por exemplo, o controle de processos industriais e a gestão de sistemas multiusuário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o aparecimento e posterior desenvolvimento do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icrocomput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 distinção entre estas duas categorias é cada vez menos cla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VAX-11/780/DEC e sistemas AS/400/IB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75B1-AFEC-45FC-B378-8A954CA1CB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0" r="17687" b="0"/>
          <a:stretch/>
        </p:blipFill>
        <p:spPr>
          <a:xfrm>
            <a:off x="6012000" y="2565360"/>
            <a:ext cx="2253960" cy="3505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Mini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56008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meiro minicomputador IB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050920" y="2637000"/>
            <a:ext cx="2043360" cy="26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7D24-39D2-487A-84ED-8276422FB6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142640" y="174600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ções de trabalho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works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tuam-se logo abaixo dos minicomputad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almente possuem arquitetura RISC e sistema operacional UNI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pecialmente no que se refere a velocidade do processador e capacidade de memória, a potência de uma estação de trabalho é semelhante à de um minicomputado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estações de trabalho são dirigidas para uso de um usuário, ao contrário dos minicomputad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essencialmente um microcomputador projetado para realizar tarefas “pesadas”, em geral na área científica ou industrial, como computações matemáticas complexas, projetos com auxílio de computação (CAD), processamento de imagem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iste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Cstati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5000/33 ou IBM RS/6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18960" y="1854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CCF9-912A-4C56-B640-6F48B22FAC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2427120" cy="3429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4569120" y="4114800"/>
            <a:ext cx="3716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ktop/RackMount Ultra 1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aris Workstations/Serv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33cc"/>
                </a:solidFill>
                <a:uFillTx/>
                <a:latin typeface="Arial"/>
                <a:hlinkClick r:id="rId2"/>
              </a:rPr>
              <a:t>www.</a:t>
            </a:r>
            <a:r>
              <a:rPr b="0" lang="pt-BR" sz="2000" spc="-1" strike="noStrike" u="sng">
                <a:solidFill>
                  <a:srgbClr val="ff33cc"/>
                </a:solidFill>
                <a:uFillTx/>
                <a:latin typeface="Arial"/>
                <a:hlinkClick r:id="rId3"/>
              </a:rPr>
              <a:t>nextcomfigure</a:t>
            </a:r>
            <a:r>
              <a:rPr b="0" lang="pt-BR" sz="2000" spc="-1" strike="noStrike" u="sng">
                <a:solidFill>
                  <a:srgbClr val="ff33cc"/>
                </a:solidFill>
                <a:uFillTx/>
                <a:latin typeface="Arial"/>
                <a:hlinkClick r:id="rId4"/>
              </a:rPr>
              <a:t>.com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91628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Estação de Trabalh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62D3-B050-4A6B-8633-DDA34CAB92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86920" y="162828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pesso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ambém conhecidos como: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icrocomputadores, Micr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ersonal compu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suem diversas formas e model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aracterística marcante era a integração do processador, único e de dimensões micro, num pequen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memória semicondutora, formando um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icroprocessad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pacidade de processamento evolui rapidam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rligação em rede possibilita a substituição de computadores de maior por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ço acessível. Fácil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upgr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Seu tamanho tende a diminuir cada vez ma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á presente em todos os tipos de empres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6737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7FE1-1FD9-41EF-A0D9-CAC391B56D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pesso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á no mercado várias categorias de microcomputadores, cuja classificação está muito relacionada a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amanho físic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o equipamento e seu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grau de portabil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alm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18960" y="206280"/>
            <a:ext cx="7924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BC86-7FA9-4BBD-BE4F-15FDF65996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pesso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dor de mesa. O mais comum dos mic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988080" cy="2506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0FBD-F8DF-4473-A0AF-24404100EC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6920" y="170028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pesso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ote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dor portáti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ergizados por corrente elétrica ou por bateri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car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pacidade de processamento similar a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eskto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4989600"/>
            <a:ext cx="7561080" cy="1739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microcomputadores portáteis (alimentados por bateria) são chamados de diversos nomes, dependendo do seu tamanho: os maiores foram denominado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aptop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m seguida apareceram o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otebook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 tamanho menor, em formato parecido com um livro. Há também o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ubnotebook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inda menores, e o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almtop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ase são do tamanho da palma de nossas mão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286000" cy="2044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D087-32A1-41BA-B7B4-920D8B5D2D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6920" y="19886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computac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 um conjunto de componentes integrados para funcionar como se fossem um único elemento e que têm por objetivo realizar manipulações com dados, isto é, realizar algum tipo de operação com os dados de modo a obter uma informação ú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1722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3A72-D6F5-4817-88F3-3B6FF6BD2D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796000" y="1773360"/>
            <a:ext cx="3093840" cy="1782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87280" y="1988640"/>
            <a:ext cx="3657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alm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dor portáti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imentado por bateri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car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pacidade de processamento meno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ido também por PDA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ersonal Digital Assistant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96360" y="1773360"/>
            <a:ext cx="1379520" cy="13795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18404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156360" y="3716280"/>
            <a:ext cx="2751120" cy="1629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859280" y="5013360"/>
            <a:ext cx="158292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9173-E259-4E54-92B1-77339E1DCF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pesso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dor pessoal da empres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uito utilizado em trabalhos gráficos, dada a sua capacidade neste ramo, simplicidade e facilidade de u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MACs estão sendo utilizados por profissionais da área gráfica, arquitetura, vídeo e tudo relacionado à multimídia principalm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022B-EE6D-4A5D-ADB1-98162C48BA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77724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es pessoais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5357880"/>
            <a:ext cx="7543800" cy="1374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Mac foi o primeiro computador pessoal a incluir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 disquetes de 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½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drive de CD-ROM. O Mac foi o primeiro computador pessoal a possibilitar a visualização de imagens foto-realistas em milhões de cores e foi o primeiro capaz de passar seqüências de vídeo. [Apple]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934320" y="2414520"/>
            <a:ext cx="1977840" cy="1587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00600" y="3100320"/>
            <a:ext cx="203976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295280" y="2338560"/>
            <a:ext cx="3429000" cy="1935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342C-8548-47AE-9F49-0507E825D7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9232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de rede (Network Computers – N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rnecem grande parte das funcionalidades dos PCs por um menor preç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lo fato de obterem seu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 partir de uma rede de computadores, eles não precisam, necessariamente, de unidades de disc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CC11-2D3E-4433-AAF6-857E0A0DEA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115640" y="1988640"/>
            <a:ext cx="7559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érebro human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de um ponto de vista estritamente funcional, pode ser definido como um sistema complexo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 bilhões de neurôn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Para conter o mesmo número de elementos do cérebro, u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ador dos anos 4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 fase das válvulas, teria o tamanho de São Paulo.  E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s dos anos 5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com os transistores, bastava um computador com as dimensões do Cristo Redentor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os 6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 computador seria como um ônibus. Atualmente, com a aglomeração de alguns milhões de componentes num único chip, cérebro e computador entraram num acordo de dimensões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33BF-BCA4-496F-B7C4-C436FAE8A8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899320" cy="277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111B-4F8E-4491-948E-D921E33A3C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mente existe uma grande diversidade de computadores, com diferentes tamanhos, custos, propósitos e funcionalidades.  Por essa razão, tornou-se necessário o seu agrupamento 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6483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00b5b"/>
                </a:solidFill>
                <a:latin typeface="Arial"/>
              </a:rPr>
              <a:t>Como podemos classificá-los 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1722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C180-C465-4E14-8353-E32D05E3B5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6920" y="162828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Quanto à característica de constru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eira, segunda, terceira, quarta e quinta (????) g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Quanto ao princípio de construção (quanto à naturez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alógicos e Digi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Quanto ao âmbi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Âmbito geral e Âmbito espe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Quanto a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r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orte, custo, desempenho e propósi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ercomputadores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ainframes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icomputadores, Estações de trabalho e Computadores pesso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63044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173240" y="3292560"/>
            <a:ext cx="822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095880"/>
            <a:ext cx="739152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classificação não é única, porém é um razoável auxílio para quem vai adquirir um sistema, a fim de definir suas necessidade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CC1E-C322-43E7-A178-EEC7AE0F5C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anto à característica de constr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ª GERAÇÃO (...Década de 50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válvula é o componente bá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quentava mu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astava muita energia el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dores ocupavam muito espaço fís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nham, dispositivos de Entrada/Saída primitivos (através da cartões perfurad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ram aplicados em campos científicos e milita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nguagem de programação: linguagem de máqu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perações internas mediam-se em milissegun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740720" y="2205000"/>
            <a:ext cx="69840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815C-F091-4B9A-8BBE-0BBE55F59D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ª GERAÇÃO (Início dos anos 60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transistor é o componente básic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amanho menor que a válvu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quentava me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astava menos energia elétr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durável e confiá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máquinas diminuíram muito em tamanho e suas aplicações passam além da científica e militar a administrativa e gerenci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rgem as primeiras linguagens de programaçã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ém dos núcleos de ferrite, fitas e tambores magnéticos passam a ser usados como memó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perações internas mediam-se em microssegun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93080" y="2637000"/>
            <a:ext cx="1562040" cy="811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3E97-B147-404D-A9D8-F9E99CA1AD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ª GERAÇÃO (meados dos anos 60 até meados dos anos 70)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rco inicial: surgimento dos C.I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SI passa a ser o componente bá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LSI ficou conhecido como ‘chip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quena pastilha de silício de 1 c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to de milhares de transi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computadores diminuíram de tamanho e aumentaram seu desempen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volução dos Sistemas Operacionais, surgimento da multiprogramação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real tim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modo interativ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emória é feita de semicondutores e discos magnétic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perações internas mediam-se em nanossegun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08720" y="2637000"/>
            <a:ext cx="1486080" cy="1014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6D06-3DAD-4F59-9712-D9AEAC7C79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ª GERAÇÃO (meados dos anos 70 a início dos anos 90)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m como marco inicial o surgimento do microprocessad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VLSI é o componente básico (menor que o LSI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ouve a miniaturização dos comput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esta geração é que surgiram os microcomputadores 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rgem muitas linguagens de alto-nível e nasce a teleinformática, transmissão de dados entre computadores através de red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perações internas mediam-se em picossegun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3D9B-6A09-4A2F-99E8-B784425A9C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USE</cp:lastModifiedBy>
  <dcterms:modified xsi:type="dcterms:W3CDTF">2009-04-27T10:08:32Z</dcterms:modified>
  <cp:revision>427</cp:revision>
  <dc:subject/>
  <dc:title>Slide sem título </dc:title>
</cp:coreProperties>
</file>