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27.jpeg" ContentType="image/jpeg"/>
  <Override PartName="/ppt/media/image5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39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50.png" ContentType="image/png"/>
  <Override PartName="/ppt/media/image40.png" ContentType="image/png"/>
  <Override PartName="/ppt/media/image44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51.png" ContentType="image/png"/>
  <Override PartName="/ppt/media/image41.png" ContentType="image/png"/>
  <Override PartName="/ppt/media/image48.jpeg" ContentType="image/jpeg"/>
  <Override PartName="/ppt/media/image53.png" ContentType="image/png"/>
  <Override PartName="/ppt/media/image13.png" ContentType="image/png"/>
  <Override PartName="/ppt/media/image54.jpeg" ContentType="image/jpeg"/>
  <Override PartName="/ppt/media/image55.jpeg" ContentType="image/jpeg"/>
  <Override PartName="/ppt/media/image35.jpeg" ContentType="image/jpeg"/>
  <Override PartName="/ppt/media/image10.jpeg" ContentType="image/jpeg"/>
  <Override PartName="/ppt/media/image34.jpeg" ContentType="image/jpeg"/>
  <Override PartName="/ppt/media/image28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0.png" ContentType="image/png"/>
  <Override PartName="/ppt/media/image5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415B-0C66-4931-BCCC-AAAB9C6F5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E190-45E6-4C2F-B0D5-CED3BEC8C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B33F-DD58-4603-851B-E29180D73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9545-DB5A-4A8F-8C4F-63EE24460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A9F76-EAB6-4513-93CB-92EDF04A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A04DD-076B-44D1-93B6-5E9160D2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3C0BB-CC26-4E3D-86ED-276D5DEE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6EE74-E641-491D-BB6C-F8F7833E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08EFB-4A20-427D-A9AC-81C624E1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4C5C2-FF09-4E02-9DB4-A5270E7C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83927-3B18-47FF-8085-63D3246A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E324-31C5-4324-A6E0-CBB491930E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4FDE3-E344-4553-ADA6-28F9DD16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77E56-15E5-4C8D-B38B-2CEBE195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7D822-0294-43E6-9368-FB3CFA24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7A52F-4D74-47BC-B029-DF4B0C28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4BEF0-7791-4431-B22A-2231AF32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6CBC-80C0-4FD0-8EF5-9DD612099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5216F-33A6-462F-875C-48C8C90C1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07B33-9FA5-4B02-A92A-257A8A2B5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6C8C-F9AC-42C4-B066-D93C8060E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277F-7986-4841-B2BF-327C96209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4008-34D3-4F0A-B873-BD57DED60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BE6B-B63C-450F-AF59-C2BA61D9A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06DA-5140-4766-8906-574CB8C122F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1160640" cy="6858000"/>
            <a:chOff x="0" y="0"/>
            <a:chExt cx="1160640" cy="685800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3068640"/>
              <a:ext cx="1160640" cy="378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" name=""/>
            <p:cNvGrpSpPr/>
            <p:nvPr/>
          </p:nvGrpSpPr>
          <p:grpSpPr>
            <a:xfrm>
              <a:off x="108000" y="5949720"/>
              <a:ext cx="863640" cy="836640"/>
              <a:chOff x="108000" y="5949720"/>
              <a:chExt cx="863640" cy="836640"/>
            </a:xfrm>
          </p:grpSpPr>
          <p:sp>
            <p:nvSpPr>
              <p:cNvPr id="6" name=""/>
              <p:cNvSpPr/>
              <p:nvPr/>
            </p:nvSpPr>
            <p:spPr>
              <a:xfrm>
                <a:off x="108000" y="6619320"/>
                <a:ext cx="863640" cy="167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16200000" blurRad="0" rotWithShape="0">
                  <a:srgbClr val="6600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800" spc="-1" strike="noStrike">
                    <a:solidFill>
                      <a:srgbClr val="ffcc00"/>
                    </a:solidFill>
                    <a:latin typeface="Humanst521 BT"/>
                  </a:rPr>
                  <a:t>DSC/CEEI/UFCG</a:t>
                </a:r>
                <a:endParaRPr b="0" lang="en-US" sz="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56840" y="6215040"/>
                <a:ext cx="471600" cy="36612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 flipV="1">
                <a:off x="149400" y="5949360"/>
                <a:ext cx="470160" cy="36756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59360" y="6228000"/>
                <a:ext cx="471240" cy="36612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flipV="1">
                <a:off x="149760" y="5962320"/>
                <a:ext cx="472680" cy="36792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pic>
          <p:nvPicPr>
            <p:cNvPr id="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60640" cy="335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BB32-D7F2-422E-BB5F-7A92D3D7E263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1692360" cy="378936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395280" y="5950080"/>
            <a:ext cx="863640" cy="907560"/>
            <a:chOff x="395280" y="5950080"/>
            <a:chExt cx="863640" cy="907560"/>
          </a:xfrm>
        </p:grpSpPr>
        <p:sp>
          <p:nvSpPr>
            <p:cNvPr id="56" name=""/>
            <p:cNvSpPr/>
            <p:nvPr/>
          </p:nvSpPr>
          <p:spPr>
            <a:xfrm>
              <a:off x="39528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412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43704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664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43740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92360" cy="3357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pt.wikipedia.org/wiki/2007" TargetMode="External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HISTÓRICO – EVOL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1960 – Atualid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 Régis de Araú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computacao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76364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1890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219320" y="1844640"/>
            <a:ext cx="7673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imeira estação de trabalh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entrada interna para mou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meiro computador comercial baseado n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el 8008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tornou-se padrão para a indústria, 4.500 componentes, soma 2 números de 8 bits em 2,5 milionésimos de segundo)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nçamento d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tair 880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microprocessador Intel 8080).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lene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a primeira rede comercial, equivalente a ARPA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otótipo do módulo d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indicador visual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DM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icador vídeo alfanumérico para computadores pesso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D168-555D-42EB-A302-425E8AAE1B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28800" y="1933560"/>
            <a:ext cx="2068560" cy="895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05120" y="3228840"/>
            <a:ext cx="2079360" cy="2924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2285640" y="620064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800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724280" y="2162160"/>
            <a:ext cx="3641760" cy="2405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5866560" y="47242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air 880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934320" y="3838680"/>
            <a:ext cx="380880" cy="8380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6C901-956C-47FC-98C9-E38E159457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43000" y="1740960"/>
            <a:ext cx="7750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ple 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o primeiro computador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ingle-boar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ZX 8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baseado no "chip" Zilog Z80, de 8 bits, o computador pessoal mais barato do mercado (menos de US$ 15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ple I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características: circuito impresso em sua placa-mãe, fonte de alimentação, teclado e cartuchos para jogo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nçad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computador de fácil uso, só necessitava de um monitor e isso atraiu muita ge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X 11/78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capaz de processar até 4.3 Gbytes de memória virtual, o mais rápido  minicomputador da époc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co flexível de 5 ¼”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transformou-se na medida padrão para computadores pesso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22D67-F213-4678-A9AC-A0373CEB68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76520" y="1711440"/>
            <a:ext cx="2639880" cy="1622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867280" y="1700280"/>
            <a:ext cx="2021040" cy="1838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2515680" y="346392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ple 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01880" y="353700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ple I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791320" y="4076640"/>
            <a:ext cx="2182680" cy="2325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6249240" y="64882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X 11/7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057400" y="4065480"/>
            <a:ext cx="1943280" cy="2332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2668680" y="648828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X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6020-9354-4D15-8C66-5319AD5EEB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55280" y="587700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ple 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3500280" cy="3654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148360" y="2212560"/>
            <a:ext cx="3456000" cy="36601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das vantagens é que o Apple I podia ser ligado diretamente à uma TV, dispensando a compra de um terminal de vídeo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le possuía também um conector unidade de fita (o controlador era vendido separadamente por 75 dólares) e um conector proprietário reservado para expansões futuras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04406-E5E5-455F-9131-7440814536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32000" y="1916280"/>
            <a:ext cx="710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76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SIC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a a linguagem mais popular na época (e serviu como base para diversas linguagens modernas), pois tem uma sintaxe simples se comparado com o C ou Assembly, utilizando comandos derivados de palavras do Inglê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CC1B-AA0D-4348-B8A8-14823C7345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32000" y="1916280"/>
            <a:ext cx="710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tari 80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Também podia ser usado com um computador relativamente poderoso, chegando a ser adotado nos laboratórios de informática de algumas universidad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124000" y="3441600"/>
            <a:ext cx="5472360" cy="28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3C1F-B60E-457A-9E4E-92A5C7AC60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187280" y="181296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imeir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ard Disk Driv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microcomputadores (capacidade: 5MByt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imeir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co óptico de armazenamen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dados (capacidade: 60 vezes maior do que o disco flexível de 5 ¼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BM contrata 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icrosoft Corporatio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fazer um sistema operacional para um novo microcomputador (IBM percebe que o mercado é promissor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BM introduziu seu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proporciona o rápido crescimento do mercado de computadores pessoa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S-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icrosoft Disk Operating Syste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foi o software básico lançado para o PC da IB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imeiro computador portátil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sborne 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382F-381A-474E-BF81-85D7DDCB29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952880" y="2228760"/>
            <a:ext cx="3372120" cy="2640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6019920" y="494352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sborne 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3880" y="2152800"/>
            <a:ext cx="2603520" cy="2684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2363400" y="5048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4396-A445-45A9-8999-68E1FA9B6B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.. 1982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eiro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quarto de século atrás, a Federal Communications Commission dá sua bênção ao primeiro celular do mun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abençoado foi o modelo Motorola DynaTac 8000x, que pesava quase 1 quilo e custava 4 mil dól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76720" y="4508640"/>
            <a:ext cx="2640240" cy="207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2DF0-D419-4E64-A8D7-75732D264C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43000" y="1740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do o UNIMATE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imeiro robô industri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e entrou em operação na GM. Função: empilhar pedaços de metais qu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udantes do MIT escreveram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paceW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! - primeiro jogo interativo de computador (oferecia gráficos interativos que inspiraram os vídeo gam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merican Standard Code for Information Interchang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permitiu que máquinas de diferentes fabricantes trocassem dados entre s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igital Equipamen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vende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imeiro minicomputad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uglas Engelbart recebe a patente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imeiro mou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1082-D641-471E-9F9E-851B445F79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.. 1982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GNU não é o U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Stallman anunciou, pelo grupo net.unix-wizards, que escreveria um software totalmente compatível com o sistema operacional Unix, o GNU (sigla do inglês GNU is not Unix), e permitir que todos os interessados o usem gratuit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314E-E4B8-4D6B-9034-21FB991168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.. 1982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pouco portátil Compaq Po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,7 quil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Compaq pouco portátil também tinha um valor pesado: 3.590 dó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43280" y="3789360"/>
            <a:ext cx="3143520" cy="24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4C22-C8D3-4F5F-9837-E0B15A8F35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.. 1982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nção do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 uma internet onde IP impossíveis de serem lembrados são usados no lugar de nomes de domín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Domain Name System (DNS) foi inventado por Paul Mockapetris, quando a rede ainda tinha somente algumas centenas de máquinas conect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651640" y="4653000"/>
            <a:ext cx="2305080" cy="181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DDA4-C568-4534-8A67-A941A6A71E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187280" y="18129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senvolvimento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tus 1-2-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software para o IBM P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 us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áficos gerados em computad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filmes (film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o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Disne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98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Compaq introduziu seu primeiro PC (usava o mesmo software que  o PC da IBM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Microsoft anunciou o processador de text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rd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nome inicial: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ulti-Tool Wor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e o lançamento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ind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5638680"/>
            <a:ext cx="6705720" cy="9169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Apple escolheu processadores Motorola para a sua linha de computadores e a IBM escolheu Intel. O sucessor do Apple II, o Macintosh, utiliza chips PowerPC, fornecidos pela Motorol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C04F-213C-427F-A866-DBEC960527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43280" y="3429000"/>
            <a:ext cx="3640320" cy="242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4500720" y="59500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ON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a Odisséia Eletrônic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2951280" cy="2325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619280" y="4292640"/>
            <a:ext cx="23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8410-9DAA-404D-A358-D799B207F4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843280" y="551664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otus 1-2-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4151160" cy="327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38F8-DC1B-48C1-8929-C9B0696424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12068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Apple lançou 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Lis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1 MB de memória RAM, dois drives de disquete de 5¼ de alta densidade (eram usados discos de 871 KB), HD de 5 MB e um monitor de 12 polegadas, com resolução de 720 x 36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eço: 10.000 dólares da época (suficiente para comprar 5 PCs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356000" y="4005360"/>
            <a:ext cx="3961080" cy="26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E701-B092-4B96-9C68-748F76957F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120680" y="1916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Apple lançou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cintos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primeiro computador com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ouse e interface gráfic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om valor comercial de US$ 1,5 milhão de dó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quete de 3 ½"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"microfloppy“), foi amplamente ace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BM divulgou seu PC Jr. (fracasso) e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C-A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racterísticas do PC-A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árias vezes mais rápido que o PC orig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seado na plataforma Intel 80-286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rnou-se um sucesso devido ao seu ótimo desempenho e grande capacidade de armazenamen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s esses recursos por aproximadamente US$ 4 m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1AAE-3A2E-43BA-8BFD-3479BEE1EF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867280" y="1628640"/>
            <a:ext cx="2411640" cy="2514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477120" y="4676760"/>
            <a:ext cx="1511280" cy="1523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6095880" y="62006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8028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41432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-A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447920" y="1781280"/>
            <a:ext cx="3429000" cy="2574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2" name=""/>
          <p:cNvSpPr/>
          <p:nvPr/>
        </p:nvSpPr>
        <p:spPr>
          <a:xfrm>
            <a:off x="1981080" y="4524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intos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650B-E91E-443B-BEAD-DDB9FAAD4E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nternet ganhou suporte: 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ational Science Foundatio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ruturou o NSFNET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gando cinco supercomputad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s Universidades de Princeton, Pittsburgh, Califórnia, Illinois e Corne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nov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D- RO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xpandiram o mercado de CDs de música (capacidade de armazenamento: 550M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Aldus anunciou o program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PageMak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o uso em computadores Macintos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nguagem de programaçã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urgiu e dominou a indústria de comput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0B6A-E149-4560-A2B3-BDA8901876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47920" y="1700280"/>
            <a:ext cx="1755720" cy="2290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990720" y="40672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MA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19720" y="1704960"/>
            <a:ext cx="4068720" cy="2117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5181480" y="3838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ÓDIGO ASCII (1963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791320" y="4371840"/>
            <a:ext cx="1617480" cy="2392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124080" y="53625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eiro Mou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2B0C-B8C8-48D8-AC98-670F6CA944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142640" y="174096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ulso da inteligência artificial com o  desenvolvimento do conceito compact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exão paralel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BM e a MIPS desenvolveram as primeiras estações de trabalho baseadas em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RIS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mpaq desbancou a IBM no mercado quando anunciou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kpro 386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 primeiro computador no mercado a usar o novo processador Intel 38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otorola desenvolveu o microprocessado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6803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BM introduz os computadore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S/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om drive de 3 ½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732720" y="429264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2BD7-4ED2-4B97-BE5E-728E37A94CF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116000" y="19886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mpaq e outros fabricantes de PC desenvolveram 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IS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nhanced Industry Standard Architectur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uma arquitetura padr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ixar'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Tin To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primeiro filme feito em computador a ganhar um prêmio da Academia (Oscar, por melhor desenho animado de curta metragem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bert Morris enviou um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írus através da Interne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que causou problemas para aproximadamente 10% dos 60 mil usuários da re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293F-5F33-4FD3-8F66-8BFACC04153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42560" y="174096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ntel lançou o microprocessado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80486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860 RIS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/coprocessor chip (mais de 1 milhão de transistor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otorola anunciou o microprocessado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68040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com aproximadamente 1,2 milhão de transistor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axis lançou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jogo de vídeo game que utilizava uma série de simulador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icrosoft anuncia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Windows 3.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Compatível com o D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World Wide Web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sceu quando Tim Berners-Lee, um pesquisador do CERN, desenvolveu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iperText Markup Languag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084720" y="3860640"/>
            <a:ext cx="1143000" cy="113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7590-AFFD-409D-B492-F3FBD824D52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143000" y="1740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nçamento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wer P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aliança IBM, Motorola, e Appl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C apresenta o primeiro chip a implementar a arquitetura RISC 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pha 64-bi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missão do primeir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áudio multicas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-bone pela N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írus Michelange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resulta em um estrago de pequenas proporçõ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ntiu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a Intel é apresen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nvolvimento de uma interface gráfica para navegação pela Internet chamada (NCS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osai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4787-C450-4B0A-9B54-A504B7F3A0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1379520" cy="1365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419720" cy="3227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17" name=""/>
          <p:cNvSpPr/>
          <p:nvPr/>
        </p:nvSpPr>
        <p:spPr>
          <a:xfrm>
            <a:off x="4876920" y="5410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aic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464832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-Pent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7909-B4F4-4BC8-8647-823FD0D7E67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2068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dação d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etscape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Communication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originalment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osaic Communication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imeir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rowser da Netscap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torna-se disponível e cria rapidamente um crescimento de "surfistas" da We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oy Stor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o primeiro filme de longa metragem inteiramente gerado por computad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Windows 95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lanç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nguagem de programaçã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permite o desenvolvimento de aplicações independentes de plataformas (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uk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 é o primeir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pple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entium Pro da Intel é apresent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F8C4-3B13-4835-8D56-B78896FE6D7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7607520" cy="2260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1824120" y="4800600"/>
            <a:ext cx="650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 ordem o Celeron / Ciryx / AMD K6 / Pentium MM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C8E1-A2FC-4DF4-BE56-10997714260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143000" y="1740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etscape Navigator 2.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lançado (primeiro browser com suporte para JavaScrip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ntel lança o processado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ntium de 150,166 &amp; 200 MH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têm o equivalente a 3.3 milhões de transistor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BM Deep Blu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foi o primeiro computador a ganhar do campeão mundial de xadrez Gary Kasparov em um jo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lançado o processado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ntium II 333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lançad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Windows 98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número de pessoas que usam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estimado em mais de 10 milh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2A33-0771-4DAC-A48B-6AE4BBC78CC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95280" y="1741320"/>
            <a:ext cx="3733920" cy="2400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410080" y="1741320"/>
            <a:ext cx="3029040" cy="3505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1219320" y="4255920"/>
            <a:ext cx="39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Pentium 2 e o AMD K6-2 -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 de Linha até 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05520" y="53229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to de uma placa de Pentium II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5661000"/>
            <a:ext cx="3745080" cy="7855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 4004: 2.200 transistores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II: 7.500.000 transisto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DE4D-8E00-4374-9421-13F9BE1F817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371240" y="1988640"/>
            <a:ext cx="6729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Intel lança o seu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entium III de 1GHz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MD lança o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MD de 1GHz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tel lança o seu processador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tanium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Linux Kernel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é lançado.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ançado o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Windows XP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219320" y="257040"/>
            <a:ext cx="5486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DA8E-CEBE-4FD0-9A51-C0489055211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43000" y="1670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ção d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nguagem Basi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6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ewlett-Packar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ntrou no negócio de computadores para uso geral com seu HP-2115. Ele suportava uma grande variedade de linguagens entre elas BASIC, ALGOL e FORTR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BM apresenta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imeiro disco de armazenamen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 IBM RAMAC 305. Tinha 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pacidade de 5 MB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ção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mo se fosse uma linguagem de computação para crianç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BM constrói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imeiro floppy dis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bert Noyce e Gordon Moore criaram 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el Corporatio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19320" y="30600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3887-0A8F-49E2-99DD-9EBFE7ABC9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038480" y="1859040"/>
            <a:ext cx="1841760" cy="16509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114800" y="36115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MD-Dur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600200" y="185904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600200" y="36115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6477120" y="1935000"/>
            <a:ext cx="2057400" cy="1783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804000" y="378936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RI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1752480" y="5059440"/>
            <a:ext cx="2590920" cy="1349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5486400" y="5059440"/>
            <a:ext cx="2708280" cy="1393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67D6-F458-4B0E-980F-A44280E80E9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187280" y="188604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entium 4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é construído com uma tecnologia de 0,13 micrômetros e possui 55 milhões de transist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 supercomputador japonê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arth Simulat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criado pela NEC para simular mudanças no clima do planeta possui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5104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processadores e ocupa uma área equivalente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trê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quadras de tênis. Seu desempenho esta em torno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35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teraflops, realiza 35,86 trilhões de cálculos por segu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2674C-D48B-49B7-B9BB-AD52FCBE809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95480" y="6272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Simulador da Terra"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111480" y="3639960"/>
            <a:ext cx="4340160" cy="26337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657600" y="1747800"/>
            <a:ext cx="2754360" cy="1393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666880" y="3032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tium 4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7157-3282-498E-8CC5-4AB5E0DE1BB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74534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MD lança o processador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pter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 Opteron é o primeiro processador para a arquitetura CISC capaz de trabalhar a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64 bit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utilizando as instruções IA-32 (conhecidas também pelo nome x86)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553080" y="4343400"/>
            <a:ext cx="2363760" cy="16700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187280" y="4221000"/>
            <a:ext cx="51246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ssui transistores de 0,13 mícron, possuindo no total 100 milhões de transist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 endereçar até 1 TeraByte de memória RAM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uporta até 8 processadores na mesma placa-mãe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E417-014E-4C06-8839-5F567B79950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87280" y="181296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ançamento do Supercomputador IBM Blue Gene/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osto por 131.072 processadores PowerPC, possuindo 32 terabytes de memória RA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IBM desenvolveu módulos relativamente simples, contendo 2 processadores, 512 MB de RAM e uma interface de rede gigabit Ethernet, similares a um PC doméstic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a gigantesca estrutura funciona como um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luste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em que o processamento é dividido em pequenos pedaços e dividido entre os módul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5FB2-92AA-4991-B882-32BE5D5B3EB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191628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BM Blue Gene/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41800" cy="37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C0744-E807-41D8-A18F-0051E31F3EE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920" y="188604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l lança o se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ntium 4 de 64 bi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concorrente do Athlon 64 da AM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ém desse processador, a Intel lançou ainda 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ntium 4 Extreme Edi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3,73 GH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365800" y="4149720"/>
            <a:ext cx="3743280" cy="2638800"/>
            <a:chOff x="5365800" y="4149720"/>
            <a:chExt cx="3743280" cy="263880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5905440" y="4149720"/>
              <a:ext cx="2664000" cy="18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365800" y="6055200"/>
              <a:ext cx="3743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Parte inferior do Pentium 4 Extreme Edition, à esquerda, e do Pentium 4, à direita.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http://www.clubedohardware.com.br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932360" y="1341360"/>
            <a:ext cx="4176720" cy="2567160"/>
            <a:chOff x="4932360" y="1341360"/>
            <a:chExt cx="4176720" cy="256716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5581800" y="1341360"/>
              <a:ext cx="285732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932360" y="3175200"/>
              <a:ext cx="4176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nagem do Athlon 64, à esquerda (soquete 754), e pinagem do Pentium 4, à direita (soquete 478).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http://www.clubedohardware.com.br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6B43-5A33-4997-A6BF-A95BEAC7EA3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920" y="1886040"/>
            <a:ext cx="7850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pple passou por duas grandes revolu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imeira foi a migração do MacOS antigo para o OS X, que por baixo da interface polida, é um sistema Uni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egunda aconteceu em 2005, quando a Apple anunciou a migração de toda a sua linha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esktop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otebook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processadores Int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9402-9724-4654-80A7-8CEE5EF716D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850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o ponto de vista do hardware, os Mac atuais não são muito diferentes dos PC, você pode inclusive rodar Windows e Linux por meio do boot camp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ó os Mac são capazes de rodar o Mac OS X, devido ao uso do EFI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irmwar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special, que substitui o BIOS da placa mã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a combinação permitiu que a Apple se beneficiasse da redução de custo nos processadores e outros componentes para micros PC, mas ao mesmo tempo conservasse seu principal diferencial, que é o softw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2E37-F693-48E4-A7DC-E101E675544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07640" y="1844640"/>
            <a:ext cx="597708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O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5465880" cy="410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5B3C-EEC8-45DD-B01D-BD4C6E54014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47920" y="1992240"/>
            <a:ext cx="3292200" cy="3589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600200" y="57261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P-211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791320" y="2602080"/>
            <a:ext cx="2666880" cy="2065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5715000" y="48117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PPY DIS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2167F-C844-4AAA-B7D2-AF0FBB61FA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7724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lança o Xbox 360, primeiro videogame da sétima geração, que promete se integrar com o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64000" y="3284640"/>
            <a:ext cx="199872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1CD1-18CE-4518-AE94-A186836DB60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6480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eb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ple l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Pod Nano (menor iPod com tela LCD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PiPod Video, com capacidade de armazenamento de até 200G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nçado o Wii (Ninten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crosoft lança o Windows Vista para uso corpo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nçado o Playstation 3 (So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l lança sua linha de processadore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ore 2 Du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anuncia o lançamento d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quad core</a:t>
            </a:r>
            <a:r>
              <a:rPr b="1" i="1" lang="pt-BR" sz="2400" spc="-1" strike="noStrike" u="sng">
                <a:solidFill>
                  <a:srgbClr val="ff33cc"/>
                </a:solidFill>
                <a:uFillTx/>
                <a:latin typeface="Arial"/>
                <a:hlinkClick r:id="rId1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7740720" y="1700280"/>
            <a:ext cx="1046160" cy="13888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7812000" y="3429000"/>
            <a:ext cx="1024200" cy="13906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7812000" y="5157720"/>
            <a:ext cx="989280" cy="12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4C20-F693-424C-9AB9-81E8844F2E8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292720" y="2565360"/>
            <a:ext cx="2367000" cy="3267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619280" y="422064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l Core 2 Duo E6600 "Conroe"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D1FC-3BA2-4CC4-AA5E-FE37B942EE4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007/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crosoft lança o Windows Vista para uso domé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ros lançamen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C595-1B4A-4CFB-B98E-D480AB6FD9F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116000" y="17924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nd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grandes computadores caminham para o processamento parale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tamanho do grão de processamento será cada vez menor e os processos cada vez mais acopl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dores ópticos, Nanotecnologia, Computação biológica, Armazenar bits n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áto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m aí o computador quânt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434FA-6B27-484F-BA65-FAFB3F89284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33720" y="4761000"/>
            <a:ext cx="5638680" cy="1981080"/>
          </a:xfrm>
          <a:prstGeom prst="rect">
            <a:avLst/>
          </a:prstGeom>
          <a:solidFill>
            <a:srgbClr val="eaeaea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258560" y="162828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modernos chips dos computadores devem sua existência ao trabalho de inventores geniais, durante três sécul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tendência é que tenhamos cada vez mais dessa rapidez no dia-a-dia. E tudo isso graças a alguns marcos no desenvolvimento tecnológico, tais como a invenção do transistor, do circuito integrado, e do refinamento contínuo da técnicas de construção dos chi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590920" y="5141880"/>
            <a:ext cx="4572000" cy="15890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209680" y="4303800"/>
            <a:ext cx="5867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É impossível parar”   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(Shmid, 1995)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47F6A-2B97-4C53-9F17-DD11C8F665D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430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nvolvimento do sistema operacional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exército americano interligou as máquinas d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PANE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formando a rede que originaria 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meir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obô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óvel internacional controlado por inteligência artificial. (SRI Shake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stalação da primeir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áquina de caixa automátic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imeiro computador pesso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Kenbak-1) - 750 dól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nçamento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icroprocessad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el 4004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2.250 componentes, soma 2 números de 4 bits em 11 milionésimos de segund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venção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co flexível de 8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CBEB7-8517-449F-A2D9-22C696A510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2092320"/>
            <a:ext cx="1619280" cy="2743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1677600" y="491184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I Shake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809880" y="2168640"/>
            <a:ext cx="2454480" cy="1508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4267080" y="37688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Kenbak-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553080" y="2092320"/>
            <a:ext cx="2087640" cy="2514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553080" y="3768840"/>
            <a:ext cx="2057400" cy="1436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57640" y="526428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400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BEA8-37BB-4576-ADCC-471D34F4E7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5280" y="4191120"/>
            <a:ext cx="7391520" cy="137160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é 1969 existiam tantas linguagens de programação diferentes que a IBM decidiu desvincular seus sistemas e vender software e hardware separadamente. Essa liberdade fez a indústria de software deslanch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2133720"/>
            <a:ext cx="7086600" cy="106956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inguagem C surgiu no começo dos anos 70 para ser usada na implementação de sistemas operacionais e outras tarefas de programação de baixo nível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1EE2-2102-4A05-AC8B-DEFABE0E91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18960" y="195696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dação d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ar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vídeo ga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RPANET implementou completamente os protocolos da Internet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ARC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desenvolveu os padrões para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therne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2A21D-E927-4040-BBC0-A555A110BE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Alberto Lima</cp:lastModifiedBy>
  <dcterms:modified xsi:type="dcterms:W3CDTF">2013-06-13T12:39:39Z</dcterms:modified>
  <cp:revision>353</cp:revision>
  <dc:subject>Evolução da Computação</dc:subject>
  <dc:title>Introdução à Computação</dc:title>
</cp:coreProperties>
</file>