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1.jpeg" ContentType="image/jpeg"/>
  <Override PartName="/ppt/media/image36.jpeg" ContentType="image/jpeg"/>
  <Override PartName="/ppt/media/image9.png" ContentType="image/png"/>
  <Override PartName="/ppt/media/image10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C794-8B9B-45AB-980B-91FAA06FE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369B-0C21-41AE-84BA-F741EB984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6785-EA75-4B61-90C7-8BABE2854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0FE9-1BDD-42F8-BD89-805FEBD39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9FC06-709C-4B83-875D-286B78A5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DB32A-8AB5-4353-AD65-A95D62A1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9CB14-2743-4965-B1A5-89C74439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948D9-6639-47D3-B198-5AEFCD2E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382C3-6D1B-4080-9717-3B7B0B7B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86D53-4DD4-4E15-85E3-8DED0BEA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19DEE-3BB1-4153-ABFA-4C995E3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E494-3303-45EB-A62D-342A59D93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996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8B852-55FA-49E9-8290-CEEC91B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8ECF0-F842-4085-97DD-4F1F72E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728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44642-D180-4FA2-BB3E-FBE5497B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996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22FAC-C1F0-4F36-9F88-32833E15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528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4292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728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528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4292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13622-032F-45A4-9F6D-162F78AD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8761-1D3B-4BBA-BB3D-BE4DE85C6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B5B7-C474-4924-A3BA-4B3A72A92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72B8-05C3-4126-B6D3-9115A417F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D246-B841-4A3E-97D3-05FE0B0D8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6E41-762B-49F2-B756-68A329F3C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4061-018D-469C-8DF7-C12A987CF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7F7D-D4D4-461B-9BDC-CB983857C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9753-E4D7-4E58-BA3A-2A82E68CB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160640" cy="6858000"/>
            <a:chOff x="0" y="0"/>
            <a:chExt cx="1160640" cy="6858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3068640"/>
              <a:ext cx="1160640" cy="37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"/>
            <p:cNvGrpSpPr/>
            <p:nvPr/>
          </p:nvGrpSpPr>
          <p:grpSpPr>
            <a:xfrm>
              <a:off x="108000" y="5949720"/>
              <a:ext cx="863640" cy="836640"/>
              <a:chOff x="108000" y="5949720"/>
              <a:chExt cx="863640" cy="836640"/>
            </a:xfrm>
          </p:grpSpPr>
          <p:sp>
            <p:nvSpPr>
              <p:cNvPr id="7" name=""/>
              <p:cNvSpPr/>
              <p:nvPr/>
            </p:nvSpPr>
            <p:spPr>
              <a:xfrm>
                <a:off x="108000" y="6619320"/>
                <a:ext cx="863640" cy="167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6600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ffff00"/>
                    </a:solidFill>
                    <a:latin typeface="Humanst521 BT"/>
                  </a:rPr>
                  <a:t>DSC/CEEI/UFCG</a:t>
                </a:r>
                <a:endParaRPr b="0" lang="en-US" sz="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56840" y="6215040"/>
                <a:ext cx="47160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flipV="1">
                <a:off x="149400" y="5949360"/>
                <a:ext cx="470160" cy="367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59360" y="6228000"/>
                <a:ext cx="47124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flipV="1">
                <a:off x="149760" y="5962320"/>
                <a:ext cx="472680" cy="3679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60640" cy="3357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1341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C681-C9D1-430E-BF81-4FEF782577F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1692360" cy="37893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95280" y="5950080"/>
            <a:ext cx="863640" cy="907560"/>
            <a:chOff x="395280" y="5950080"/>
            <a:chExt cx="863640" cy="907560"/>
          </a:xfrm>
        </p:grpSpPr>
        <p:sp>
          <p:nvSpPr>
            <p:cNvPr id="55" name=""/>
            <p:cNvSpPr/>
            <p:nvPr/>
          </p:nvSpPr>
          <p:spPr>
            <a:xfrm>
              <a:off x="39528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412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43704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64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740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3357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1557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HISTÓRICO – EV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1930 – 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 Régis de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computacao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33336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402920" y="2997360"/>
            <a:ext cx="74487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41 - Z3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Konrad Zu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ultado da 2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Guerra Mundial, construído pelos alemã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ncipal função: codificação de mensa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truído em Berlim deixando poucas inform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1887480" cy="1905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971640" y="1700280"/>
            <a:ext cx="7848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Década de 193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Konrad Zus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iu uma série de máquinas de calcular automáticas usando relés eletromecânicos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Início - Z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2819160" cy="1897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E174-90F5-4A98-876F-5D8619249C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6920" y="1844280"/>
            <a:ext cx="4038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válvulas substituíram os relé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com isso veio a criação d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eira geração de comput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3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ingleses desenvolvem uma nova máquina para substituir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eath Robins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lossus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Alan Turin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703080" cy="200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2179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6165720"/>
            <a:ext cx="7272360" cy="580680"/>
          </a:xfrm>
          <a:prstGeom prst="rect">
            <a:avLst/>
          </a:prstGeom>
          <a:noFill/>
          <a:ln cap="sq" w="255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eçava a Era da Eletrônica. A partir das válvulas surgiram o rádio, a televisão e os computadore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912B-995C-4EC8-9FF4-2E6968E188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58560" y="1773000"/>
            <a:ext cx="208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álv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552680"/>
            <a:ext cx="4319640" cy="526608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tubo de vidro na ilustração possui um terminal positivo e um negativo (o cátodo e o ânodo) separados por uma grade de fi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elétrons do cátodo são atraídos pelo ânodo e fazem uma corrente de elétrons passar através da válvula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fluxo natural dos elétrons negativos para o terminal positivo é intensificado de duas maneiras: o cátodo se aquece até a incandescência e sua superfície é tratada com um produto químico especial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grade de controle está situada entre o cátodo e o ânodo e geralmente não interfere no movimento dos elétrons. Mas, quando uma carga negativa é aplicada à grade, os elétrons são repelidos e não atingem o ânodo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força repulsora da grade supera a força de atração do ânodo e o fluxo dos elétrons cessa. A corrente é interrompida e o interruptor se desliga.</a:t>
            </a:r>
            <a:r>
              <a:rPr b="0" lang="pt-BR" sz="2000" spc="-1" strike="noStrike">
                <a:solidFill>
                  <a:srgbClr val="200b5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304020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DA55-3A29-42B7-B756-69A84E386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lossus - Caracterís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ido com a tecnologia de válvu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z de processar cerca de 5 mil caracteres por segun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z de quebrar o código da segunda geração de máquinas Enig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final da guerra, dez Colossus em operação constante permitiam que os ingleses soubessem melhor que o comando alemão onde se encontravam seus submarinos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2E37-6A38-4F32-9BFD-B709FBCB1F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42920" y="2708280"/>
            <a:ext cx="4724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racterísticas do Mark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uía 18 metros de compri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s metros de largura e pesava 70 tonel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 constituído por 7milhões de peças 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a fiação alcançava 800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a chegada dos computadores eletrônicos o Mark I logo foi substituí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77336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44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O Mark I (Howard Aiken)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eiro computador eletromecânico construí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3063960" cy="2443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084720" y="5445000"/>
            <a:ext cx="2521080" cy="1067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ão do Mark II (Sucessor do Mark I) – Computadores a relé já estavam obsoleto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5CEB-9D4C-46CF-8460-87B57173D6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1945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Von Neumann sugeriu que o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istema binário fosse adotado em todos os computado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e que as instruções e dados fossem compilados e armazenados internamente no computador, na seqüência correta de utiliz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O computador processaria os dados de acordo com as necessidades do usuár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u seja, as instruções não viriam pré-determin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s tarde esse computador foi construído recebendo o nome de EDVAC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stas sugestões tornaram-se a base filosófica para projetos de computado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FAED-B4B6-4042-AD2F-D9168A4F5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5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O primeiro BUG de computador é relatado pela Oficial Naval e matemática Grace Murray Hopper, o BUG era um inseto (“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bu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) dentro do computador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term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"bug"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ssou a referir todo o tipo de erro de computação.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952720" cy="1397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3886200" cy="1738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6F04-F781-4EBD-8BDA-7E3446BC67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5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Memex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emory Extens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- Vannevar B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o Podemos Pensar ("As We May Think"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67280" y="3213000"/>
            <a:ext cx="4483080" cy="336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1458720" cy="203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4407-3F75-411F-A107-FD3240880B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6000" y="162828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racterísticas do Mem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menso reservatório multimídia de documentos, abrangendo ao mesmo tempo imagens, sons e text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eriféricos facilitariam a integração rápida de novas informações e a transformação da palavra em texto escrit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ma tela de televisão com alto-falantes daria acesso às informaçõ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usuário poderia transitar, sem se preocupar com classificações hierárquicas, entre uma dada informação e outr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visualização de um item poderia ser acompanhada da visualização de todos os outros a ele relacionad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nexões transversais e pessoais estariam à mão graças a um simples toque de botã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nceito do  </a:t>
            </a: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hypertext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8720-007D-425A-B86C-3EC79645A0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18960" y="162828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imeiro computador eletrônico,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ENIAC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letronic Numerical Integrator And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foi inventa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38592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5300640"/>
            <a:ext cx="3505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ENIAC teve vida ativa curta e foi aposentado em 19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429000" cy="260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3581280" cy="336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258920" y="6093000"/>
            <a:ext cx="7543800" cy="64260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-se encontrar também a denominação ENIAC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lectrical Numerical Integrator And Calculat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7E67-8F1C-49C6-8517-B10B1FB0DE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19280" y="1916280"/>
            <a:ext cx="6553080" cy="473688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193080" cy="445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5486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4AEB-593C-4B63-A458-F16E0AF96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ísticas do ENI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mente eletrô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500 válvulas (aproximada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00 r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tia o equivalente a 200 quilowatts de c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.000 conexões de sol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toneladas de p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 m² de área construí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5 m de a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m de compr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ezes maior que MARK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gava a realizar 5 mil operações por segun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va soma em 0,0002 s e multiplicação em 0,005 s com números de 10 díg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5D54-45C1-4040-963C-861FB780E7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racterísticas do EN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i alojado em uma sala de 9 m por 30 m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e de memória e confiabilidade foram os primeiros proble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ENIAC tinha condições de armazenar apenas vinte números de dez dígitos e toda programação precisava ser feita reordenando-se a rede elét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1952, mais de 19.000 válvulas tinham sido substituídas: elas começavam a queimar dois minutos depois de ligar-se o equipamento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3B65-DA23-4C4A-A0BD-8EA84C6964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560" y="198864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válvulas representavam um grande avanço tecnológico, mas apresentavam os seguintes proble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quecimento demasiado - queima consta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do consumo de energ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m relativamente lent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1360440" cy="2228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D3D4-5474-4923-A7FA-8C732C860F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7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per Eckert e John Mauchly, pioneiros na história da informática, fundaram a Cia. Eckert-Mauchly Computer Corporation, com o objetivo de fabricar máquinas baseadas em suas experiências como o ENIAC e o EDVAC.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6248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DVA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3429000" cy="2722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CE4C-5180-4AB3-ADDE-97FC71BC52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EDVAC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lectronic Discrete Variable Automatic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construída com lâmpadas de mercúrio. Excitando uma lâmpada de mercúrio com um impulso elétrico este poderia ser enviado para a frente e para trás de modo a ser lido sob a forma de 0 ou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va a notação binária pura o que simplificava a construção das ULA (Unidade Aritmética e Lógic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o EDVAC seguiu-se toda uma geração com siglas como EDSAC, ILLIAC, FLAC, MIDAC, ORDVAC, OARAC, MANIAC, ODABAC, pois cada Universidade nos U.S.A. construiu o "seu computado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A05D-6C8B-4264-9874-83E777F95F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194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um grupo de Stanford inventou o Transistor. Usando elementos semicondutores, os transistores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uncionam como chav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orém são menores, mais rápidos, não esquentam, duram mais e consomem menos energia que as válvul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6135840"/>
            <a:ext cx="7315200" cy="580680"/>
          </a:xfrm>
          <a:prstGeom prst="rect">
            <a:avLst/>
          </a:prstGeom>
          <a:noFill/>
          <a:ln cap="sq" w="255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47-48: A memória com bateria magnética é utilizada no armazenamento de dados para computador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71640" y="3500280"/>
            <a:ext cx="1789200" cy="24386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809880"/>
            <a:ext cx="2444760" cy="146556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êmio Nobel de 1956 foi conferido à equipe cuja pesquisa levou à invenção do transistor, em 1947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AF41-108D-44BF-AD82-55123FEE1D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7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tomada uma decisão pioneira: construir um computador para automatizar o trabalho de escritório - o primeiro computador de uso comercial do mun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éia: a J. Lyons, empresa proprietária de uma rede de casas de chá. Só em 1954 a Lyons lança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 LE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yons Electronic Offic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63640" y="4292640"/>
            <a:ext cx="3081240" cy="221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LEO"/>
          <p:cNvPicPr/>
          <p:nvPr/>
        </p:nvPicPr>
        <p:blipFill>
          <a:blip r:embed="rId2"/>
          <a:stretch/>
        </p:blipFill>
        <p:spPr>
          <a:xfrm>
            <a:off x="5257800" y="4419720"/>
            <a:ext cx="3257640" cy="165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6D4A-23BA-4E51-80BB-EA72332BEC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6266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chester Mark I (“baby” machine) torna-se o primeiro computador digital em operação com capacidade de armazenar programas. Usava circuitos a vácuo e a válv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ude Shannon publica “A Mathematical Theory of Communication,” - moderno entendimento para os processos de comunic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chard Hamming - modo de correção de erros em blocos de dados. O Código Hamming é posteriormente usado em sistemas de interrupção e desvio para computadores e telef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164360" y="1916280"/>
            <a:ext cx="1771560" cy="12459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0B99-091D-467F-82C3-91DCD9A528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8960" y="1700280"/>
            <a:ext cx="79246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ventado o primeiro computador comercial -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UNIVA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ohn Bardeen, Walter Brattain e William Shockley da Bell Labs patentiaram o primeiro transist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cutava 1905 operações por segundo e seu preço chegou a US$1 milhão.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24360" y="4491000"/>
            <a:ext cx="2438640" cy="217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5458-B43E-4491-82DC-594AAB21F6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1949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mas Watson Jr. em uma palestra em um encontro de vendas da IBM prenunciou que todas as partes móveis em máquinas seriam substituídas por componentes eletrônicos em uma décad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1828800" cy="1828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19280" y="5734080"/>
            <a:ext cx="6867360" cy="666720"/>
            <a:chOff x="1619280" y="5734080"/>
            <a:chExt cx="6867360" cy="666720"/>
          </a:xfrm>
        </p:grpSpPr>
        <p:grpSp>
          <p:nvGrpSpPr>
            <p:cNvPr id="205" name=""/>
            <p:cNvGrpSpPr/>
            <p:nvPr/>
          </p:nvGrpSpPr>
          <p:grpSpPr>
            <a:xfrm>
              <a:off x="1623960" y="5737320"/>
              <a:ext cx="6858000" cy="659880"/>
              <a:chOff x="1623960" y="5737320"/>
              <a:chExt cx="6858000" cy="659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623960" y="5737320"/>
                <a:ext cx="685800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623960" y="5737320"/>
                <a:ext cx="6858000" cy="659880"/>
                <a:chOff x="1623960" y="5737320"/>
                <a:chExt cx="6858000" cy="659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623960" y="5737320"/>
                  <a:ext cx="6858000" cy="659880"/>
                </a:xfrm>
                <a:prstGeom prst="rect">
                  <a:avLst/>
                </a:prstGeom>
                <a:noFill/>
                <a:ln cap="sq" w="12600">
                  <a:solidFill>
                    <a:srgbClr val="200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99"/>
                      </a:solidFill>
                      <a:latin typeface="Arial"/>
                    </a:rPr>
                    <a:t>1949</a:t>
                  </a: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 - Short Order Code, desenvolvido por John Mauchly, é a primeira linguagem de programação de alto nível. 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23960" y="5737320"/>
                  <a:ext cx="68580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1619280" y="5734080"/>
              <a:ext cx="68673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3609-E051-489A-85E6-0120F6FE53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6920" y="191592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uerra e Computação: o que tem a 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incrível que pareça, foi durante as guerras que a computação teve um maior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governos incentivaram o desenvolvimento de equipamentos que pudessem calcular trajetórias, decifrar mensagens inimigas,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D49B-1599-4ABB-8DB9-AB70D7AA85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160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9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rge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EDSAC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(Eletronic Delay Storage Automatic Calculator)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Calculadora Automática com Armazenamento por Retardo Eletrônico", o qual marcou o último grande passo na série de avanços decisivos inspirados pela guerr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Começou a "Era do Computador"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6165720"/>
            <a:ext cx="7391160" cy="58068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 1949, o EDSAC completou com sucesso seu primeiro trabalho: calculou uma tabela de números prim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3457440" cy="22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3913-7842-4B25-A269-754BD9E68D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39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ós o ENIAC e o EDSAC, o computador entrou na fase de produção industrial, motivado pelos sucessos na resolução de cálculos complicados e pelo conseqüente aumento do interesse na sua utilização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fase industrial, os computadores começaram a ser classificados como de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Primei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egunda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rceir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Gera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de acordo com a incorporação de progressos tecnológico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D479-92FC-4AA8-9D89-B5B30CDA9A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1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primeiro computador comercial de grande escala,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UNIVA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NIVersal Automatic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meric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gramado ajustando-se cerca de 6.000 chaves e conectando-se cabos a um pain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ntrada e saída de informações era realizada por uma fita metálica de 1/2 polegada de largura e 400 m de compr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o todo, venderam-se 46 unidades do UNIVAC Modelo I, que eram normalmente acompanhados de um dispositivo impressor chamado UNIPRINTER, que, sozinho, consumia 14.000 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6694-007A-4D7B-A30A-65193E6BD0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294920" y="5675040"/>
            <a:ext cx="7543800" cy="106668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UNIVAC era uma máquina eletrônica de programa armazenado que recebia instruções de uma fita magnética de alta velocidade ao invés dos cartões perfurados. O UNIVAC foi utilizado para prever os resultados de uma eleição presiden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4375440" cy="3746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CE80-5B3C-4440-802F-D06A53B5D8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2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Bell Laboratori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senvolveu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Transistor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e passou a ser um componente básico na construção de computadores e apresentava as seguintes vantage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quecimento mínim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queno consumo de energ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confiável e veloz do que as válvu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857320" cy="1919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19680" y="4660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800760" y="5041800"/>
            <a:ext cx="1676520" cy="873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1259-D3A8-4020-BA2F-32A5190E94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Grace Hopper transformou-se em uma pioneira no processamento de dados - criou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primeiro compilad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ajudou a desenvolver duas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linguagens de program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que tornaram os computadores mais atrativos para comérc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3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Jay Forrester, do MIT, construiu uma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memória magné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enor e bem mais rápida, a qual substituía as que usavam válvulas eletrôn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C63D-2355-4BB7-9C3F-EE3AEF986A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nternational Business Machines lança seu primeiro computador digital, o IBM 70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imeiro computador da marca comercializado, foram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vendidas 19 máquinas em três an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6576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1371600" y="6032520"/>
            <a:ext cx="7467480" cy="58068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701 - utilizava fita plástica, mais rápida que a metálica do UNIVAC, e o IBM 704, com a capacidade fenomenal de armazenar 8.192 palavras de 36 bit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259F-9D2D-4DDF-B95D-D94048E014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195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IBM concluiu o primeiro computador produzido em série, o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6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que era de tamanho méd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4743360" cy="3279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CC36-68F8-4D3F-B99B-7A59CEAB3E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an Turing publicou o livro "On Computable Numbers" propondo questões significativas sobr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programação e inteligência human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Utilizou suas aplicações de lógica no desenvolvimento do conceito de máquina Univers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Texas Instruments anunciou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início da produção dos transistores de Silíci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FBDD-6DEF-406C-8BBA-8A9F50879C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258560" y="2205000"/>
            <a:ext cx="4032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5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nunciado pelos laboratórios AT&amp;T Bell,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Tradi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primeiro computador transistorizado, possuindo aproximadamente 800 transistores no lugar dos antigos tubos de vácuo, o que lhe permitia trabalhar com menos de 100 Watts.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879640" cy="3717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60D2-07B4-4039-A7FC-396543D267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8560" y="169056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écada de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as de substituir as partes mecânicas dos computadores por partes elét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uso d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l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a uma forma de fazer essas substituições, mas o alto custo, tamanho físico e baixo desempenho eram as desvantagens desses tipos de máqui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4964400" cy="147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905120" cy="1585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1002-F891-4CA8-8A41-6C9B1726F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MIT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ssachussets Institute of Technology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pesquisadores começaram a testar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entrada de dados em tecla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computadores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mesmo lugar começaram os testes com o primeiro computador com transistores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TX-O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ransistorized Experimental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8920" y="5516640"/>
            <a:ext cx="7467480" cy="100800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57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oberta de uma nova linguagem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permitia ao computador executar tarefas repetidas a partir de um conjunto de instruções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28600"/>
            <a:ext cx="5486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0E4E-ABC7-4225-824F-009E42833D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Jack Kilby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- construção d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primeiro circuito integrad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contendo cinco componentes em uma peça de germânio com meia polegada de comprimento e fina como um palito de d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462480" cy="4449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5105520" y="63244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E335-29CA-473E-A64C-F1CD7BAB6C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rie 7000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infram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BM foi a primeira de computadores transistorizados da companh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opo da linha de computadores estava o 7030, também conhecido como STRET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e computadores, os quais usavam palavras de 64 bits e outras inovações, foram vendidos para laboratórios nacionais e outros usuários científicos. L.R. Johnson foi o primeiro a usar o termo "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arquitetu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 para descrever o STRETCH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AB2F-1DD5-45C4-AB87-CE47F53D8D3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572000" cy="3413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286000" y="5791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-70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2FDA-625A-4730-8A00-77341E8AFF9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hado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ataphon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eiro mode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comercial, especificamente para converter sinais digitais de computador em sinais analógicos para a transmissão através de suas redes de longa distânc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equipe liderada por vários fabricantes de computadores e o Pentágono desenvolveram 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mmon Business Oriented Languag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 primeira linguagem voltada para o uso em program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BM desenvolve o primeiro aparelho automático de produção em massa de transistores, em Nova Y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DF20-CA95-4591-AB24-1A9C83149D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19280" y="2276640"/>
            <a:ext cx="590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óximos pass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o dos circuitos inte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A82D-D361-4F4E-A33D-40D0A27AD7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or de r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5373720"/>
            <a:ext cx="7467480" cy="1191240"/>
          </a:xfrm>
          <a:prstGeom prst="rect">
            <a:avLst/>
          </a:prstGeom>
          <a:noFill/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a corrente passa pela bobina que envolve o eixo de ferro, produz-se a força magnética. Essa força atrai a peça de ferro em forma de L que gira em ângulo reto. Ao girar sobre este eixo, a tira junta os dois contatos e, desse modo, fecha o interrupto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3635640" cy="250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7B07-FB84-4A00-A371-3078F4FCF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7280" y="1915920"/>
            <a:ext cx="5486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Só por volta d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1936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, as idéias de Babbage foram comprovadas, quand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Alan Tur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, publicou um artigo, pouco conhecido,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On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computable number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utador moderno nasce das idéias sobre algoritmos, publicadas em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37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Alan Tur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dos planos d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John von Neuman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uma nova máquina de calcular que pela primeira vez inclui, além d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cálculos matemático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o processamento lógico de informaç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1773360"/>
            <a:ext cx="135720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97600" y="4292640"/>
            <a:ext cx="1720800" cy="2084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093440" y="36385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lan Tu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8720" y="63752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John von Neuman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3286-1E5D-42AE-9BFF-AF3345BDC7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5640" y="191592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eocupação de Tu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aber o que efetivamente a computação poderia fazer. As respostas vieram sob a forma teórica, de uma máquina conhecida como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uring Universal Mach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sibilitava calcular qualquer número e função, de acordo com instruções apropriad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076640"/>
            <a:ext cx="7273800" cy="1227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lan Turing foi um dos fundadores da Informática, tendo apresentado contribuições importantes tanto em aspectos  teóricos como práticos da mesma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O prêmio Turing Award tem sido concedido pela ACM (</a:t>
            </a: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Association for Computing Machinery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) desde os anos sessenta a personalidades que se tenham distinguido no domínio da Informática e Ciências da Computação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805360"/>
            <a:ext cx="7272360" cy="696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John von Neumann foi um dos maiores matemáticos de todos os tempos, e as suas contribuições não se limitam aos computadores. Foi o inventor da Teoria dos Jogos, por exemplo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0DBE-C296-4465-9FA1-FBBEC1BA30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 Teste de 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teste consistia em submeter um operador, fechado em uma sala, a descobrir se quem respondia suas perguntas, introduzidas através do teclado, era um outro homem ou uma máquina. Sua intenção era de descobrir se podíamos atribuir à máquina a noção de inteligê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2976480" cy="395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187280" y="189000"/>
            <a:ext cx="5486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AE9C-6D20-4DBD-B4E7-9527188A6C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6920" y="1988640"/>
            <a:ext cx="4876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Alan Turing e sua equipe) – construção do primeiro computador operacional para o serviço de inteligência britânico -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Heath Robinson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Heath Robins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utilizava tecnologia de relés e foi construído especificamente para decifrar mensagens alemãs (durante a 2</a:t>
            </a:r>
            <a:r>
              <a:rPr b="0" lang="pt-BR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Guerra Mundial) cifradas pela máquina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Enig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165400" cy="262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C60C-1BF1-4BDD-9C45-D336DF144B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Alberto Lima</cp:lastModifiedBy>
  <dcterms:modified xsi:type="dcterms:W3CDTF">2013-06-13T12:38:45Z</dcterms:modified>
  <cp:revision>311</cp:revision>
  <dc:subject/>
  <dc:title>Slide sem título </dc:title>
</cp:coreProperties>
</file>