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C412-D151-49EE-9B63-E895672A2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93DE-8EB0-45A1-B11C-F4C75CC67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DE4F-6EFD-432C-A893-F6382A79F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F7E3-0336-4002-9F92-B95753F71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84DFB-9FA6-40A1-88EE-8C933CE0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87AAC-3549-4FDE-AC97-56F1573C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1117F-AA8B-470B-AD27-34CA57C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B076F-B580-4200-A5B5-D5C4BF79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5CB5B-EA98-4B2F-93E7-9A0AF37D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63600" y="206280"/>
            <a:ext cx="777240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2B0D1-ADAF-4147-B88A-677BB041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D8A90-FE3B-4153-A76F-D8C1654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1C35-F8D5-400B-8EA7-7D425D172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82549-18C3-4464-9085-9487229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BC290-32CA-4305-A4CE-375019F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D39AE-E1F8-49F3-81B8-EB8CB867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49236-D6CD-44B7-805E-002E45FA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2B29B-0099-4199-A28D-0C01F3ED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1F47-02A0-4E3C-9746-B2F510068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B71C-3695-4D14-A95A-C8D257FF3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EB9D-1743-4C90-84BA-4647CFBB5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63600" y="206280"/>
            <a:ext cx="777240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8CFD-BEBB-454C-BE76-B78BF45C8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30D1-EE23-49DF-B862-11BF3AD42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9054-E49C-4840-A86F-9F5B4309F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E720-6F64-4F62-B36B-AA6540803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360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6D7-B078-4485-8708-2D30EDAB6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60640" cy="6858000"/>
            <a:chOff x="0" y="0"/>
            <a:chExt cx="1160640" cy="6858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3068640"/>
              <a:ext cx="1160640" cy="37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"/>
            <p:cNvGrpSpPr/>
            <p:nvPr/>
          </p:nvGrpSpPr>
          <p:grpSpPr>
            <a:xfrm>
              <a:off x="108000" y="5949720"/>
              <a:ext cx="863640" cy="836640"/>
              <a:chOff x="108000" y="5949720"/>
              <a:chExt cx="863640" cy="836640"/>
            </a:xfrm>
          </p:grpSpPr>
          <p:sp>
            <p:nvSpPr>
              <p:cNvPr id="7" name=""/>
              <p:cNvSpPr/>
              <p:nvPr/>
            </p:nvSpPr>
            <p:spPr>
              <a:xfrm>
                <a:off x="108000" y="6619320"/>
                <a:ext cx="863640" cy="167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6600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ffff00"/>
                    </a:solidFill>
                    <a:latin typeface="Humanst521 BT"/>
                  </a:rPr>
                  <a:t>DSC/CEEI/UFCG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6840" y="6215040"/>
                <a:ext cx="47160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flipV="1">
                <a:off x="149400" y="5949360"/>
                <a:ext cx="470160" cy="367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59360" y="6228000"/>
                <a:ext cx="47124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flipV="1">
                <a:off x="149760" y="5962320"/>
                <a:ext cx="472680" cy="3679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60640" cy="3357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4842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DDBE-96D4-41C9-B72C-B184815E104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692360" cy="378936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56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33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14842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HISTÓRICO - EVOLU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Os primórd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 Régis de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computacao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s logaritmos de Napier em escalas de madeira, marfim ou outro material (sacerdote inglês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William Oughtr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glaterra, 1633):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írculos de propor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írculos de proporção dão origem à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régua de cálc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logaritmos representados por traços e sua divisão e produto obtidos pela adição e subtração de compr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C9A0-0617-42F2-B0FF-59E61891DA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92320" y="609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égua de Cálculos: o primeiro computador ana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7960" y="4430880"/>
            <a:ext cx="6575400" cy="14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25680" y="1916280"/>
            <a:ext cx="193176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963960" y="2220840"/>
            <a:ext cx="4495680" cy="81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A166-C43B-47D1-B23A-1B1FD7E2D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79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s problemas surgidos durante a Revolução Francesa determinaram a necessidade de uma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unicação rápida, fiável e cifrá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irmãos Claude e Ignace Chappe desenvolvem um "aparelho" com um sistema de braços articulados que permitiam a codificação de 196 sinais difer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aparelho começaram a construir postos de transmissão, utilizando sinais ópticos, entre Lille e Paris. Os sinais ópticos "percorriam" 230 Km em dois minu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CF31-1156-489F-BC1C-CDD9B4A2A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16000" y="5805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égrafo de Chappe e código alfanuméri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457440" cy="374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D073-B624-48EA-BCCB-598289ED34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564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eados do século 1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m computador não era uma máquina, mas uma pessoa, que tinha a função de fazer contas e arbitrar conflitos que envolvessem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licação do termo moderno ao computador só aconteceria a partir de 194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jornal inglê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London Tim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ublicou uma matéria sobre alguns equipamentos inteligentes que no futuro poderiam vir a substituir o esforço humano. O jornal chamou uma hipotética máquina pensante de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O computador sempre foi um aperfeiçoamento constante de idéi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653F-19B3-488A-89FA-9CF7260D4C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642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o instrumento moderno de calcular – uma somado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(Máquina de Pascal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ído p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Blaise Pasca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físico, matemático e filósofo francê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1806480" cy="227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087720" cy="1822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572000" y="5445000"/>
            <a:ext cx="4267080" cy="916920"/>
          </a:xfrm>
          <a:prstGeom prst="rect">
            <a:avLst/>
          </a:prstGeom>
          <a:noFill/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positivo inteiramente mecânico, usava várias engrenagens, acionado por uma alavanc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5950080"/>
            <a:ext cx="2712960" cy="642600"/>
          </a:xfrm>
          <a:prstGeom prst="rect">
            <a:avLst/>
          </a:prstGeom>
          <a:noFill/>
          <a:ln cap="sq"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scal construiu a máquina com 19 an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CBAC-5836-4E7B-B6EA-DE366218BB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áquina de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quina c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das dentadas, cada uma contendo algarismos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ia somar até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celas de cada vez, desde que o total não ultrapassas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999 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ltiplicação era feita a partir de soma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6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a feita somando-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zes o númer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88000" y="5157720"/>
            <a:ext cx="3097080" cy="1490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EDC5-63D9-4882-98E7-395158109D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e Pas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da ú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e 200 anos e foi sendo aperfeiçoada por diversos inven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m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entrada de dados dependia da eficiência da pessoa que estivesse batendo os números em suas tec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0382-CC87-4DEC-B9B6-726774E31E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41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671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Gottfried Wilhelm Leibnitz (filósofo e um dos formuladores do cálculo integral) projetou a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imeira máquina de multiplicação e div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lém de soma e subt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002120" y="3619440"/>
            <a:ext cx="4417920" cy="1895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187164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954600" y="5734080"/>
            <a:ext cx="4541760" cy="642600"/>
          </a:xfrm>
          <a:prstGeom prst="rect">
            <a:avLst/>
          </a:prstGeom>
          <a:noFill/>
          <a:ln cap="sq"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quivalente às calculadoras de bolso que efetuam as quatro operaçõ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9BCD-4F1B-4A0D-BEEE-B851EF1DBF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02 - Jacquar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envolveu os cartões-perfurados para entrad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4038480" cy="2567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332000" y="4797360"/>
            <a:ext cx="2514600" cy="1743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908000" y="2781360"/>
            <a:ext cx="1289160" cy="1874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16F6-0B8A-4F9A-8B73-0D0F62C03F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68360" y="1700280"/>
            <a:ext cx="5462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imeira forma de cálc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Ába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stões de Nap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égua de Cálcu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légrafo de Chap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e Pas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e Leibnit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tões de Jacqu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iferencial/ Ana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ódigo Mo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Álgebra de Bo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 de Tabulação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-685080" y="3861360"/>
            <a:ext cx="4860720" cy="684360"/>
          </a:xfrm>
          <a:custGeom>
            <a:avLst/>
            <a:gdLst>
              <a:gd name="textAreaLeft" fmla="*/ 759240 w 4860720"/>
              <a:gd name="textAreaRight" fmla="*/ 4253400 w 4860720"/>
              <a:gd name="textAreaTop" fmla="*/ 171000 h 684360"/>
              <a:gd name="textAreaBottom" fmla="*/ 513360 h 68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d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3DF8-48C8-408F-AC52-B7302A5DE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18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o francês Charles Xavier Thomas de Colmar inventou um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alcul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permitia efetuar cálculos complexos, por pessoas pouco experientes, num intervalo de tempo reduz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a na Máquina de Pascal e os aperfeiçoamentos de  Leibnitz, podia efetuar as 4 operações aritméticas: adição, subtração, multiplicação e divis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90920" cy="1412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6705720" y="4572000"/>
            <a:ext cx="198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ithmométre de Tho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EA29-C9F6-4721-BF09-81E70380FC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22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harles Babbage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temático) inventa a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áquina Diferen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tilizando os cartões de Jacquard. Funções trigonométricas e logaritmos eram calculados na máqu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2801880" cy="2899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2398680" cy="25909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6313320"/>
            <a:ext cx="3867120" cy="36828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ra invenção -  Velocímetr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A588-222C-4C34-9441-0E633D1842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izada para construir tabelas de números para navegação na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uída para executar um único algorit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método das diferenças finitas usando polinôm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étodo para disponibilizar informações na saí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 perfurados em um prato de co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A300-75C1-4C91-B98D-EA08A96AA2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8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34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Babbage inventou a precursora dos computadores digitais de hoje, a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áquina Analític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sava a base 10, máquina “mecânica”, trabalhava a vap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ogramação seqüencial de opera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um procedimento que hoje chamamos de sistema ope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 seu trabalho na máquina analítica, Babbage  é considerado um dos pioneiros dos computad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6237360"/>
            <a:ext cx="735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pt-PT" sz="2000" spc="-1" strike="noStrike">
                <a:solidFill>
                  <a:srgbClr val="000099"/>
                </a:solidFill>
                <a:latin typeface="Arial"/>
              </a:rPr>
              <a:t>As máquinas de Babbage nunca foram construídas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F7E2-3877-4EC1-B54C-C93BA4FB7E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áquina Analítica de Babbag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eviu os passos que até hoje são a base do funcionamento de um computador, possuindo 4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limentação de dados, através de cartões perfur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saí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saída impressa e perfurada em cart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memó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1000 palavras de 50 dígitos DECIMAIS, capaz de armazenar variáveis e resul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Unidade de comput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aceitava operandos da memória, operações – soma, subtração, multiplicação e divisão (somava dois desses números em 1 s) e enviava o resultado para a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34920" y="6307200"/>
            <a:ext cx="8101080" cy="337320"/>
          </a:xfrm>
          <a:prstGeom prst="rect">
            <a:avLst/>
          </a:prstGeom>
          <a:noFill/>
          <a:ln cap="sq"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Termos originais dos 4 componentes: 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store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 mill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input section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99"/>
                </a:solidFill>
                <a:latin typeface="Arial"/>
              </a:rPr>
              <a:t>output section</a:t>
            </a:r>
            <a:r>
              <a:rPr b="1" lang="pt-B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8B84-913A-49C6-AB56-F5E2EA8D5D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948360" y="1916280"/>
            <a:ext cx="2057400" cy="3211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912000" y="515772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 primeiro "homem" a programar um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ador foi uma mulher!!!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15640" y="1670040"/>
            <a:ext cx="583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Máquina Analí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-  programável  em linguagem de montagem simples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softwa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Ada Byron King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Matemática), compreendeu o funcionamento da Máquina Analítica e escreveu os melhores relatos sobre o proces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ompanheira de Babbage, iniciou o ambicioso projeto de construção da Máquina Analític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riou programas para a máquina -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Arial"/>
              </a:rPr>
              <a:t>primeira programadora de comput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uma das poucas mulheres a figurar na história do processamento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5FAC-5F52-4496-AED8-20751350EC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bb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avam muito além do seu tempo e não conseguiram financiamento para construir o seu Computador Analítico, que ficou apenas como uma belíssima idéia no papel 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le nunca foi concluí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le não tem pretensões de originar nada, mas pode processar qualquer coisa que nós soubermos programá-lo para realiz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a Augusta Byron, falando sobre o Engenho Analítico de Babbage, precursor dos modernos computadores (Londres, cerca de 18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D5A6-AAAA-4E65-B091-30D1E5E001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áquina de Babbage não foi construí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cnologia da época era incapaz de fornecer a precisão necessá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bbage não dispunha de recursos para financiá-la, nem encontrou investidores dispostos a ir além de algumas doaçõ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s projetos e idéias foram a base para outros projetos anos a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935360" cy="2060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476360" y="5157720"/>
            <a:ext cx="4400640" cy="1191240"/>
          </a:xfrm>
          <a:prstGeom prst="rect">
            <a:avLst/>
          </a:prstGeom>
          <a:noFill/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Em 1991, o Science Museum de Londres desenvolveu o Engenho Diferencial utilizando os planos de Babbage e funcionou perfeitam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20D9-E830-43DB-A7E7-7DD5150FC3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15640" y="174096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37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Samuel F. B. Morse iniciou o desenvolvimento de um sistema telegráfico que utilizasse a energia elétrica para transmitir sinais à dist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ódigo Mor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tinua a ser utiliz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cou célebre a mensagem enviada pelo operador telegráfico do Titanic antes do seu afundam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... --- ... SOS - 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Save Our Souls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(salvai as nossas al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3352680" cy="1803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FF5D-57C1-4998-8B49-CF7072D2EB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pção dos fundamentos lógicos para a criação de programas: </a:t>
            </a: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lógica matemática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/ </a:t>
            </a: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álgebra boole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atemático George Boole, Inglaterra,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5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imento de uma forma de armazenamento e processamento de dados utilizando relações binárias: </a:t>
            </a: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As leis do pensament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temático George Boole, Inglaterra, 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185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169524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416A-6E0F-46BB-B03F-AE0726917B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67160" y="5734080"/>
            <a:ext cx="502920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iro ser humano a CALCULAR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 utilizad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pilhamento de pedras para controlar a quantidade de ovelhas de seu reba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Calculus </a:t>
            </a:r>
            <a:r>
              <a:rPr b="0" i="1" lang="pt-BR" sz="28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at.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Pe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3714840"/>
            <a:ext cx="5791320" cy="137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C1A3-F636-4269-8643-A923EC459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516720" y="1700280"/>
            <a:ext cx="169704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968920" cy="269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artões de Jacquard + conceito de impulsos elétricos para transmissão de d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onversão de dados em impulsos magnéticos nos cartões perfurad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ção de um tabulador que utiliza os cartões e torna mais rápido o processamento de estatíst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171E-E932-4501-8674-A01F64DF60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42560" y="16700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  reconhecido no recenseamento americano de 1890. Eliminou  o trabalho braçal de tabular os milhões de dados que cole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resultados ficaram prontos em um tempo muito menor que normalmente levaria, gerando enorme economia (redução de 8 para 3 ano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1896, Hollerith fundou a "Tabulating Machine Company" para explorar suas invençõ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a empresa acaba sendo bem sucedida depois de seu computador mecânico vencer uma concorrência do governo Americano e em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192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orna-se a 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International Business Machines Cor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IB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375A-3F29-4B57-8D63-1B328FFA3F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19280" y="2276640"/>
            <a:ext cx="590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óximos pa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ntativas de substituir as partes mecânicas dos “computadores” por partes elét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3D5E-7575-4CC1-9181-FC8AF19A05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56000" y="5556240"/>
            <a:ext cx="5029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58560" y="177300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a maneira que os seres humanos encontraram para mostrar a que quantidade estavam se referind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o dos dedos da m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Digitu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at.</a:t>
            </a:r>
            <a:r>
              <a:rPr b="0" i="1" lang="pt-BR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d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5410440" cy="135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03E0-7FD0-491A-BE02-2438A7097A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8172360" cy="1295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a tentativa bem sucedida de criação de uma máquina de conta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ába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ina, cerca de 2500 a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5495760"/>
            <a:ext cx="5943600" cy="67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Penguin"/>
              </a:rPr>
              <a:t>Abacus</a:t>
            </a:r>
            <a:r>
              <a:rPr b="1" i="1" lang="pt-BR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– lat.</a:t>
            </a:r>
            <a:r>
              <a:rPr b="1" i="1" lang="pt-BR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tábua de argi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94200" y="3086280"/>
            <a:ext cx="3078000" cy="192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D887-B3FC-4B88-AFBA-452DEC6332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90920" y="6019920"/>
            <a:ext cx="5181480" cy="533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50560" y="1700280"/>
            <a:ext cx="788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erc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de 4 mil anos trá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iro sistema científico para contar e acumular grandes quant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desenvolvido por mercadores da Mesopotâmi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cnica utiliza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o faziam um sulco na areia e iam colocando nele sementes secas (ou contas) até chegar a d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is faziam um segundo sulco, onde colocavam uma só conta – que equivalia a 10 -, esvaziavam o primeiro sulco e iam repetindo a op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Origem da expressão Co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D8DC-0745-47FE-8D65-13E0D04AC9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240" y="2361960"/>
            <a:ext cx="746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lgarismos atuais, conhecidos por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lgarismos arábi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em pouco mais de mil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ão pela qual os algarismos arábicos se tornaram o padrão numérico mundial -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derio militar dos ára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D03E-834C-4416-BDFE-204D6E6B0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614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Bastões de Napi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riados como auxílio à multiplicação (matemático John Napier, inventor dos logaritm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bastões de Napier eram um conjunto de 9 bastões, um para cada dígito, que transformavam a multiplicação de dois números numa soma das tabuadas de cada dígi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56360" y="4292640"/>
            <a:ext cx="1954080" cy="236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2D6D-F4B0-4346-977D-0ADD946F3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 (Primórdio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8172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ulação da multiplica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384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 Bastões de N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20840" y="2184480"/>
          <a:ext cx="457200" cy="414936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552760" y="58942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2760" y="5451480"/>
            <a:ext cx="492120" cy="442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2760" y="5011560"/>
            <a:ext cx="49212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2760" y="4554360"/>
            <a:ext cx="4921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1840" y="4111560"/>
            <a:ext cx="473040" cy="46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2760" y="367020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2760" y="322884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2760" y="27874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184480"/>
            <a:ext cx="492120" cy="60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Pengui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2760" y="2184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52760" y="2787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52760" y="322884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52760" y="367020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52760" y="41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52760" y="45543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2760" y="50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2760" y="54514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52760" y="58942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52760" y="633564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52760" y="27874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52760" y="322884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52760" y="367020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52760" y="411156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552760" y="4554360"/>
            <a:ext cx="492120" cy="4572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552760" y="5011560"/>
            <a:ext cx="492120" cy="43992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552760" y="545148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52760" y="58942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276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488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727440" y="2185920"/>
          <a:ext cx="507960" cy="414972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23000" y="2190600"/>
          <a:ext cx="496800" cy="4146480"/>
        </p:xfrm>
        <a:graphic>
          <a:graphicData uri="http://schemas.openxmlformats.org/drawingml/2006/table">
            <a:tbl>
              <a:tblPr/>
              <a:tblGrid>
                <a:gridCol w="4968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955880" y="5794200"/>
            <a:ext cx="444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nguin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111480" y="5987520"/>
            <a:ext cx="584280" cy="101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81480" y="5987520"/>
            <a:ext cx="584280" cy="101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00800" y="5794200"/>
            <a:ext cx="44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ngui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08840" y="5727600"/>
            <a:ext cx="1473120" cy="62244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nguin"/>
              </a:rPr>
              <a:t>3.45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891040" y="2754360"/>
            <a:ext cx="2948040" cy="1957320"/>
          </a:xfrm>
          <a:prstGeom prst="rect">
            <a:avLst/>
          </a:prstGeom>
          <a:ln w="0">
            <a:noFill/>
          </a:ln>
          <a:effectLst>
            <a:outerShdw dist="63504" dir="19383909" blurRad="0" rotWithShape="0">
              <a:srgbClr val="b2b2b2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E0EF-5102-4C3D-A544-1EA5A5B8C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Alberto Lima</cp:lastModifiedBy>
  <dcterms:modified xsi:type="dcterms:W3CDTF">2013-06-13T12:36:23Z</dcterms:modified>
  <cp:revision>219</cp:revision>
  <dc:subject/>
  <dc:title>Introdução à Computação</dc:title>
</cp:coreProperties>
</file>