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711-56CD-4440-849E-2C0F3C6E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FA2-16BD-4000-8006-61E3BA61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A22-7091-4A58-890A-22F0916E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4FB-9933-4DD7-9CFA-810DA294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922D2-77B3-446F-9D8E-E5D1D590D7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DCF2C-3A7F-49EA-9E5B-46D3D01B4E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0492D-E38A-4075-A8EA-1551D686F6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22C13-BCE7-4D85-98AC-54664E973F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A08A4-8C0B-4CC9-96E6-E1C76D5549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8D17-48B5-41A9-889B-7A1B8100DB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CA3A0-B735-437B-914B-9BF783DFA1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43F-2245-4760-89A2-D0DCD19A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D4C7F-D826-4E81-8B46-4703A2AD1E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2AC06-F160-4B21-83AF-748B4A21CD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7F50A-00C2-4D9C-9D35-9B73191DE0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53F9B-A6C3-4B90-9FA0-D2A6D987DE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06837-3306-4C4A-A665-0F57FAEA0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327-7D9C-473F-BB17-AB603D66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7B5-E426-4651-B0C9-69E46D66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5A5-160E-496B-8D76-0C42B03D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8C5-C565-484C-8BCF-399C8A64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863-EF3A-4F14-8E3C-602D0685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CBE-C40B-4CA4-B65C-1863892A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C19-9D9E-402C-960B-B52AD712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8412-32BF-4F11-90FD-E5B0A3BB576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C910-CA2D-4D4B-A8E3-8AB1A69BEAB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obocode.sourceforge.net/" TargetMode="External"/><Relationship Id="rId2" Type="http://schemas.openxmlformats.org/officeDocument/2006/relationships/hyperlink" Target="http://robocode.sourceforge.net/" TargetMode="External"/><Relationship Id="rId3" Type="http://schemas.openxmlformats.org/officeDocument/2006/relationships/hyperlink" Target="http://robocode.sourceforge.net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ompetição - Robo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esult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87280" y="1700280"/>
          <a:ext cx="7201080" cy="4962600"/>
        </p:xfrm>
        <a:graphic>
          <a:graphicData uri="http://schemas.openxmlformats.org/drawingml/2006/table">
            <a:tbl>
              <a:tblPr/>
              <a:tblGrid>
                <a:gridCol w="5185080"/>
                <a:gridCol w="20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ancel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rthur, Rafael, Sau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Opul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lerton, Adauto, Thé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and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Diego, Estéfano, Ewerth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LCC0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ick, Gustavo, Viníci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Morpheu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ysson, Francisc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My Robo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gno, Fabrício, Paul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a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dréa, Dayane, Brun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Near Wall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lipe, David, Dani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Robô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cione, Kátia, Leonar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Oblitera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an, Anderson, Rafael Dant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B2F-C742-4156-90BB-67A9FA8752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2060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Que é o Roboco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e de simulação de batalha entre robôs que roda em qualquer plataforma que suporte Ja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déia básica consiste em utilizar as classes base disponíveis pelo ambiente para criar o seu próprio robô e colocá-lo em batalha com outros robôs criados por outros desenvolvedores. 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6021360"/>
            <a:ext cx="7489800" cy="4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Site do robocod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robocode.sourceforge.net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27640" y="1700280"/>
            <a:ext cx="228312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9DF-C43C-4D37-B1C4-8D965DEA1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et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ão formadas equipes com, no máximo, 3 compet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ste em duas fases (em seqüênc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al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7BD-A519-4C77-99EA-A02695160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robô será construído no laborató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é permitido utilizar a intern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 para construção: 1h3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ódigo fonte de cada robô ficará disponível para a auditori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481-2ED5-472E-A9AD-721D9B2C06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184464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al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disputaram com os dem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stilo "duelo", com dois robôs em cada aren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batalha será disputada em um único jogo até a destruição de um dos robô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dois melhores robôs se enfrentarão na batalha fi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grupo poderá concorrer com apenas um rob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19A-4F21-4C83-B974-AC42798C00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84464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equipe receberá uma pontuação em função da sua colocação na compet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u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2,5 pontos + prêmio sur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u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2,3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u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2,0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Lu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1,8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tuação mínima: 1,0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6021360"/>
            <a:ext cx="518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ntuação da atividade: 1,5 po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147-E09B-4E48-A114-8C2DB5455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84464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ribuição das equi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 de alunos: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da equipe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 de equipes: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 de duelos = 55 (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1,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estimado por duelo: 2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total da competição: 110 min (~=2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EF5-1C65-41BC-AD88-F2BA3EDFD7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184464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et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9/09/08 (montagem), 10-12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/09/08 (competição), 18-20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h30min: Montagem e entrega do rob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h: Competição e Prem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482-DBEE-484A-B3A7-CBB4C0BF40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etição - Roboco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1773360"/>
            <a:ext cx="7704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es de Competid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rthur, Rafael, S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erton, Adauto, Thé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rick, Gustavo, Viníc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Magno, Fabrício,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Andréa, Dayane, Brun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iego, Estéfano, Ewert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Alan, Anderson, Rafael D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Felipe, David,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Alcione, Kátia, Leon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Alysson, Fran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Hélio, Joã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07D-89AE-44FF-BE71-5BBF173477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 </cp:lastModifiedBy>
  <dcterms:modified xsi:type="dcterms:W3CDTF">2008-10-06T01:34:35Z</dcterms:modified>
  <cp:revision>69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