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EF4-2A8B-426F-AAC0-DE456C19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451-0CC4-42E7-A4E8-7459E587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416-9E0E-4077-BBAC-161DF936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343-D39F-4847-BE4B-D874C980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D6E20-8448-44BE-A442-9BDD43F67D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7B47A-4663-42CD-B57E-49A4FFF9ED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EE7A6-3967-404A-84D2-CB418B6620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A36B7-FD68-4474-B60F-5956AF62DB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FA41D-1883-4D0C-9811-9C92FBEBD5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8F808-41AB-4111-8F74-CA2CD4C828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E1929-4D1D-4878-8E5F-E595097C7B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96C-AF39-4BE7-8B5D-E0236E67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A4B26-79D2-455E-A376-3468B93961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1A28B-A9EA-44A6-A624-4849165A2F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05B7D-E1FF-406C-BFD9-0720B5E149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0260C-12A8-4998-9907-4B4219E268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A77B6-5183-4CF6-89A4-B39EBD3444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F6C-7590-4B3E-A432-0D44E282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AEA-B8BB-4896-A802-53F928F2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E12-9332-4D74-915D-AD0068EA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76F-9FA4-45CF-BD58-3840434B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A18-75FB-408C-AC52-C2B1BEDA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23F-2008-4E76-9FD4-225E91F5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F60-ADDA-4394-AC48-5222C03A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3BC2-51D0-4F55-8E1C-3584957E9820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4B3A-3F36-4E00-8992-02154E05E6F6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Adicional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strução de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atributos (sl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5252" b="3625"/>
          <a:stretch/>
        </p:blipFill>
        <p:spPr>
          <a:xfrm>
            <a:off x="1476360" y="2852640"/>
            <a:ext cx="2665440" cy="1922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427640" y="2637000"/>
            <a:ext cx="4083120" cy="250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0333-3542-47B8-B46E-9EFCAE35A6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strução de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rel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2565360"/>
            <a:ext cx="7416720" cy="286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B29-FACA-4179-A75B-EB1CEA8F70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strução de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8172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instânci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le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axiom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entenças que são sempre verdadei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fun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x: cálculo de um p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C2F-3FB9-4C92-BE8E-713D3D4C89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883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mplemetação -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909960" cy="514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083F-076C-453A-B777-32E1DAFE4E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strução de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8172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instânci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le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axiom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entenças que são sempre verdadei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fun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x: cálculo de um p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B87-58FA-4442-9EC9-82B831A658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licações de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8172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orno de informação inteligente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áquinas de busca como o Google, usam ontologias para realizar consultas semânticas que melhoram as buscas clássicas por palavras-cha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amento de Linguagem Natur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ntologias como WordNet (hhtp://www.cogsci.princeton.edu/~wn/ são usadas para representar estruturas gramaticais que permitem realizar análise semântica em textos reduzindo a ambiguidade semântica da linguagem natu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05C-E2B6-4E2D-A880-2239AD34E2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licações de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ércio Eletrônic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acionamentos de negócio (compra/venda) entre entidades comerci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ahoo, por exemplo, organiza seu conteúdo em categorias para apoiar seus usuários a navegar de acordo com o conteúdo pesquis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C98-AF19-4EF8-B23C-9E788FB052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tolog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informações complement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F08-F2FB-4E20-884B-690532FECF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ntolog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o vocabulário de um determinado domínio e suas conceitu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D09-9103-4AD0-BD5C-0A79E45DFA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o construir uma ontolog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Determinar o domínio e o al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numerar os termo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Definir classes e hierarqu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Definir atributos e rel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Definir restrições (cardinalidade, tipo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757E-7564-45B1-8F8C-5BF178450B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WL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pt-BR" sz="3600" spc="-1" strike="noStrike">
                <a:solidFill>
                  <a:srgbClr val="000000"/>
                </a:solidFill>
                <a:latin typeface="Verdana"/>
              </a:rPr>
              <a:t>Web Ontology Language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guagem recomendada pelo W3C  (10 de fevereiro de 2004) para representar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WL pode ser utilizada para expressar o significado dos termos em vocabulários e as relações entre e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teg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ramenta para criar e gerenciar ontolog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balha com várias linguagens inclusive OW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tras ferrament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ntoEdit, OilEd, KAON, OntoBu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E10-448D-47B6-8B5F-909B6A4B28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Ferramentas para Construção de Ontologias - Protégé2000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604200" cy="43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F0B-F178-49E4-B909-122BDA7CA9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Ferramentas para Construção de Ontologias - OntoEdi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018120" cy="41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1B9-7D0F-4D9C-9321-3A01EDF116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strução de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er uma ontologia envolve (basicament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r o domínio e esc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: Representação do Vi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opo: Aplicações que sugerem combinações entre vinhos e com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os esco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judar clientes em restaurantes decidirem qual vinho pe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judar compradores de vinhos em garrafei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judar transações entre Produtor do vinho e Revendedor do vi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999-9B5F-43E8-B121-8D83A11C87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strução de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classes na ont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r as classes em uma taxonomia (subclasse-superclas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1873" b="0"/>
          <a:stretch/>
        </p:blipFill>
        <p:spPr>
          <a:xfrm>
            <a:off x="1403280" y="3284640"/>
            <a:ext cx="3816360" cy="260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8E8-5D7B-4DA6-83E9-45E42D3365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3-19T03:43:37Z</dcterms:modified>
  <cp:revision>654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