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D50-B68E-45CF-A555-D6176575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B93-E5AF-4A49-AD4D-D8C28163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F1D-B98E-4231-953F-CA6F7650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3C6-602F-45F7-AEA5-1AF56290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2CCCC-D2ED-4C03-AF78-36231E48B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C72CD-7835-404B-826A-29300FE86D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B9291-97EE-4B93-AF2C-1AAA5DE75C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168A5-5020-4C05-ADC0-06B321D969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636BD-2B2B-46D7-9C1A-8F4F8439BC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C3B9-7BF0-43B1-8A32-8B3751F61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0B207-CA1F-4BE9-A7A8-5A81F53C5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DEB-2816-4ADE-B2FB-4A18AFE8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19531-F3A5-458D-9208-5351B0CBD2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24F68-ADA5-4105-AFE0-6B43524BB7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8D224-B90B-4FEE-B484-7E0DDC5884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82FED-256E-4CFD-B8D2-BCF26091C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1A64B-11B2-4C5F-8616-039042E88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E8A-8A34-4C70-BC29-058451E0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257-8A67-4454-84CB-B22A15D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823-643E-4399-A991-C5536753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73D-00FA-4744-BA02-5C318C75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987-C6BF-45CC-822B-1647088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AB9-CC2B-439C-9006-8897D266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0DF-AE62-4F4F-AAE5-BA0AA0E3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0A71-FB01-4897-AFA5-5017533320C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BFBD-D6B9-4426-A8F9-08A23D96307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5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presentação do Conhecimento    (Adicional 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fos E/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11F-A935-46BA-8F59-95C04BE342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700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os para expressar as relações lógicas definidas pelos operadores E/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s premissas de uma implicação estiverem conectadas por um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les são chamados de nó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gra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s premissas de uma implicação estiverem conectadas por um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les são chamados de nó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gra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grafos E/OU são uma ferramenta importante para descrever os espaços de busca gerados por vários problemas de IA, incluindo aqueles solucionados por provadores de teoremas e sistemas especial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238-384A-4BBF-8D49-4A1BA6712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557360"/>
            <a:ext cx="8244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 e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para integração simbólica de funções matemáticas (MACSY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“quebrar” uma expressão em subexpressões que possam ser integradas independentemente, com o resultado sendo combinado algebricamente numa expressão de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tegração por partes, decomposição da integral de uma soma em uma soma de integr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essa estratégia: nó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graf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decomposição de um problema em subproblemas independen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F59-8DD0-4DC2-B305-ED1F0D65B3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628640"/>
            <a:ext cx="763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 e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 classe de estratég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mplificação de uma expressão através de várias substituições algéb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qualquer expressão pode permitir várias substituições diferentes, cada uma representando uma estratégia independente para a solução, estas estratégias são representadas por nó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A29-D0F7-4D5F-A925-9889708A1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60000">
            <a:off x="2626920" y="1628280"/>
            <a:ext cx="4438800" cy="445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58920" y="609300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fo E/OU de parte do espaço de estados para integrar uma função, de Nilsson 9197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7FF-0F66-4227-BEB3-497102E217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3:42:45Z</dcterms:modified>
  <cp:revision>534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