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75C-9210-433C-9285-3697A6F2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1BC3-72D5-4A41-BF05-84A3C6A2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CA6-4539-494B-A818-7C986E2B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C8E-4517-4F59-B518-FD750FD8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7140-3422-4D63-BA22-46F50ED7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A8F2-23ED-4582-8253-B63A7149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668E-B46C-4BE3-9689-5C1771AC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72E1-3CDE-4075-8A68-7E41273F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ECF0-F871-45D6-9A42-639A76C2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788F-F814-40B8-8E27-D12F5EE8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5746-D036-40DB-8529-200FFCC2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AB0-55B7-4C7B-8F1F-D2AE795F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7BE1-4F67-4117-9360-9BFFC9D8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AA92-A490-4C2B-AF95-3285AA27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0C71-9F82-4898-AE33-60012D46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BCBA-8AB4-4941-8300-B76AACFA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C22C-8124-4077-A090-89343DC6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CACF-3F66-42E8-96E7-E2F22B15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E7E-EE3D-4395-B2ED-49661B19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BBB-6699-46B7-B5B2-4EB812D7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575-FB64-434F-8009-D19C2829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A747-412F-4388-8403-152BFA6D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9A56-0889-47CE-A519-0A54CEEE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CFA-AE23-4DFF-A826-F0015FAE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7050-FDAD-4CFD-8FDB-DA65CDEE75C3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108000" y="6165720"/>
            <a:ext cx="720720" cy="620640"/>
            <a:chOff x="1080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8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8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25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1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32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63640" y="1604880"/>
            <a:ext cx="5545080" cy="434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6756-94F5-4649-BBA6-EBA9CEA9FCB3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927520"/>
            <a:ext cx="4199040" cy="698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356000" y="2923920"/>
            <a:ext cx="403236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22200" y="6192720"/>
            <a:ext cx="720720" cy="620640"/>
            <a:chOff x="322200" y="6192720"/>
            <a:chExt cx="720720" cy="620640"/>
          </a:xfrm>
        </p:grpSpPr>
        <p:sp>
          <p:nvSpPr>
            <p:cNvPr id="57" name=""/>
            <p:cNvSpPr/>
            <p:nvPr/>
          </p:nvSpPr>
          <p:spPr>
            <a:xfrm>
              <a:off x="322200" y="6689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3080" y="6389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357120" y="6192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5600" y="6399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357840" y="6201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Considerações Fina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1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1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1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440" y="189000"/>
            <a:ext cx="7991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11280" y="2060640"/>
            <a:ext cx="43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nteligência Artificial I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144960" y="3219840"/>
            <a:ext cx="652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Verdana"/>
              </a:rPr>
              <a:t>Figura: Capa do Livro Russell, S., Norvig, P. </a:t>
            </a:r>
            <a:r>
              <a:rPr b="1" i="1" lang="pt-BR" sz="900" spc="-1" strike="noStrike">
                <a:solidFill>
                  <a:srgbClr val="000000"/>
                </a:solidFill>
                <a:latin typeface="Verdana"/>
              </a:rPr>
              <a:t>Artificial Intelligence – A Modern Approach</a:t>
            </a:r>
            <a:r>
              <a:rPr b="0" lang="pt-BR" sz="900" spc="-1" strike="noStrike">
                <a:solidFill>
                  <a:srgbClr val="000000"/>
                </a:solidFill>
                <a:latin typeface="Verdana"/>
              </a:rPr>
              <a:t>, Prentice-Ha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71640" y="333360"/>
            <a:ext cx="77151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luridisciplinaridade da 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25600" y="251460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Probl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07120" y="22860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Aplica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36680" y="1828800"/>
            <a:ext cx="9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Taref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95560" y="1828800"/>
            <a:ext cx="124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Inspir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209680"/>
            <a:ext cx="1447920" cy="415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Filosof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Matemá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Proba. e Esta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Cálc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esquis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Econ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Soci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Lingüí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sic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Bi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Automação 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Cont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Computaçã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tradi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2895480"/>
            <a:ext cx="1447920" cy="2863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Busca heurí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Representaçã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do conheciment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e Raciocíni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automá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lanej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Aprendizagem 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Aquisição d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Conhec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Sistemas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Multi-Ag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Reconheciment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de Padr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2666880"/>
            <a:ext cx="1600200" cy="3649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Jo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Sistemas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Especial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ercepçã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Comput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Vis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Processament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  de Vo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Integração d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  Sens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rocessamento d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Linguagem Nat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Robó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Naveg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Manipul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67480" y="2209680"/>
            <a:ext cx="1371600" cy="353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Classific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revis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Monitor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Diagnóstico 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Interpret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Conse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Escal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Aloc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Filtrag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Descob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Cont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Simul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6-06-07T16:36:11Z</dcterms:modified>
  <cp:revision>27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