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AFEC-BA13-4C8D-88ED-643737E1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0C08-F28D-4063-9E67-BC74DF64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AF5C-BE80-41C1-927A-96649E75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E2C-C308-4720-87E5-4CD97885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BB0D1-760E-4E82-A1DC-3CCDC502B9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F2966-4C93-43CA-B1AA-744B3F5D5F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5630E-BE1F-4F3F-96D6-B22E645C91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F1AC1-9805-4BC9-8291-CCBF55000E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E2E77-8E72-4912-A0DD-A98A9F5B0A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C35E8-5577-488A-AAEE-0E40754063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EF978-2BD2-4F63-8810-17A9060357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8570-7297-43E9-B72F-DA9BFDD0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FDA3A-35D2-4281-BE59-BEBC2C937A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25D0A-4853-413F-9A5B-A4B7AA1949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7EFBF-570C-420E-B279-63B5D99ACE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93F8D-2B14-4BF6-932D-75156282A0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9FE14-A735-464F-BD0C-8A60656626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0A65-4F8F-448F-97B3-1856F55A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3CFC-456E-40FF-AACC-EDEECAA7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5749-B839-49C3-BB2C-5C03FE4F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CF86-DE15-4078-BED6-A02807FF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91D6-86A1-4647-A4A4-451BE2D4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2A63-455E-4E0C-B9D5-89E652C4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30DF-43DE-45AE-94E4-DDC6B4CE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A65E-B64D-4433-8D72-222307FF42EF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76DE-D52F-46E7-A0F8-CBC2686F495C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solução de Problemas    (Busca - Prolo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42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% Implementa a Busca em Larg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solve_largura(Inicio, Solucao)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usca_largura( [ [Inicio] ], Soluca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usca_largura( [ [N|Caminho] | _], [N|Caminho]):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jetivo(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usca_largura([ [N|Caminho]| Caminhos ], Solucao)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agof([M,N| Caminho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s(N,M),not(membro(M,[N|Caminho]))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ovosCaminhos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c(Caminhos, NovosCaminhos, Caminhos1), !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usca_largura(Caminhos1, Soluca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usca_largura(Caminhos, Soluca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6165720"/>
            <a:ext cx="7848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agof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/3 (findall/3 e setof/3) - Encontra um conjunto de soluções ou instâncias de um termo tal que uma met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log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seja verdadei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em Largura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2C19-C139-4ABA-A55E-B849B61F71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Busca em Largura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1066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a,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a,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b,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b,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c,f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c,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11280" y="1871640"/>
            <a:ext cx="1371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d,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e,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e,j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f,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tivo(j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tivo(f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924360" y="2492280"/>
            <a:ext cx="4572000" cy="2590560"/>
            <a:chOff x="3924360" y="2492280"/>
            <a:chExt cx="4572000" cy="2590560"/>
          </a:xfrm>
        </p:grpSpPr>
        <p:sp>
          <p:nvSpPr>
            <p:cNvPr id="173" name=""/>
            <p:cNvSpPr/>
            <p:nvPr/>
          </p:nvSpPr>
          <p:spPr>
            <a:xfrm>
              <a:off x="6210360" y="2492280"/>
              <a:ext cx="45720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67360" y="310176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57880" y="378756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00880" y="378756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77040" y="310176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43880" y="3863880"/>
              <a:ext cx="457200" cy="45720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39160" y="378756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43880" y="45496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58080" y="4549680"/>
              <a:ext cx="457200" cy="45720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24360" y="462564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762080" y="348264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48240" y="348264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229280" y="4168440"/>
              <a:ext cx="304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81760" y="416844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6972480" y="3482640"/>
              <a:ext cx="380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58280" y="3482640"/>
              <a:ext cx="457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72480" y="4321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91040" y="45496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219640" y="4168440"/>
              <a:ext cx="457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372280" y="279684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67560" y="279684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1E81-228D-4410-9875-7F8FD0AD06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258560" y="1844280"/>
            <a:ext cx="1066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a,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a,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b,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b,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c,f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c,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11280" y="1871640"/>
            <a:ext cx="1371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d,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e,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e,j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f,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tivo(j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tivo(f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924360" y="1700280"/>
            <a:ext cx="4572000" cy="2590560"/>
            <a:chOff x="3924360" y="1700280"/>
            <a:chExt cx="4572000" cy="2590560"/>
          </a:xfrm>
        </p:grpSpPr>
        <p:sp>
          <p:nvSpPr>
            <p:cNvPr id="197" name=""/>
            <p:cNvSpPr/>
            <p:nvPr/>
          </p:nvSpPr>
          <p:spPr>
            <a:xfrm>
              <a:off x="6210360" y="1700280"/>
              <a:ext cx="45720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67360" y="230976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57880" y="299556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00880" y="299556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77040" y="230976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43880" y="3071880"/>
              <a:ext cx="457200" cy="45720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39160" y="299556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43880" y="37576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58080" y="3757680"/>
              <a:ext cx="457200" cy="45720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24360" y="383364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762080" y="269064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48240" y="269064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229280" y="3376440"/>
              <a:ext cx="304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81760" y="337644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6972480" y="2690640"/>
              <a:ext cx="380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58280" y="2690640"/>
              <a:ext cx="457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72480" y="3529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91040" y="37576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219640" y="3376440"/>
              <a:ext cx="457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372280" y="200484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67560" y="200484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87280" y="479736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?- resolve_largura(a,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32000" y="522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 = [f,c,a]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 = [j,e,b,a]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Busca em Largura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5A24-AA89-4E63-9285-414382F606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1773360"/>
            <a:ext cx="7128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lementação em Pro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em Profund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em Larg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E420-3AAC-4F7D-B407-932FF8A330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em Profundidade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7151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marL="5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presentação em Prolo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encontrar um caminho de soluçã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de um dado nó para algum nó objetivo, tem-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-42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 nó objetivo, entã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[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-42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há um nó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ucessor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al que há um caminh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l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algum nó-objetivo, entã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[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l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_profundidade(N,[N]) :- objetivo(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_profundidade(N,[N|Sol1]) :- s(N,N1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_profundidade(N1,Sol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098E-DB6C-4D35-BFB7-0D778A6AF0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201600"/>
            <a:ext cx="8172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Busca em Profundidade - 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1066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a,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a,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b,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b,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c,f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c,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11280" y="1871640"/>
            <a:ext cx="1371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d,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e,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e,j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(f,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tivo(j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tivo(f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176720" y="1846440"/>
            <a:ext cx="4572000" cy="2590560"/>
            <a:chOff x="4176720" y="1846440"/>
            <a:chExt cx="4572000" cy="2590560"/>
          </a:xfrm>
        </p:grpSpPr>
        <p:sp>
          <p:nvSpPr>
            <p:cNvPr id="111" name=""/>
            <p:cNvSpPr/>
            <p:nvPr/>
          </p:nvSpPr>
          <p:spPr>
            <a:xfrm>
              <a:off x="6462720" y="1846440"/>
              <a:ext cx="45720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19720" y="24559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10240" y="31417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53240" y="31417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29400" y="24559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96240" y="3218040"/>
              <a:ext cx="457200" cy="45720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91520" y="31417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96240" y="390384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10440" y="3903840"/>
              <a:ext cx="457200" cy="45720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76720" y="3979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5014440" y="283680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00600" y="283680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481640" y="3522600"/>
              <a:ext cx="304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34120" y="352260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7224840" y="2836800"/>
              <a:ext cx="380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10640" y="2836800"/>
              <a:ext cx="457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24840" y="3675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43400" y="390384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5472000" y="3522600"/>
              <a:ext cx="457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5624640" y="215100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19920" y="215100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187280" y="4869000"/>
            <a:ext cx="43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busca_profundidade(a,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530064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=[a,b,e,j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=[a,c,f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0F3B-80F2-4F9F-B0B2-287C85CC73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em Largura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presentação em Prolo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é tão fácil de programar em Prolog quanto à busca em profund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o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é necessário manter um conjunto de nós candidatos alternativos e não apenas um nó candidato como na busca em profund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onjunto de nós candidatos é constituído por todos os nós de um dado nível da árvore de bus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e conjunto de caminhos candidatos não é suficiente caso se deseje extrair um caminho de solução do processo de bus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o invés de manter um conjunto de nós candidatos, deve-se manter um conjunto de caminhos-candi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4D3-D0E8-4702-AA0A-5B9529460B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em Largura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predic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usca_largura(Caminhos,Soluca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satisfeito se algum caminho de um conjunto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minh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andidatos pode ser estendido até um nó objetivo.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oluçã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um destes caminhos estend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Implement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minh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erá representado por uma lista e cada caminho candidato será uma lista de nós na ordem in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abeça de um caminho será o nó mais recentemente gerado e o último elemento será o nó inicial da bus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busca é iniciada com um conjunto de candidatos com um único elemento:  [ [NoInicial]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71A-FC30-434B-BEA3-2FFA955CB1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em Largura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ado um conjunto de caminhos candida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o primeiro caminho contém um nó-objetivo como cabeça, estão este caminho é uma solução para o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so contrário, remove-se o primeiro caminho do conjunto de candidatos e gera-se o conjunto de todas as possíveis extensões de um passo deste caminho, acrescentando-se estas extensões ao final do conjunto de candidatos e executa-se a busca em largura neste conjunto de caminhos candidatos atual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C302-3646-41C5-B450-F5ED3A1FE5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em Largura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8483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23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 Conjunto de Candidatos inici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[[a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3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. Gera extensões de [a]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[ [b,a], [c,a]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3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. Remove o 1</a:t>
            </a:r>
            <a:r>
              <a:rPr b="0" lang="pt-BR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aminho candidato, [b,a], e gera extensões deste caminho, colocando-as no final do conjunt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[ [c,a], [d,b,a], [e,b,a]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3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. Remove [c,a] e acrescenta sua extensão ao final do conjunto de candidatos, produzin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[ [d,b,a], [e,b,a], [f,c,a], [g,c,a]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3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. Em passos posteriores, [d,b,a] e [e,b,a] são estendidos e o conjunto de candidatos torna-se: [ [f,c,a], [g,c,a], [h,d,b,a], [i,e,b,a], [j,e,b,a]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3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. O processo de busca encontra [f,c,a] que contém o nó-objetiv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Portanto, este caminho é apresentado como uma solu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292720" y="1125360"/>
            <a:ext cx="3352320" cy="1752840"/>
            <a:chOff x="5292720" y="1125360"/>
            <a:chExt cx="3352320" cy="1752840"/>
          </a:xfrm>
        </p:grpSpPr>
        <p:sp>
          <p:nvSpPr>
            <p:cNvPr id="143" name=""/>
            <p:cNvSpPr/>
            <p:nvPr/>
          </p:nvSpPr>
          <p:spPr>
            <a:xfrm>
              <a:off x="6968880" y="1125360"/>
              <a:ext cx="335160" cy="3092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30800" y="1537560"/>
              <a:ext cx="335160" cy="309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83680" y="2001600"/>
              <a:ext cx="335160" cy="309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22120" y="2001600"/>
              <a:ext cx="335160" cy="309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51520" y="1537560"/>
              <a:ext cx="335160" cy="309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60200" y="2053080"/>
              <a:ext cx="335160" cy="30924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09880" y="2001600"/>
              <a:ext cx="335160" cy="309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60200" y="2517120"/>
              <a:ext cx="335160" cy="309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7280" y="2517120"/>
              <a:ext cx="335160" cy="30924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92720" y="2568960"/>
              <a:ext cx="335160" cy="309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907240" y="1795320"/>
              <a:ext cx="223200" cy="20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10160" y="1795320"/>
              <a:ext cx="223200" cy="20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5515920" y="2259360"/>
              <a:ext cx="223560" cy="30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01120" y="2259360"/>
              <a:ext cx="16740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7527600" y="1795320"/>
              <a:ext cx="27900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30880" y="1795320"/>
              <a:ext cx="33516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27960" y="2362680"/>
              <a:ext cx="0" cy="15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75000" y="2517120"/>
              <a:ext cx="335160" cy="309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6242400" y="2259360"/>
              <a:ext cx="33516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354000" y="1331640"/>
              <a:ext cx="614520" cy="20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04040" y="1331640"/>
              <a:ext cx="558720" cy="20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FAAF-1B43-460C-9029-B336069AAE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ação em Prolog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% Determina se elemento X é membro de uma 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mbro(X,[X|C]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mbro(X,[_|C]) :- membro(X,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% Anexa duas listas produzindo uma terc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c([ ],L,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c([X|L1],L2,[X|L3]) :- conc(L1,L2,L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em Largura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5573-D631-4C8D-9429-99FE063981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2-06T08:52:04Z</dcterms:modified>
  <cp:revision>421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