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872-2E62-4E68-9DF6-AB9910E0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E90-8A14-4B2A-A647-8C809FDE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7DB-2D6C-4434-A3DE-546588D8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6BB-26CE-4C2D-A464-83780A46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EFE9-3F54-4245-972A-04837988B6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00E7-D025-40B2-86EB-28400AB30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A66DA-201D-4A6F-B1ED-742582813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FB5EF-DBA7-4A86-B9A2-6EC55C307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64814-B06E-49D3-ADAF-EB79E051D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D7549-E24D-4962-B061-64E7C05F15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F0AB-9EE2-4F9B-803E-2457E1B37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EEA-9AF4-4E4D-91EA-18AC1DA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DC24C-4237-4308-9DB9-BEE485145F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4E423-E8E6-4A04-9F89-BEDDAFD6B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4A79B-029C-4CC3-9634-C75AA8BE5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C631E-5588-4BA6-A078-D517884FC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EA6CD-1E0A-4CF4-8684-88B4F5FD2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E5D-08F1-4A31-AC3E-CB176B0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DC2-742B-4A13-8F20-CB6408B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CAE-18C3-44E0-8167-4054C0DB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CF9-3EDF-47A0-9AC2-71A42B31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383-0387-4EDD-9DF7-98316DA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17A-680B-4EB6-837B-8FAAC93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EE6-ADC4-4D6A-9908-D5085E8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2958-8D55-4F29-9921-218615A1764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7BA-E2FA-48F0-A1BD-EAAFBC56D26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A 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ção Fraca de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nalidade restrita a si próprio (egoísmo ou autism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nomia restrita: controle de seu estado in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ção Forte de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ntalísticas: postura intencional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-mecanicista e útil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emprego de crenças, desejos e intenções/escolhas (BD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nestidade e senso de equ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nalidade e aprendizado/adapt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complexos e expl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1E2-146B-4088-8A07-7F9FD261B4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visão de soluções em IA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572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AD se divide em três sub-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istribuída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ag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A Paral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755-AE26-467A-BD61-75E4350478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olução Distribuída de Problemas (RD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concebidos para solucionar um determinado problema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ação entre agentes é realizada seja por troca de mensagens, seja por meio do compartilhamento de dados com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148-A77F-4A16-A802-2247EACDC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olução Distribuída de Problemas (RD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executados de modo conco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cooperam, dividindo entre si as diversas partes do problema orig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a no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role glob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DFF-F298-4156-9358-9A1BABBC6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D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9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752480"/>
            <a:ext cx="2057400" cy="1067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59280" y="4941720"/>
            <a:ext cx="3809880" cy="1831680"/>
            <a:chOff x="3059280" y="4941720"/>
            <a:chExt cx="3809880" cy="1831680"/>
          </a:xfrm>
        </p:grpSpPr>
        <p:sp>
          <p:nvSpPr>
            <p:cNvPr id="133" name=""/>
            <p:cNvSpPr/>
            <p:nvPr/>
          </p:nvSpPr>
          <p:spPr>
            <a:xfrm>
              <a:off x="3059280" y="4941720"/>
              <a:ext cx="3809880" cy="18316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0160" y="570456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02280" y="524664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3680" y="608652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9480" y="578124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45280" y="608652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8960" y="517068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1080" y="562860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13360" y="1964160"/>
            <a:ext cx="17823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são 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648320"/>
            <a:ext cx="8001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9640" y="201060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cep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2440" y="513468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371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19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5640" y="2286000"/>
            <a:ext cx="167652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209680"/>
            <a:ext cx="15238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197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F37-9F68-4498-AD42-4F161A9333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agentes (SMA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concebidos independentemente de um problema particular a ser resolv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cepção das interações também é realizada independentemente de uma aplicação-alvo partic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um controle global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62C-1D3A-4242-87EC-6B91D96F9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43000" y="1705680"/>
            <a:ext cx="8001000" cy="4675680"/>
            <a:chOff x="1143000" y="1705680"/>
            <a:chExt cx="8001000" cy="4675680"/>
          </a:xfrm>
        </p:grpSpPr>
        <p:sp>
          <p:nvSpPr>
            <p:cNvPr id="154" name=""/>
            <p:cNvSpPr/>
            <p:nvPr/>
          </p:nvSpPr>
          <p:spPr>
            <a:xfrm>
              <a:off x="655308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rganiza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52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Intera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059280" y="4476600"/>
              <a:ext cx="3809880" cy="1904760"/>
              <a:chOff x="3059280" y="4476600"/>
              <a:chExt cx="3809880" cy="1904760"/>
            </a:xfrm>
          </p:grpSpPr>
          <p:sp>
            <p:nvSpPr>
              <p:cNvPr id="158" name=""/>
              <p:cNvSpPr/>
              <p:nvPr/>
            </p:nvSpPr>
            <p:spPr>
              <a:xfrm>
                <a:off x="3059280" y="4476600"/>
                <a:ext cx="3809880" cy="1904760"/>
              </a:xfrm>
              <a:prstGeom prst="ellipse">
                <a:avLst/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40160" y="527004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02280" y="479376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73680" y="566712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59480" y="534960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45280" y="566712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68960" y="471456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19084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143000" y="4038480"/>
              <a:ext cx="8001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9640" y="17056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cep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52440" y="452520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sol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38098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7C1-D370-43BA-805A-F374F56D92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Paralel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35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ntra-se no desenvolvimento de algoritmos, linguagens e arquiteturas de computador paral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rabalhos de pesquisa em IAP procuram resolver os problemas de desempenho dos sistemas de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532-607B-4325-ACCF-584F3AC30D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D - Quando usa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pl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dir e conqui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 dos 8 números, ordenaçã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intrinsecamente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s com personagens, administração de sistemas, controle de tráfeg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exigindo rápido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busca na internet, grupo music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 domínios de conhecimento ou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gente para cada tipo de conhecimento/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sina 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CEB-D9FB-4141-905E-89447D90B5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e Protocolos de Agent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850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ução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/C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rolog, Smalltalk e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unicação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L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nt Communication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ceu de uma tentativa de definir um padrão para a comunicação de ag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QML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nowledge Query and Manipulation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linguagem e protocolo para trocar informações e conhec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IF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nowledge Interchange Form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descrita em três camadas: caracteres e expres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ransferência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P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nt Transfer Protoco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417-4DF2-4CAB-B21A-E415802FF2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A 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AC3-E428-47CF-A366-EB9C64750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46200"/>
            <a:ext cx="76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ção de dados e planejamento distrib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Ds distribuídos e S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, equilíbri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peração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mada de decisão distribu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al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gnóstico e monit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: visão e trajet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po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e eletr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Tele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ência a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ulação de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eração, cartografia, im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E7A-60CB-420F-9D81-C9439815AC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em IA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sência de metodologias de projeto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rteza e conf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 e linguagens ainda não sedi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agem de outros ag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veamento cognitivo/ 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informações devem ser globais e quai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executar, planejar e coorde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: coerência e cooperação, através 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rden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forte ligação com planejamento e escalona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B9F-9DA9-41CC-AA7F-FCA200EB88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734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significa dizer que um determinado problema pode ser melhor resolvido com uma abordagem multiag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D93-E534-4239-B0F2-EC17931DF3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Cláss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IA clássica, um sistema inteligente correspondia a uma metáfora de 1 pesso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o pens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uma máquina pen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uma máquina sabe alguma coi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ou entidade resolve 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omizad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trita a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de sua própria racion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11E-B540-4A44-9990-9B2E03EA3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497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opulaçã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ônomos que podem intera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a organizaçã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ça a ação e a interação entre 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da aos macro aspectos dos agentes: agentes enquanto socie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irada também em lingüística, sociologia, economia,filosofia, biologia e ... Redes Neurai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D8E-CFD9-4A8C-AEE1-183016CB1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AD parte do princípio de que ter um número de indivíduos maior que um é útil quando se pretende resolver problemas grandes e complex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agentes podem interagir entre si para atingir o objetivo para o qual o sistema foi conceb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C09-0D16-4627-9C93-78B9D5E99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e S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378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ução 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1640" y="1599840"/>
            <a:ext cx="378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conexão de máquinas, sistemas, red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terogene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tilhament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Distrib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pa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23D-EA21-4EC7-AC8D-8ABDF9DFCA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m fa(e)z um pouco, e... somos 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proveitamos muito o trabalho alh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net nos faz trabalhar de forma mais inteligente (nenhum componente é crít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: Há alguns cuja solução é inerentemente distribuída ou fica mais fácil distribui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os centralizados ou distribuídos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82A-0038-4855-8659-28D39DCE14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 (IAD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IA paralela, nem Sistemas Distribuí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 gru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través de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p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iferent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interatividade e capacidade de comun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- meios que garantam a convergência: Estruturas de autoridade e control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vidi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e conhecimento 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A89-B421-46ED-A237-01F00786E4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tivações de 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nços científicos: grandes redes heterogêneas abertas, concorrência, sistemas distribuídos, biblioteca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dependências compl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há controle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ão de recursos e de racion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grandes e complexos,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s disti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ões(IR), Mineração de D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e sistemas naturais e sociais, jogo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848-1E72-4BEE-AFDC-84890D49CC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1-07T16:46:03Z</dcterms:modified>
  <cp:revision>66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