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0A8-57FE-4200-808D-ACB24B6B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295-F672-4157-8D01-D98ADB5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4BA-EBC5-4889-9462-8D51B7BF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A46-584A-4298-8882-8D786745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ED81F-04FB-4215-A626-49370F55BD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2B2B7-3FCB-4BA3-8340-B790B1D7DE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E15C3-6104-4C07-A54E-59498CCB4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82635-7715-4396-8E4B-8A5C038603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FDB41-01BA-40B0-9B18-5505323CDD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247AD-FA8D-48EB-B177-19FCAA76BF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40E3B-120F-4989-BA1B-709370FAEE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8F5-4FD1-4182-A0D3-3CC169F8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98DE5-D936-4C4E-B8E6-C4E4C419DD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E4A23-3BAD-4AA5-9E36-5F1B154E68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3901E-3D0D-4992-8B0E-74BEF6096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B74F1-D046-4949-A841-99A77E07FC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D5BD8-9AF0-4FD5-9242-C95D8B911A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8B8-9D5D-409C-89F3-A8250C57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8802-79CD-4789-956A-7D9A7B86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E326-55F5-4262-9819-E4895182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9F6-8333-4317-9447-146AFC7A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86D-C349-4BC5-8664-F5779898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A87-F093-42A8-9DA6-6C547D81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255-311E-4733-B878-B3B31ACD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A208-4F58-4BA7-9DCA-9F6DDCC53AA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49D6-7794-4AE9-976D-62AB85189A2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826920" y="6308280"/>
            <a:ext cx="649440" cy="476640"/>
            <a:chOff x="826920" y="6308280"/>
            <a:chExt cx="649440" cy="476640"/>
          </a:xfrm>
        </p:grpSpPr>
        <p:sp>
          <p:nvSpPr>
            <p:cNvPr id="56" name=""/>
            <p:cNvSpPr/>
            <p:nvPr/>
          </p:nvSpPr>
          <p:spPr>
            <a:xfrm>
              <a:off x="826920" y="6689880"/>
              <a:ext cx="64944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9000" y="6459480"/>
              <a:ext cx="35460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8240" y="6307920"/>
              <a:ext cx="35352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6466680"/>
              <a:ext cx="3542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8960" y="6315480"/>
              <a:ext cx="35568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, Ilustração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des Neurais Artificiais e Operações Booleana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56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operações booleanas (OU, E, OU_EXCLUSIVO) podem ser implementadas por Redes Neurais Artificiais e ilustram o comportamento destas, em especial 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ceptr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erceptron Multi-Cam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duas classes de problem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envolve conjuntos linearmente separáveis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lida com os não linearmente separ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38480" y="3789360"/>
            <a:ext cx="1685880" cy="2603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67800" y="6437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</a:rPr>
              <a:t>Perceptr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076720" y="3789360"/>
            <a:ext cx="3240360" cy="25225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497920" y="6437160"/>
            <a:ext cx="25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Verdana"/>
              </a:rPr>
              <a:t>Perceptron Multi-Cam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7B1-DE7F-4488-B9C4-8AC8B12FA4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557000"/>
            <a:ext cx="756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rceptr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erceptron pode simular algumas portas lógicas. Para tanto, será utilizado o conjunto de treinamento abaixo, o qual, na verdade, é uma tabela-verd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rquitetura utilizada para a construção do perceptr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mada de entrada (dois neurônios), é necessário apenas um neurônio na saída, o qual responderá com os valores 0 ou 1, de acordo com a tabela-verdade para 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635280" y="3141720"/>
            <a:ext cx="4176720" cy="169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1210-53AA-45B6-BD14-A0E53BE97E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765080" y="1556640"/>
            <a:ext cx="573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aço de decisão para o Perceptron em quest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4392360" cy="3454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32000" y="5732280"/>
            <a:ext cx="7199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 pares (0,1); (1,0); (1,1) ficaram separados pela ret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 (0,0). Como cada par representa uma entrada à rede, esta representação gráfica ilustra o processo que ocorre durante o treinamento: a reta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responsável por separar as classes, é deslocada até alguma posição que defina corretamente a divisão do espaço de entrad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96E-A23A-4FA8-AD54-4925F9E877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OU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1058400" y="1628280"/>
            <a:ext cx="78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quema de um Perceptron após o treinamento mostrando os pesos e os bias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4032360" cy="2628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87280" y="5376240"/>
            <a:ext cx="763272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Perceptron tembém pode ser treinado para a porta E, para isto deve-se apenas alterar o conjunto de treinamento para a tabela-verdade da função E, e o Perceptron responderá de forma correta. As operações E, OU e também as portas NÃO E e NÃO OU, que são combinações das portas NÃO-E e NÃO-OU, que funcionam como a inversa das funções E e OU, são funções aplicadas a um espaço linearmente separável, como foi mostrado no gráfico do espaço de decisão do Perceptr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32720" y="2346480"/>
            <a:ext cx="2087280" cy="222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bias" - neurônio especial da camada de entrada que serve para aumentar os graus de liberdade, permitindo uma melhor adaptação, por parte da rede neural, ao conhecimento à ela forneci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756-4ABA-4509-AC54-BA92937EA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eração OU-EXCLUSIVO (XOR), produz um espaço de entrada não-linearmente separável e, portanto, não pode ser simulada por um Perceptr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operação XOR demonstra a capacidade do Perceptron Multi-Camadas em solucionar problemas não-linearmente separáveis.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292720" y="3716280"/>
            <a:ext cx="3097080" cy="2751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476360" y="3716280"/>
            <a:ext cx="331164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9025-04CF-4F80-A777-98D9FD33A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treinamento utilizado é mostrado em detalhes (em lugar de 0 é utilizado 0,1 e, em vez de 1, 0.9):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577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600360" cy="31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BE8-6D3B-4D30-B422-CCF5C5D304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ado final da rede após o treinamento: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mulando Portas Lógicas com Redes Neurais (Função XOR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4680000" cy="31194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16000" y="5802120"/>
            <a:ext cx="7632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 esta arquitetura simples do Perceptron Multi-Camadas, a rede responde corretamente a problemas não-linearmente separáveis. Porém, para casos mais complexos, surge a necessidade de uma modelagem específica, podendo ser utilizadas mais unidades e mais camadas, com o objetivo de que se alcance o resultado esperad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ED87-8B55-4C2C-9DB7-B86A425313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lust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0BF-214F-4CF4-9A99-C92F8494DE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1628640"/>
            <a:ext cx="756144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trutura do neurônio art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utura de um neurônio é formada por um conjunto de links de conexão com outros neurônios (sinap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links podem s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 (dentritos): há um peso associado a cada link (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aída (axônio): o peso da saída é dado por uma função de ati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ns neurônios podem ser conectados diretamente ao ambiente ex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função de transferência que dispara 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9284-48AC-488F-A665-4CD6DB2CA3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a soma dos pesos dos links de entrada (função de entrada) atingem um certo limiar o neurônio é disparado ativando a saída (função de ativ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entrada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s entrada =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função ati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 saída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520720" cy="1439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58920" y="5229360"/>
            <a:ext cx="748980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ção de transferência nos neurônios biológicos seria basicamente zero ou um, ou seja, há pulso sendo transmitido pelo axônio (um) quando a somatória suplanta um certo limiar, ou não há pulso sendo transmitido (zero) quando estiver abaixo do limiar. Ne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 de função de transferência tem-se a funçã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2B0-97E7-496C-9DE7-0E11B11BF4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7200720" cy="416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16000" y="1628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2276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Funções de Ativa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3C2-EF41-4528-8895-E1AAA553A4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e de memória associativa com pesos fi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nde a associar valores de entrada com valores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triz de pesos é determinada pela multiplicação do vetor de entrada com o de sa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360" y="3716280"/>
            <a:ext cx="3094200" cy="1068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76360" y="5084640"/>
            <a:ext cx="54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vetores de saída no conjunto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= vetor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 = índice dos link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= índice do neurônios de saí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 índice do conjunto de trein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15C-5B37-43D2-84CD-019811008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N deve aprender as seguintes associ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o - Liter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oven - Mú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ens - Pin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ção binária dos va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ro [1,-1,1,-1,1] = 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tura [1, -1, 1, -1] = a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hoven [1,1,1,-1,-1] = b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sica [1,1,-1,-1] = a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ens [1,1,-1,-1,1] = b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tura [1,-1,-1,1] = a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0000" y="1773360"/>
            <a:ext cx="338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áveis: m = 1,..,3; j=1,..,5; i=1,..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como função de transferência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W - alguns 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92720" y="4076640"/>
            <a:ext cx="3600360" cy="19242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1564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D88-61C4-409C-8E9D-2CEE395848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403280" y="1773360"/>
            <a:ext cx="7080120" cy="4254480"/>
            <a:chOff x="1403280" y="1773360"/>
            <a:chExt cx="7080120" cy="425448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1474560" y="1773360"/>
              <a:ext cx="7008840" cy="42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03280" y="5661000"/>
              <a:ext cx="86364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3FD-C5CC-47BA-881A-3B048D3CCA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513920" cy="3798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258920" y="1557360"/>
            <a:ext cx="65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oritmo de aprendizado supervisionado para redes de uma c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 - Ilustr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5C97-23D7-44B9-844E-C10D1F4FE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9-01T10:21:54Z</dcterms:modified>
  <cp:revision>68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