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gif" ContentType="image/gif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209E-76A3-4EF4-94CE-F92FEF57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9F1-3FBB-45EB-9E69-5993B7F4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EBDD-A0F3-4E4B-83C3-FA4CA4E0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E643-4EAE-4408-96A6-6BBFB8DD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AF83A-8295-45EC-B42A-8DBAAF6F04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F12F9-9BAD-4B34-AE3B-97777BB64D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FAC48-EB6E-45B0-923A-0CFC54FD1F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CE96C5-A65D-45EC-8ADF-D1BCE49D94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D3CDB-BD4E-471D-9ABF-435D4282F1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8CBDA-0E1B-40C5-92E9-5D55A3CB9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95669-0796-42F1-9306-063621AF17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2573-62F8-4413-9028-689E278C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04F48-7644-446C-B6B5-18880A89CD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A7D14-4E85-4ED0-ADC4-7431721646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0714A0-A41D-44F1-BC2B-810DD074C01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4440E8-C9E4-471D-B17B-1975F5388C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37B94-7EAC-4261-972D-3417F34AB4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5F73-5FB3-4F4A-A90E-ABCF93AB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158-D192-4BFC-B001-F5DA0F75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5F1C-751C-4457-BF78-72CCE306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3D3A-5947-45E6-A964-AA65F1BDE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A0C-98C8-4F04-A643-DCCA69CC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AFA1-DC9C-46B5-9FFF-EF961BA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A4F-F882-433B-B4D9-25BB57CA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7B6D-2A00-4E90-ACD2-3502E03633B3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55D-D9DF-42B9-AF0E-E58E49D6F4C3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08280"/>
            <a:ext cx="649440" cy="476640"/>
            <a:chOff x="826920" y="6308280"/>
            <a:chExt cx="649440" cy="476640"/>
          </a:xfrm>
        </p:grpSpPr>
        <p:sp>
          <p:nvSpPr>
            <p:cNvPr id="56" name=""/>
            <p:cNvSpPr/>
            <p:nvPr/>
          </p:nvSpPr>
          <p:spPr>
            <a:xfrm>
              <a:off x="826920" y="6689880"/>
              <a:ext cx="64944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89000" y="6459480"/>
              <a:ext cx="35460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8240" y="6307920"/>
              <a:ext cx="35352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91160" y="6466680"/>
              <a:ext cx="3542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8960" y="6315480"/>
              <a:ext cx="35568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d.com/neurosolutions/products/ns/nnandnsvideo.html" TargetMode="External"/><Relationship Id="rId2" Type="http://schemas.openxmlformats.org/officeDocument/2006/relationships/hyperlink" Target="http://fbim.fh-regensburg.de/~saj39122/begrolu/kohonen.html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neuron.eng.wayne.edu/software.html" TargetMode="External"/><Relationship Id="rId2" Type="http://schemas.openxmlformats.org/officeDocument/2006/relationships/hyperlink" Target="http://neuron.eng.wayne.edu/java/Perceptron/New38.html" TargetMode="External"/><Relationship Id="rId3" Type="http://schemas.openxmlformats.org/officeDocument/2006/relationships/hyperlink" Target="http://neuron.eng.wayne.edu/java/Perceptron/New38.html" TargetMode="External"/><Relationship Id="rId4" Type="http://schemas.openxmlformats.org/officeDocument/2006/relationships/hyperlink" Target="http://neuron.eng.wayne.edu/bpImageCompression9PLUS/bp9PLUS.html" TargetMode="External"/><Relationship Id="rId5" Type="http://schemas.openxmlformats.org/officeDocument/2006/relationships/hyperlink" Target="http://neuron.eng.wayne.edu/Hamming/voting.html" TargetMode="External"/><Relationship Id="rId6" Type="http://schemas.openxmlformats.org/officeDocument/2006/relationships/hyperlink" Target="http://www.jooneworld.com/" TargetMode="External"/><Relationship Id="rId7" Type="http://schemas.openxmlformats.org/officeDocument/2006/relationships/hyperlink" Target="http://www.jooneworld.com/docs/sampleEditor.html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Aprendizag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Parte I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7920" y="1599840"/>
            <a:ext cx="7701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unida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alc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soma ponderada de suas entr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pois, aplica uma </a:t>
            </a: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função de ativ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 essa soma para derivar a 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905120" y="2343240"/>
                <a:ext cx="17794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1833480" y="4292640"/>
                <a:ext cx="3059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F8F-B4C9-4C5A-9931-6897BD64D6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 função de ativação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projetada para atender a dois propós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ja-se a unidade “ativa” (próxima de =1) quando as entradas “corretas” forem recebidas e “inativa” (próxima de 0) quando as entradas “erradas” forem rece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tivação precisa ser não-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63640" y="4076640"/>
            <a:ext cx="5888160" cy="2569320"/>
            <a:chOff x="1763640" y="4076640"/>
            <a:chExt cx="5888160" cy="256932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1763640" y="4076640"/>
              <a:ext cx="5799240" cy="221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340000" y="6308640"/>
              <a:ext cx="53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função de limiar (a)                     função sigmóide 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604-8345-4688-BA28-F554D59ABC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ais de entrad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0 ou 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ores re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ad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e modelo, o nível de ativida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dado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..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aída y é dada p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1, 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0, 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eurônio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821-D3CF-4BFA-A0D6-65F3900160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bem simplific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ponha que você está em uma encruzilhada com quatro caminhos a seguir, e precisa escolher o mais fác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você nunca andou em nenhum deles, o peso de cada um é 1, ou seja, tanto faz escolher qualquer 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cê escolhe um deles, e anda até descobrir um lago em que deve atravessar a nado. Pela dificuldade, você deve aumentar o peso deste caminho para 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utra pessoa chegar na mesma encruzilhada, saberá que o caminho de maior peso é o mais difícil a segui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rede neural 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ren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a determinar os pesos de acordo com as movimentações entre as paradas.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5483-13EE-43C2-9D34-EBAD9B465A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773360"/>
            <a:ext cx="7715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de Neural - Organização em Camadas (Exemplo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366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737320" cy="3257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7E64-1B53-4252-BFBE-AF8563979B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camadas são classificadas em três grupos (usualment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ada de Entr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de os padrões são apresentados à r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adas Intermediárias ou Escondid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de é feita a maior parte do processamento, através das conexões ponderadas; podem ser consideradas como extratoras de característica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ada de Saí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de o resultado final é concluído e apresen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44E-4396-4B10-8E27-2E190E29B3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des Neurais:  Classificação dos Modelos Conex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relação à estrutura da re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de uma única ca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de múltiplas ca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do tipo uni-dire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do tipo recor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com estrutura estática (não altera a sua estru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com estrutura dinâmica (altera a estrutu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com conexões de ordem sup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CBE2-C0F9-44E3-B6D5-6EFFA0EB7E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struturas de re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s acíclicas ou redes de alimentação dire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presentam uma função de sua entrada atu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ÃO têm nenhum estado interno além dos pe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es cíclicas ou redes recor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tilizam suas saídas para realimentar suas próprias entrad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íveis de ativação da rede formam um sistema dinâm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 atingir um estado estável ou exibir oscil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50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resposta da rede a uma determinada entrada pode depender de entradas anteriores (como um flip-flop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1842-9F43-4901-BFF3-6BA9F0D620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de alimentação dire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 uma função de suas entr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s os valores de entrada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rede calc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g(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,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4,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0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= g(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,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(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,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+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4,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(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,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+ W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,4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700360" y="2276640"/>
            <a:ext cx="4400640" cy="225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B67-D4B6-430E-B8EC-4F68AEF464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de alimentação diret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ressando a saída de cada unidade oculta como uma função de suas entradas percebe-se 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função das entradas da re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esos da rede atuam com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arâmetr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ssa fun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ede calcula h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justando os pesos muda-se a função que a rede represen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endizag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DF10-FFA2-49E9-962B-8C068C91EB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es Ne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A2A1-DD39-4AEA-ABD9-41C3053821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cessos de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riedade mais importante das redes neurais é a habilidade de aprender com seu ambiente e com isso melhorar seu desempenh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o é feito através de um processo iterativo de ajustes aplicado a seus pesos, 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inamen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prendizado ocorre quando a rede neural atinge uma solução generalizada para uma classe de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E8C0-E6E6-4AB8-A72E-148771D4DB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4920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lgoritmo de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unto de regras bem definidas para a solução de um problema de aprendiz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m muitos tipos de algoritmos de aprendizado específicos para determinados modelos de redes neu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algoritmos diferem entre si principalmente pelo modo como os pesos são modifi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7ECC-70E9-4113-A7F4-2A75E12B65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143000" y="1706400"/>
            <a:ext cx="7966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des Neurais: Classificação - Aprend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relação ao aprendiz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supervisi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semi-supervisi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não supervisio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instantân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por pac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contín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 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: aproximação de fun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ndizado: classific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apenas uma base de exemplos de aprendiz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r uma base de aprendizado e uma base de teste de general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8E8-7CCE-4604-B960-E6B356AD46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Redes Neurais:  Classificação dos Modelos Conex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relação as unidades da re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baseadas em Perceptrons (MLP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ulti-Layer Perceptr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des baseadas em Protótipos (RBF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Radial Basis Func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E8A7-F778-4637-9EEA-17472E6811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16360" y="1700280"/>
            <a:ext cx="5905440" cy="4935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32000" y="184464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s de Redes Neur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0A52-FE56-4402-A1F3-A390E3EAC20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plicações 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onhecimento de Padrões: Caracteres, Imagens, Voz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Auxílio ao Diagnóstico: Médico, Falhas Mecânica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bótica Inteli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visão: Tempo, Cotações da Bolsa de Valores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ntr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amento de Si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essamento de Linguagem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C7DF-2518-4154-B091-52EB0798E6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116000" y="1699920"/>
            <a:ext cx="7956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plicações 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nd.com/neurosolutions/products/ns/nnandnsvideo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fbim.fh-regensburg.de/~saj39122/begrolu/kohone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11F6-3C3C-4E54-978F-58B2F0D958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728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 de uso prático no Brasi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Visanet, operadora de cartões de crédi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mpresa implantou um sistema de rede neural, batizado de Lynx, que detecta possíveis fraudes em transações com cart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ase de dados fornece um histórico e o hábito de consumo de cada número de cartão de crédito Visa emitido no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de transações anteriores: mais de 850 milh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ão emitidos alertas para os bancos toda vez que o Lynx detecta variáveis fora dos padrões e, portanto, a possibilidade de frau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sistema compara o comportamento de cada transação com os padrões armazenados na base de da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a despesa em um estabelecimento comercial nunca utilizado antes por determinado cartão, por exemplo, gera uma variáve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cadastro e o histórico do próprio estabelecimento comercial geram outras variáveis ­ que levam em conta fatores como a ocorrência de casos anteriores de frau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oma dessas variáveis resulta em um índice de probabilidade de fraude que vai de 1% a 100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6385320"/>
            <a:ext cx="7632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ynx (lince) - animal que os antigos acreditavam ter o poder de enxergar através de pared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23DD-7C18-4D07-A99C-C1620D24AA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42560" y="170640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Reconhecimento de fala – reconhecer 1 de 10 vogais entre h_d (em inglê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1 e F2: parâmetros retirados da análise espectral do som da palav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8897760" cy="32418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DA30-2E4C-4CAB-845F-4214B565B6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Neural Networks Java Apple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Perceptron</a:t>
            </a: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 Learning Rule (CNNL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Image Compression Using Backprop (CNN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Generalizations of the Hamming Associative Memory (CNNL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Joone - Java Object Oriented Neural 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Porta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dor de Redes Neurais: SNN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uttgart Neural Network Simulat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xemplos de Aplica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1090440" y="6385320"/>
            <a:ext cx="78494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te: Java Demonstrations of Neural Net Concepts, http://neuron.eng.wayne.edu/software.htm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59FC-731A-4403-AB14-1D65109B50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419640" y="3390840"/>
          <a:ext cx="5040000" cy="33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3390840"/>
                    <a:ext cx="5040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87280" y="4221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mponentes de um neurô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a célula do cérebro cuja principal função é coletar, processar e disseminar sinais elétr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redita-se que a capacidade de processamento de informações no cérebro vem de redes de neurôn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E264-9638-48AD-8E78-081B6AD029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187280" y="1555560"/>
            <a:ext cx="7715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r que utilizá-las?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izaçã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dem aprender através de conjuntos de exemplos e apresentar respostas coerentes para entradas não vistas durante o treinament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aptabilidad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dem adaptar-se a um novo ambiente através de alterações em seus pesos sinápticos. Também podem ser projetadas para alterarem seus pesos em tempo real ou para operarem em ambientes que variem com o temp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ção Contextual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am as informações contextuais de forma natural, uma vez que o processamento de um neurônio é afetado pelo processamento de outros neurônios da red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ormidad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mesma notação é utilizada em diferentes domínios de  aplicações; os neurônios são encontrados em todas as redes neurais; é possivel utilizar os mesmos algoritmos de aprendizagem e teorias em diversas apllicações; através da integração homogênea de módulos, podemos construir redes modulares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A988-D2A7-4E3F-B737-F223AAB712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quisição automática de conhecimentos empíricos a partir de uma base de exemplos de aprendizado referente a um probl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ipulação de dados quantitativos, aproximados e mesmo incorretos com uma degradação gradual das respos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nde poder de representação de conhecimentos através da criação de relações ponderadas entre as entradas do sist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CF2-3D52-40FF-A3D1-8F3628BEAB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svant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 de configuração das redes em relação à sua estrutura inicial e também no que se refere aos parâmetros dos algoritmos de aprendiz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 de explicitar os conhecimentos adquiridos pela rede através de uma linguagem compreensível para um ser human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iculdade de convergência (bloqueios) e instabilidade, inerentes aos algoritmos de otimização empreg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ntidão” do processo de aprendizado / adap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C79-23AC-4401-90C5-7A1AC684D2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6912000" cy="3922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58920" y="155736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stemas Inteligentes Híbri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015-F35D-41E5-A995-A611EF49236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prendizagem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754560" y="1844640"/>
            <a:ext cx="8355960" cy="4687920"/>
            <a:chOff x="754560" y="1844640"/>
            <a:chExt cx="8355960" cy="4687920"/>
          </a:xfrm>
        </p:grpSpPr>
        <p:sp>
          <p:nvSpPr>
            <p:cNvPr id="189" name=""/>
            <p:cNvSpPr/>
            <p:nvPr/>
          </p:nvSpPr>
          <p:spPr>
            <a:xfrm>
              <a:off x="5754600" y="2514600"/>
              <a:ext cx="2087640" cy="1219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504800" y="5157720"/>
              <a:ext cx="1944720" cy="75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baseados 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des Neur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730760" y="2474640"/>
              <a:ext cx="0" cy="3429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68280" y="3048120"/>
              <a:ext cx="1439280" cy="531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ed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ayesia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97840" y="4437000"/>
              <a:ext cx="1392120" cy="531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lgoritm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genétic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50440" y="3048120"/>
              <a:ext cx="1631160" cy="531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specialis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47200" y="3008160"/>
              <a:ext cx="1353960" cy="75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Nebulo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(fuzz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92160" y="4608360"/>
              <a:ext cx="2181600" cy="832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mbólica indu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84840" y="2590920"/>
              <a:ext cx="2038320" cy="311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 de PL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8680" y="4078440"/>
              <a:ext cx="5556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08840" y="1844640"/>
              <a:ext cx="4342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onhecimento intensional (regra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64120" y="6165720"/>
              <a:ext cx="4795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onhecimento extensional (exemplos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9640" y="3922560"/>
              <a:ext cx="1370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simból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4560" y="3860640"/>
              <a:ext cx="1329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numér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45920" y="4532400"/>
              <a:ext cx="1224360" cy="750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Sistem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base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em ca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36120" y="3962520"/>
              <a:ext cx="896760" cy="3117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Robô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02D-B51F-4805-AB08-D7CFBE09F2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Componentes de um Neurô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xôni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transmissão de sinais a partir do corpo celular; poucas ramificações e compri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ndrit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conduzem sinais para a célula; têm muitas ramificações (zonas receptiva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naps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estruturas funcionais elementares que mediam as conexões entre os neurôn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FD7-8263-4ABA-AB82-18BF8F913B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87280" y="1915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lasticidade de um neurôni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capacidade de adaptação a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canismos de Plasticidade (cérebro de um adul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de novas conexões sináp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ificação das sinapse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sticidade - essencial para as Redes Neurais Artifici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D64D-BBCE-4E2C-A857-D5DC245FEF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eurociência computacion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 matemático do neurônio criado por McCulloch e Pitts (194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esse nas propriedades mais abstratas da 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bilidade para executar computação distribu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bilidade para tolerar entradas ruido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bilidade para apr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Uma das formas mais populares e efetivas de sistemas de aprendiz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4ED-6B0C-48AF-BE21-7EE19BCC58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547640" y="1916280"/>
          <a:ext cx="6840720" cy="47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16280"/>
                    <a:ext cx="6840720" cy="47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476360" y="155736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spiração Bi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Redes Neurais Artificiai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B1C-A5F2-4D01-BA08-3B7E17EFA0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6920" y="1628640"/>
            <a:ext cx="7642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urônio artificial projetado por McCulloc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Pit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9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140360" y="3284640"/>
            <a:ext cx="4897440" cy="1714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16000" y="2205000"/>
            <a:ext cx="30970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ais são apresentados à entr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sinal é multiplicado por um número, ou peso, que indica a sua influência na saída da unida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feita a soma ponderada dos sinais que produz um nível de ativida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este nível de atividade exceder um certo limit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 unidade produz uma determinada resposta de saí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24360" y="530064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unção de ativ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877080" y="4363920"/>
            <a:ext cx="6476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eurônio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7F5D-D86A-4E32-8952-FC74475231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Neurônio Artificial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59876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ara” quando uma combinação linear de suas entradas excede algum lim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rot="21540000">
            <a:off x="1476360" y="2997000"/>
            <a:ext cx="7164360" cy="299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BB4-48D0-4D75-AC05-3FE3064D08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8-29T09:55:16Z</dcterms:modified>
  <cp:revision>696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