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798-2653-4321-B4B9-0C46E311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58F-0025-43F9-A45E-690CDE28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D38-8A8F-44BA-90FA-E58651E5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BEF-1B61-450A-84A9-B43DF05C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1E50-0A75-48F8-9F9B-95D4C4CEA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6F35-D1A6-4D48-A462-C372787A0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B930D-732D-4AE7-A855-14154681E4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65FBB-D4D5-431D-8E72-7B69BF4516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916EC-222C-4604-B896-12EB5D874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9E20B-60A2-4CB7-B286-4312C271C4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58A4-674C-4605-80A2-658311674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518-A537-4413-97F8-6262883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40959-8092-45BF-AB8E-2E87459D0A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31EF3-6097-4B20-B002-729DE9241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6BC29-E569-4464-9D11-373BF800A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0B77D-09FA-4396-AF75-A282DA4E37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42D04-F03F-46B4-A5F2-1140934DD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34F-76D4-4FFB-B58F-904BBD6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1D0-1CC1-4031-B7C0-46F7DFD8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E62-44CF-4B66-BC89-952523BE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B2F-A162-4A06-884F-72EB0BC9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399-1889-4D6C-B3D3-9E201AC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908-DDA6-44C0-9230-B95BBB2F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E84-4740-40DB-AC51-7309086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767F-7876-41B5-AB40-7A0AF48FC88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A48-DE9E-4F70-8BA5-D3380080E57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65440"/>
            <a:ext cx="576360" cy="476640"/>
            <a:chOff x="900000" y="626544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900000" y="664704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2560" y="64166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27000" y="626508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4720" y="64238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28440" y="627264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.ualberta.ca/~aixplore/learning/DecisionTrees/Applet/DecisionTreeApplet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 - Ex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129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292720" y="1773360"/>
                <a:ext cx="30751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1619280" y="2205000"/>
            <a:ext cx="5977080" cy="4146480"/>
            <a:chOff x="1619280" y="2205000"/>
            <a:chExt cx="5977080" cy="41464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619280" y="2205000"/>
              <a:ext cx="5977080" cy="41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435640" y="2349360"/>
              <a:ext cx="20160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4000" y="2421000"/>
              <a:ext cx="144720" cy="71280"/>
            </a:xfrm>
            <a:custGeom>
              <a:avLst/>
              <a:gdLst/>
              <a:ahLst/>
              <a:rect l="l" t="t" r="r" b="b"/>
              <a:pathLst>
                <a:path w="151" h="98">
                  <a:moveTo>
                    <a:pt x="0" y="0"/>
                  </a:moveTo>
                  <a:cubicBezTo>
                    <a:pt x="60" y="42"/>
                    <a:pt x="121" y="84"/>
                    <a:pt x="136" y="91"/>
                  </a:cubicBezTo>
                  <a:cubicBezTo>
                    <a:pt x="151" y="98"/>
                    <a:pt x="121" y="71"/>
                    <a:pt x="91" y="45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16000" y="638172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ção da Entropia a medida que a proporção de positivos e negativos se alt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895-0642-438B-9A1F-3A09353972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destinatário sabe que o exemplo selecionado será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nhuma mensagem precisa ser envi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opia é 0 (mín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0.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 bit é necessário para indicar se o exemplo selecionado é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opia é 1 (máx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0.8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tão uma coleção de mensagens podem ser codificadas usando-se - em média menos de um bit - códigos mais curtos para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 mais longos para  </a:t>
            </a:r>
            <a:r>
              <a:rPr b="0" lang="pt-B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260360" y="6093000"/>
            <a:ext cx="7272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ia(S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&gt; especifica o número mínimo de bits de informação necessário para codificar uma classificação de um membro arbitrário de 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273-F803-4F9D-BD81-321E75DE7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e a redução na entrop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anho(S,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ignifica a redução esperada na entropi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rdenando pelo atributo 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responder à pergunta anterior, "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o escolher o melhor atributo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 é usado o ga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ada iteração do algoritmo é escolhido o atributo que apresente uma maior ganh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58920" y="3141720"/>
                <a:ext cx="7655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ho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alore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tropi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260360" y="6141960"/>
            <a:ext cx="727236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b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 valore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) é o conjunto de todos possíveis valores para o atributo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, 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é o subconjunto d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para qual o atributo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em valor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2D2-720C-46F4-9947-9B802275C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a impureza do conjunto de tre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umindo o valor máximo (1) quando existem tantos elementos positivos como negativos, e o valor mínimo (0) quando todos os elementos são da mesm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anho de 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dução esperada no valor da Entropia, devido à ordenação do conjunto de treino segundo os valores do atribu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C67-ADC5-4EBE-BD88-DFBEEF1274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imeiro pas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são analisados todos os atributos, começando pel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6360" y="2349360"/>
                <a:ext cx="5256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opi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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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332000" y="3597120"/>
            <a:ext cx="3025800" cy="2137320"/>
            <a:chOff x="1332000" y="3597120"/>
            <a:chExt cx="3025800" cy="2137320"/>
          </a:xfrm>
        </p:grpSpPr>
        <p:sp>
          <p:nvSpPr>
            <p:cNvPr id="174" name=""/>
            <p:cNvSpPr/>
            <p:nvPr/>
          </p:nvSpPr>
          <p:spPr>
            <a:xfrm>
              <a:off x="1981080" y="3597120"/>
              <a:ext cx="14400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Umidade 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2000" y="43178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6360" y="43178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79640" y="395748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0360" y="395748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0" y="49068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3+, 4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16360" y="49068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6+, 1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1080" y="467640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5440" y="467640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33440" y="539712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985       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5877000"/>
                <a:ext cx="5236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Umidad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Umidad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1"/>
          <a:srcRect l="40396" t="38195" r="21208" b="20466"/>
          <a:stretch/>
        </p:blipFill>
        <p:spPr>
          <a:xfrm>
            <a:off x="5580000" y="3284640"/>
            <a:ext cx="2952720" cy="2384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4965" t="56903" r="77316" b="39174"/>
          <a:stretch/>
        </p:blipFill>
        <p:spPr>
          <a:xfrm>
            <a:off x="6372360" y="6308640"/>
            <a:ext cx="2340000" cy="389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516720" y="6021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bs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6021360"/>
            <a:ext cx="230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D98-0740-4847-9C15-F21338B23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42560" y="1483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lculando o ganho para todos os atribut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que o tem maior ganho é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pecto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56000" y="2421000"/>
                <a:ext cx="1145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6035760"/>
                <a:ext cx="6120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spect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,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nho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spect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" descr=""/>
          <p:cNvPicPr/>
          <p:nvPr/>
        </p:nvPicPr>
        <p:blipFill>
          <a:blip r:embed="rId1"/>
          <a:srcRect l="40396" t="38195" r="21208" b="20466"/>
          <a:stretch/>
        </p:blipFill>
        <p:spPr>
          <a:xfrm>
            <a:off x="6084720" y="3659040"/>
            <a:ext cx="28800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114560" y="3284640"/>
            <a:ext cx="4033800" cy="2052000"/>
            <a:chOff x="1114560" y="3284640"/>
            <a:chExt cx="4033800" cy="2052000"/>
          </a:xfrm>
        </p:grpSpPr>
        <p:sp>
          <p:nvSpPr>
            <p:cNvPr id="195" name=""/>
            <p:cNvSpPr/>
            <p:nvPr/>
          </p:nvSpPr>
          <p:spPr>
            <a:xfrm>
              <a:off x="2482920" y="3284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0560" y="3932280"/>
              <a:ext cx="10080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54560" y="3932280"/>
              <a:ext cx="1152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24360" y="3932280"/>
              <a:ext cx="1079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30920" y="3645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63640" y="3645000"/>
              <a:ext cx="1366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30920" y="3645000"/>
              <a:ext cx="1368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57480" y="4508640"/>
              <a:ext cx="11541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2+, 3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56000" y="4508640"/>
              <a:ext cx="1150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4+, 0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4560" y="4999320"/>
              <a:ext cx="40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971      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         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=0,9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51640" y="4508640"/>
              <a:ext cx="1150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[3+, 2-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528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3092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928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64000" y="1989000"/>
                <a:ext cx="302436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midade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ento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8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specto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7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>
            <a:off x="7667280" y="3284640"/>
            <a:ext cx="863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35280" y="522900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5445000"/>
            <a:ext cx="7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445000"/>
            <a:ext cx="792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270-07DB-4582-A84A-233DAFC78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42560" y="1483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próximo passo o atribu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pec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já não é conside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07960" y="1844640"/>
            <a:ext cx="7223040" cy="2677680"/>
            <a:chOff x="1407960" y="1844640"/>
            <a:chExt cx="7223040" cy="2677680"/>
          </a:xfrm>
        </p:grpSpPr>
        <p:sp>
          <p:nvSpPr>
            <p:cNvPr id="217" name=""/>
            <p:cNvSpPr/>
            <p:nvPr/>
          </p:nvSpPr>
          <p:spPr>
            <a:xfrm>
              <a:off x="4210200" y="22176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95640" y="30830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0200" y="308304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7480" y="30830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95640" y="387360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97480" y="38736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9280" y="257796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769840" y="2577960"/>
              <a:ext cx="208908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9280" y="2577960"/>
              <a:ext cx="20876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43280" y="34416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46920" y="34416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1640" y="3860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93960" y="350028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2+, 3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10320" y="350028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4+, 0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59280" y="3427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99400" y="350028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3+, 2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3720" y="184464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[9+, 5-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30840" y="22287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[D1, D2, ...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7960" y="4221000"/>
              <a:ext cx="2043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Sol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1, D2, D8, D9, D1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4760" y="4221000"/>
              <a:ext cx="204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Nuvens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3, D7, D12, D1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6160" y="4221000"/>
              <a:ext cx="227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Chuva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4, D5, D6, D10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32000" y="4788000"/>
                <a:ext cx="71276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l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midade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anho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l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em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×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 flipH="1" flipV="1">
            <a:off x="4140360" y="6444720"/>
            <a:ext cx="86328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BDB-9D0C-430A-8FEB-4427C38AE9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m todos os nós a entropia for nula, o algoritmo para e obtêm-se a seguinte Árvore de decis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26440" y="2637000"/>
            <a:ext cx="7752600" cy="3771360"/>
            <a:chOff x="1126440" y="2637000"/>
            <a:chExt cx="7752600" cy="3771360"/>
          </a:xfrm>
        </p:grpSpPr>
        <p:sp>
          <p:nvSpPr>
            <p:cNvPr id="243" name=""/>
            <p:cNvSpPr/>
            <p:nvPr/>
          </p:nvSpPr>
          <p:spPr>
            <a:xfrm>
              <a:off x="4205160" y="2637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90600" y="35020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5160" y="35020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92800" y="35020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0600" y="4292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Um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69880" y="50133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54240" y="50133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92800" y="429264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V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30960" y="501336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ra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5320" y="5013360"/>
              <a:ext cx="12967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or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8960" y="567540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19680" y="566100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6400" y="566100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4240" y="429264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4040" y="566100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54600" y="2997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765160" y="2997360"/>
              <a:ext cx="2089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54600" y="2997360"/>
              <a:ext cx="2087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8600" y="386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42240" y="386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117880" y="465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38600" y="4653000"/>
              <a:ext cx="86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788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352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8004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4400" y="5373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53160" y="3860640"/>
              <a:ext cx="1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078240" y="465300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42240" y="465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24360" y="263700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[D1, D2, ...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7000" y="4653000"/>
              <a:ext cx="204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Nuvens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 =[D3, D7, D12, D1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6440" y="6093000"/>
              <a:ext cx="1716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Sol,Elevada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1, D2, D8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83840" y="6107040"/>
              <a:ext cx="1512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Sol,Normal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9, D1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6640" y="6093000"/>
              <a:ext cx="1566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Chuva,Fraco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6, D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38720" y="6093000"/>
              <a:ext cx="184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S</a:t>
              </a:r>
              <a:r>
                <a:rPr b="1" lang="pt-BR" sz="1200" spc="-1" strike="noStrike" baseline="-25000">
                  <a:solidFill>
                    <a:srgbClr val="666600"/>
                  </a:solidFill>
                  <a:latin typeface="Verdana"/>
                </a:rPr>
                <a:t>Chuva,Forte</a:t>
              </a:r>
              <a:r>
                <a:rPr b="1" lang="pt-BR" sz="1200" spc="-1" strike="noStrike">
                  <a:solidFill>
                    <a:srgbClr val="666600"/>
                  </a:solidFill>
                  <a:latin typeface="Verdana"/>
                </a:rPr>
                <a:t>=[D4, D5, D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EF6-CF0B-405B-B1FB-80815E500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implem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cs.ualberta.ca/%7Eaixplore/learning/DecisionTrees/Applet/DecisionTreeApple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03C-D971-4D0C-B03B-AACA32C032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 - 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102-3345-471B-826D-D356DEA43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1773360"/>
            <a:ext cx="7201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a uma Árvore de decisão (Ad) para o seguinte problema: Decidir se vou Jogar Tê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âmetros do ambi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specto do Céu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Temperatur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midade 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V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DDE-4822-48C7-861A-1C82CE9BBC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3213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xemplos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6524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GFB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59280" y="1773360"/>
          <a:ext cx="5616360" cy="4522680"/>
        </p:xfrm>
        <a:graphic>
          <a:graphicData uri="http://schemas.openxmlformats.org/drawingml/2006/table">
            <a:tbl>
              <a:tblPr/>
              <a:tblGrid>
                <a:gridCol w="576360"/>
                <a:gridCol w="1008000"/>
                <a:gridCol w="1008000"/>
                <a:gridCol w="1152360"/>
                <a:gridCol w="863640"/>
                <a:gridCol w="10080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gar Tên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v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578-8D59-4716-AC0B-3496F60964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1337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Árvore de Decisão para Jogar Tê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4920" y="2924280"/>
            <a:ext cx="6842160" cy="3375360"/>
            <a:chOff x="1474920" y="2924280"/>
            <a:chExt cx="6842160" cy="3375360"/>
          </a:xfrm>
        </p:grpSpPr>
        <p:sp>
          <p:nvSpPr>
            <p:cNvPr id="112" name=""/>
            <p:cNvSpPr/>
            <p:nvPr/>
          </p:nvSpPr>
          <p:spPr>
            <a:xfrm>
              <a:off x="4210200" y="2924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Asp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5640" y="3789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0200" y="3789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uv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97840" y="378900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Chu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5640" y="45795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Um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7492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928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7840" y="457956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Verdana"/>
                </a:rPr>
                <a:t>V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564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ra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0000" y="5300280"/>
              <a:ext cx="1297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3399"/>
                  </a:solidFill>
                  <a:latin typeface="Verdana"/>
                </a:rPr>
                <a:t>For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4000" y="596232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24720" y="594828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N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1080" y="5948280"/>
              <a:ext cx="719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9280" y="594828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9080" y="5948280"/>
              <a:ext cx="7189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669900"/>
                  </a:solidFill>
                  <a:latin typeface="Verdana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9640" y="328428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70200" y="3284280"/>
              <a:ext cx="208944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59640" y="3284280"/>
              <a:ext cx="208728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43280" y="41479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46920" y="41479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122560" y="4939920"/>
              <a:ext cx="72072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43280" y="4939920"/>
              <a:ext cx="863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256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856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508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69440" y="56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9640" y="414792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82920" y="4939920"/>
              <a:ext cx="863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6920" y="4939920"/>
              <a:ext cx="72072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060-FA28-475D-9609-3CB29C933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construir a 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 ID3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ductive decision tre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um dos mais utilizados para a construção de 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ssos do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eçar com todos os exemplos de trei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her o teste (atributo) que melhor divide os exemplos, ou seja agrupar exemplos da mesma classe ou exemplos semelhant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 o atributo escolhido, criar um nó filho para cada valor possível do atribu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portar os exemplos para cada filho tendo em conta o valor do filh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etir o procedimento para cada filho não "puro". Um filho é puro quando cada atributo X tem o mesmo valor em todos os exemplo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6AE-C6B8-4E66-9DD5-4857D160D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scolher o melhor atribu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FD5-BE64-4042-8A25-7AEF07F64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ntropia de um conjunto pode ser definida como sendo uma medida do grau de impureza do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 conceito define a medida de "falta de informação", mais precisamente o número de bits necessários, em média, para representar a informação em falta, usando codificação ó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opia é uma medida da aleatoriedade de uma vari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47B-35DE-4719-8449-2C8C26BCA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um conjun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instâncias pertencentes à class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probabilida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em-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o conjunto de exemplo de trei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a porção de exemplos positiv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é a porção de exemplos negat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ntropia(S) = 0 se existe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l qu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ssumido que 0 * log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ndizagem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2997360"/>
                <a:ext cx="3894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0000" y="4149720"/>
                <a:ext cx="5429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877080" y="5084640"/>
            <a:ext cx="1871640" cy="143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= 1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, por exemplo, o receptor sabe que o exemplo tirado será positivo, assim não há necessidade de enviar mensagem, e a entropia é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43640" y="5660640"/>
            <a:ext cx="36036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7AD-F074-46C5-9309-BA9A85FFA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9T09:53:42Z</dcterms:modified>
  <cp:revision>73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