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36B-489A-4EFC-A48B-EADB34A8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EFC-30E3-45E7-B3CB-980239F0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73E-2BF2-4CBF-B903-D8B32F2E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A61-7A92-48C8-B857-6A4D06F4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0C41C-18C6-4098-B35B-5804F37F25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E0BE8-FFC9-4E4A-B89C-BE501D62A6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B82CE-C44A-4936-8F48-7AF3BFCCDC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FE057-09C5-495D-879E-916B35DD4D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478D5-9076-4CC6-B5BB-0C1DF35C59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CE9BB-03AC-40A2-959E-93A1AA722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B0019-E5B5-4C90-AB92-A857DA76B1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D00-F21A-43B5-9F63-045B54F0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E8A2C-712F-4CA1-9AAD-79FC5B8421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82A4F-61A9-47A3-A05E-AAD0AE4884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D2BB7-4F47-4DD2-BCD1-655E5D095B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227E1-439E-485A-B8BB-52B7281516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44689-424C-4930-870C-5FE70E494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E91-E751-45BD-AD8D-56747D80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0A9-7106-4E90-B690-ED00BFB8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275-4BEC-4ABB-93FA-8C477811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431-3E47-400A-804B-B9C88A87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96D-D8CE-4235-90E4-9293AFBE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44F-A0F7-40B5-934F-6009D8A3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218-5BA7-4CCA-8154-F5DA78A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8CF1-14EA-4A87-9D2C-5FC7D22885A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31AB-C9E5-4E76-8D5C-4EB89315FA0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00000" y="6265440"/>
            <a:ext cx="576360" cy="476640"/>
            <a:chOff x="900000" y="626544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900000" y="664704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2560" y="64166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927000" y="626508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4720" y="642384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928440" y="627264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domínio do restau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objetivo é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definição para o predicado met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perar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a definição é expressa como uma árvore de deci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3573360"/>
            <a:ext cx="3652920" cy="26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0CE-CB39-4D4D-94D8-984E920CD6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sperar ou não uma mesa em um restaur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ributos disponí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ternativ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há um outro restaurante apropriado por per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o restaurante tem uma área de bar confortável para esper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x/Sa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verdadeiro às sextas e sáb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mi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Estamos com f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Quantas pessoas estão no restaura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ç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faixa de preços do restau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hoven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Está chovendo do lado de f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erv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Fizemos uma reserv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Qual o tipo do restaura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pera estimad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espera estimada pelo g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58560" y="260280"/>
            <a:ext cx="504036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 Restaurante ..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117-C112-4092-92AE-2167510EBC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6920" y="101520"/>
            <a:ext cx="396108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Exemplo Restaurante ..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43080" y="1052640"/>
            <a:ext cx="7576920" cy="5567400"/>
            <a:chOff x="1243080" y="1052640"/>
            <a:chExt cx="7576920" cy="5567400"/>
          </a:xfrm>
        </p:grpSpPr>
        <p:sp>
          <p:nvSpPr>
            <p:cNvPr id="125" name=""/>
            <p:cNvSpPr/>
            <p:nvPr/>
          </p:nvSpPr>
          <p:spPr>
            <a:xfrm>
              <a:off x="3244680" y="1052640"/>
              <a:ext cx="10908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lient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84160" y="5399280"/>
              <a:ext cx="663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a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1280" y="4281480"/>
              <a:ext cx="1208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Sex/Sab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11120" y="4260960"/>
              <a:ext cx="11876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Reserv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43440" y="3245040"/>
              <a:ext cx="1149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Famint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4360" y="3238560"/>
              <a:ext cx="13813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lternativ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2057400"/>
              <a:ext cx="2004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speraEstimad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30960" y="5399280"/>
              <a:ext cx="13255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hovend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27640" y="625176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43080" y="625176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70280" y="53992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43120" y="320364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49600" y="203832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16640" y="53992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93960" y="539928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7280" y="53992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5680" y="429732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70680" y="324180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62120" y="203832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720" y="4287960"/>
              <a:ext cx="13809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lternativ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4360" y="625176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66840" y="625176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"/>
            <p:cNvCxnSpPr>
              <a:stCxn id="125" idx="2"/>
              <a:endCxn id="137" idx="0"/>
            </p:cNvCxnSpPr>
            <p:nvPr/>
          </p:nvCxnSpPr>
          <p:spPr>
            <a:xfrm flipH="1">
              <a:off x="2980440" y="1428480"/>
              <a:ext cx="81036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>
              <a:stCxn id="125" idx="2"/>
              <a:endCxn id="143" idx="0"/>
            </p:cNvCxnSpPr>
            <p:nvPr/>
          </p:nvCxnSpPr>
          <p:spPr>
            <a:xfrm>
              <a:off x="3790440" y="1428480"/>
              <a:ext cx="396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25" idx="2"/>
              <a:endCxn id="131" idx="0"/>
            </p:cNvCxnSpPr>
            <p:nvPr/>
          </p:nvCxnSpPr>
          <p:spPr>
            <a:xfrm>
              <a:off x="3790800" y="1428840"/>
              <a:ext cx="1556640" cy="629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31" idx="2"/>
              <a:endCxn id="136" idx="0"/>
            </p:cNvCxnSpPr>
            <p:nvPr/>
          </p:nvCxnSpPr>
          <p:spPr>
            <a:xfrm flipH="1">
              <a:off x="2073960" y="2433240"/>
              <a:ext cx="3272760" cy="77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31" idx="2"/>
              <a:endCxn id="130" idx="0"/>
            </p:cNvCxnSpPr>
            <p:nvPr/>
          </p:nvCxnSpPr>
          <p:spPr>
            <a:xfrm flipH="1">
              <a:off x="4074120" y="2433600"/>
              <a:ext cx="1272600" cy="80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31" idx="2"/>
              <a:endCxn id="129" idx="0"/>
            </p:cNvCxnSpPr>
            <p:nvPr/>
          </p:nvCxnSpPr>
          <p:spPr>
            <a:xfrm>
              <a:off x="5346720" y="2433600"/>
              <a:ext cx="972000" cy="81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31" idx="2"/>
              <a:endCxn id="142" idx="0"/>
            </p:cNvCxnSpPr>
            <p:nvPr/>
          </p:nvCxnSpPr>
          <p:spPr>
            <a:xfrm>
              <a:off x="5346360" y="2433240"/>
              <a:ext cx="2856600" cy="80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30" idx="2"/>
              <a:endCxn id="128" idx="0"/>
            </p:cNvCxnSpPr>
            <p:nvPr/>
          </p:nvCxnSpPr>
          <p:spPr>
            <a:xfrm flipH="1">
              <a:off x="2804400" y="3614400"/>
              <a:ext cx="127044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30" idx="2"/>
              <a:endCxn id="127" idx="0"/>
            </p:cNvCxnSpPr>
            <p:nvPr/>
          </p:nvCxnSpPr>
          <p:spPr>
            <a:xfrm>
              <a:off x="4074480" y="3614760"/>
              <a:ext cx="381960" cy="66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29" idx="2"/>
              <a:endCxn id="141" idx="0"/>
            </p:cNvCxnSpPr>
            <p:nvPr/>
          </p:nvCxnSpPr>
          <p:spPr>
            <a:xfrm flipH="1">
              <a:off x="5727240" y="3621240"/>
              <a:ext cx="591120" cy="67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29" idx="2"/>
              <a:endCxn id="144" idx="0"/>
            </p:cNvCxnSpPr>
            <p:nvPr/>
          </p:nvCxnSpPr>
          <p:spPr>
            <a:xfrm>
              <a:off x="6318000" y="3621240"/>
              <a:ext cx="889920" cy="66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28" idx="2"/>
              <a:endCxn id="126" idx="0"/>
            </p:cNvCxnSpPr>
            <p:nvPr/>
          </p:nvCxnSpPr>
          <p:spPr>
            <a:xfrm flipH="1">
              <a:off x="2115720" y="4636800"/>
              <a:ext cx="6897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"/>
            <p:cNvCxnSpPr>
              <a:stCxn id="128" idx="2"/>
              <a:endCxn id="140" idx="0"/>
            </p:cNvCxnSpPr>
            <p:nvPr/>
          </p:nvCxnSpPr>
          <p:spPr>
            <a:xfrm>
              <a:off x="2804760" y="4636800"/>
              <a:ext cx="1544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" name=""/>
            <p:cNvCxnSpPr>
              <a:stCxn id="127" idx="2"/>
              <a:endCxn id="135" idx="0"/>
            </p:cNvCxnSpPr>
            <p:nvPr/>
          </p:nvCxnSpPr>
          <p:spPr>
            <a:xfrm flipH="1">
              <a:off x="4101480" y="4657680"/>
              <a:ext cx="354960" cy="74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"/>
            <p:cNvCxnSpPr>
              <a:stCxn id="127" idx="2"/>
              <a:endCxn id="139" idx="0"/>
            </p:cNvCxnSpPr>
            <p:nvPr/>
          </p:nvCxnSpPr>
          <p:spPr>
            <a:xfrm>
              <a:off x="4455720" y="4657680"/>
              <a:ext cx="470520" cy="74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" name=""/>
            <p:cNvCxnSpPr>
              <a:stCxn id="144" idx="2"/>
              <a:endCxn id="138" idx="0"/>
            </p:cNvCxnSpPr>
            <p:nvPr/>
          </p:nvCxnSpPr>
          <p:spPr>
            <a:xfrm flipH="1">
              <a:off x="6747480" y="4664160"/>
              <a:ext cx="459720" cy="73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"/>
            <p:cNvCxnSpPr>
              <a:stCxn id="144" idx="2"/>
              <a:endCxn id="132" idx="0"/>
            </p:cNvCxnSpPr>
            <p:nvPr/>
          </p:nvCxnSpPr>
          <p:spPr>
            <a:xfrm>
              <a:off x="7206840" y="4664160"/>
              <a:ext cx="687960" cy="73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"/>
            <p:cNvCxnSpPr>
              <a:stCxn id="126" idx="2"/>
              <a:endCxn id="134" idx="0"/>
            </p:cNvCxnSpPr>
            <p:nvPr/>
          </p:nvCxnSpPr>
          <p:spPr>
            <a:xfrm flipH="1">
              <a:off x="1574280" y="5775120"/>
              <a:ext cx="54216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" name=""/>
            <p:cNvCxnSpPr>
              <a:stCxn id="126" idx="2"/>
              <a:endCxn id="146" idx="0"/>
            </p:cNvCxnSpPr>
            <p:nvPr/>
          </p:nvCxnSpPr>
          <p:spPr>
            <a:xfrm>
              <a:off x="2115720" y="5775120"/>
              <a:ext cx="38340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" name=""/>
            <p:cNvCxnSpPr>
              <a:stCxn id="132" idx="2"/>
              <a:endCxn id="133" idx="0"/>
            </p:cNvCxnSpPr>
            <p:nvPr/>
          </p:nvCxnSpPr>
          <p:spPr>
            <a:xfrm flipH="1">
              <a:off x="7459200" y="5775120"/>
              <a:ext cx="43560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"/>
            <p:cNvCxnSpPr>
              <a:stCxn id="132" idx="2"/>
              <a:endCxn id="145" idx="0"/>
            </p:cNvCxnSpPr>
            <p:nvPr/>
          </p:nvCxnSpPr>
          <p:spPr>
            <a:xfrm>
              <a:off x="7894440" y="5775120"/>
              <a:ext cx="502560" cy="47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2306520" y="1559160"/>
              <a:ext cx="32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enhum           alguns        che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41440" y="2703600"/>
              <a:ext cx="638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&gt;60                               30-60            10-30            0-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08080" y="3828960"/>
              <a:ext cx="638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            Sim             Não        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93960" y="4857840"/>
              <a:ext cx="637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Sim        Não          Sim                      Não   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7840" y="5819760"/>
              <a:ext cx="16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05400" y="5781600"/>
              <a:ext cx="161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4DB-4995-40B2-B521-2BEE01BFD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pressividade de 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hipótese de árvore de decisão específica para o predicado met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aiEsperar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ser vista como uma asserção da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∀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aiEsper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(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v 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v ... v P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ada condição 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) é uma conjunção de testes que pode corresponder a um caminho da raiz até uma folha da árvore com resultado positi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árvore pode ser representada por uma conjunção de implicações individuais que correspondem aos caminhos que vão da raiz até o nó folh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03280" y="5950080"/>
            <a:ext cx="7228080" cy="68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234-571C-421F-B681-87604EF9C9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pressividade de 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44280"/>
            <a:ext cx="7455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possível utilizar árvores de decisão para representar testes que se referem a dois ou mais objetos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∃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Perto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r) ^ Preço(r, p) ^ Preço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) ^ MaisBarato(p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97D-2D45-473E-ACB9-5DAFBB5A3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27080" y="706320"/>
          <a:ext cx="8889840" cy="6024600"/>
        </p:xfrm>
        <a:graphic>
          <a:graphicData uri="http://schemas.openxmlformats.org/drawingml/2006/table">
            <a:tbl>
              <a:tblPr/>
              <a:tblGrid>
                <a:gridCol w="612720"/>
                <a:gridCol w="712800"/>
                <a:gridCol w="754200"/>
                <a:gridCol w="671400"/>
                <a:gridCol w="753840"/>
                <a:gridCol w="628920"/>
                <a:gridCol w="733320"/>
                <a:gridCol w="768240"/>
                <a:gridCol w="723960"/>
                <a:gridCol w="765360"/>
                <a:gridCol w="871560"/>
                <a:gridCol w="8935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2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junto de treinamento para o exemplo do restau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436-70B9-4243-A127-CFD8A5E7CB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licação do algoritmo de aprendiz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554280" y="1846440"/>
            <a:ext cx="27291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M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im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  3  4  6  8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Não</a:t>
            </a: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2  5  7  9 10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27920" y="1844640"/>
            <a:ext cx="1452600" cy="73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lternativa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3400" y="2773440"/>
            <a:ext cx="10000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  4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2  5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58080" y="2773440"/>
            <a:ext cx="9828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3  6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7  9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2"/>
            <a:endCxn id="184" idx="0"/>
          </p:cNvCxnSpPr>
          <p:nvPr/>
        </p:nvCxnSpPr>
        <p:spPr>
          <a:xfrm flipH="1">
            <a:off x="7182720" y="2311200"/>
            <a:ext cx="57204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3" idx="2"/>
            <a:endCxn id="185" idx="0"/>
          </p:cNvCxnSpPr>
          <p:nvPr/>
        </p:nvCxnSpPr>
        <p:spPr>
          <a:xfrm>
            <a:off x="7754760" y="2311200"/>
            <a:ext cx="59616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918480" y="2328840"/>
            <a:ext cx="18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im            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00000" y="1851120"/>
          <a:ext cx="2508120" cy="4746600"/>
        </p:xfrm>
        <a:graphic>
          <a:graphicData uri="http://schemas.openxmlformats.org/drawingml/2006/table">
            <a:tbl>
              <a:tblPr/>
              <a:tblGrid>
                <a:gridCol w="507960"/>
                <a:gridCol w="666720"/>
                <a:gridCol w="666720"/>
                <a:gridCol w="66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7542360" y="4116240"/>
            <a:ext cx="79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Bar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07240" y="5103720"/>
            <a:ext cx="10000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3  6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7  9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81920" y="5103720"/>
            <a:ext cx="9828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  4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2  5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0" idx="2"/>
            <a:endCxn id="191" idx="0"/>
          </p:cNvCxnSpPr>
          <p:nvPr/>
        </p:nvCxnSpPr>
        <p:spPr>
          <a:xfrm flipH="1">
            <a:off x="7306920" y="4583160"/>
            <a:ext cx="63576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90" idx="2"/>
            <a:endCxn id="192" idx="0"/>
          </p:cNvCxnSpPr>
          <p:nvPr/>
        </p:nvCxnSpPr>
        <p:spPr>
          <a:xfrm>
            <a:off x="7941960" y="4583160"/>
            <a:ext cx="532440" cy="52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7042320" y="4659480"/>
            <a:ext cx="188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im            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02280" y="4118040"/>
            <a:ext cx="1176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ex/Sab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13040" y="5105520"/>
            <a:ext cx="10000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4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5  9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88080" y="5105520"/>
            <a:ext cx="11286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  3  6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Tahoma"/>
              </a:rPr>
              <a:t>2  7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6" idx="2"/>
            <a:endCxn id="197" idx="0"/>
          </p:cNvCxnSpPr>
          <p:nvPr/>
        </p:nvCxnSpPr>
        <p:spPr>
          <a:xfrm flipH="1">
            <a:off x="4212720" y="4584240"/>
            <a:ext cx="57888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96" idx="2"/>
            <a:endCxn id="198" idx="0"/>
          </p:cNvCxnSpPr>
          <p:nvPr/>
        </p:nvCxnSpPr>
        <p:spPr>
          <a:xfrm>
            <a:off x="4791240" y="4584240"/>
            <a:ext cx="6624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3948120" y="46609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im            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F48-B5A2-4106-B8F1-34997D5AB9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sos a considerar na escolha de um novo atribu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existem alguns exemplos positivos e alguns negativos, escolha o melhor atributo para dividi-l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todos os exemplos restantes forem positivos (ou negativos), terminam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não resta nenhum exemplo, nenhum exemplo deste tipo foi observado, retornamos a maioria do nó pa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resta nenhum atributo mas há exemplos positivos e negativos – descrições iguais com classificações diferentes =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uí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s d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138-91E8-4801-89AF-BD5F0442C7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1160" y="374760"/>
            <a:ext cx="9007560" cy="62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PRENDIZAGEM-EM-AD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, atributos, padr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torn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uma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junto de exemp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tribu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junto de a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dr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valor-padrão para o predicado de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vazi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ão retorn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dr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todos o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têm a mesma classificaçã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ão retorn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ific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tribu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vazi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ão retorn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ALOR-DA-MAIORIA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n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ESCOLHER-ATRIBUTO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tributos, exempl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árvo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uma nova ad com teste de raiz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VALOR-DA-MAIORIA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d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valor v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{elementos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melhor = v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ubárvo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lt;- APRENDIZAGEM-EM-AD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tribu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icionar uma ramificação 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árvo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rótulo v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subárvor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ubárvor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torn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árv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A28-F147-4819-96D7-0C3BE18FF89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662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 resultante da aplicação do algoritm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49320" y="1773360"/>
            <a:ext cx="6232320" cy="4551120"/>
            <a:chOff x="949320" y="1773360"/>
            <a:chExt cx="6232320" cy="4551120"/>
          </a:xfrm>
        </p:grpSpPr>
        <p:sp>
          <p:nvSpPr>
            <p:cNvPr id="207" name=""/>
            <p:cNvSpPr/>
            <p:nvPr/>
          </p:nvSpPr>
          <p:spPr>
            <a:xfrm>
              <a:off x="1887480" y="1773360"/>
              <a:ext cx="10904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lient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32240" y="2798640"/>
              <a:ext cx="1149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Famint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92040" y="2759040"/>
              <a:ext cx="66384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04920" y="275904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05160" y="3841560"/>
              <a:ext cx="835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Tipo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2" name=""/>
            <p:cNvCxnSpPr>
              <a:stCxn id="207" idx="2"/>
              <a:endCxn id="209" idx="0"/>
            </p:cNvCxnSpPr>
            <p:nvPr/>
          </p:nvCxnSpPr>
          <p:spPr>
            <a:xfrm flipH="1">
              <a:off x="1623240" y="2148840"/>
              <a:ext cx="81036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3" name=""/>
            <p:cNvCxnSpPr>
              <a:stCxn id="207" idx="2"/>
              <a:endCxn id="210" idx="0"/>
            </p:cNvCxnSpPr>
            <p:nvPr/>
          </p:nvCxnSpPr>
          <p:spPr>
            <a:xfrm>
              <a:off x="2433240" y="2148840"/>
              <a:ext cx="396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4" name=""/>
            <p:cNvCxnSpPr>
              <a:stCxn id="207" idx="2"/>
              <a:endCxn id="208" idx="0"/>
            </p:cNvCxnSpPr>
            <p:nvPr/>
          </p:nvCxnSpPr>
          <p:spPr>
            <a:xfrm>
              <a:off x="2433600" y="2148840"/>
              <a:ext cx="1573920" cy="64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5" name=""/>
            <p:cNvCxnSpPr>
              <a:stCxn id="208" idx="2"/>
              <a:endCxn id="216" idx="0"/>
            </p:cNvCxnSpPr>
            <p:nvPr/>
          </p:nvCxnSpPr>
          <p:spPr>
            <a:xfrm flipH="1">
              <a:off x="3411000" y="3174480"/>
              <a:ext cx="596160" cy="68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7" name=""/>
            <p:cNvCxnSpPr>
              <a:stCxn id="208" idx="2"/>
              <a:endCxn id="211" idx="0"/>
            </p:cNvCxnSpPr>
            <p:nvPr/>
          </p:nvCxnSpPr>
          <p:spPr>
            <a:xfrm>
              <a:off x="4006440" y="3174480"/>
              <a:ext cx="616680" cy="66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18" name=""/>
            <p:cNvSpPr/>
            <p:nvPr/>
          </p:nvSpPr>
          <p:spPr>
            <a:xfrm>
              <a:off x="949320" y="2279520"/>
              <a:ext cx="32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enhum           alguns        che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79800" y="38638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90520" y="49798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98640" y="49798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18160" y="497988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06760" y="4979880"/>
              <a:ext cx="11653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Sex/sab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43320" y="595440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cc9900"/>
                  </a:solidFill>
                  <a:latin typeface="Tahoma"/>
                </a:rPr>
                <a:t>N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18200" y="5956200"/>
              <a:ext cx="663480" cy="368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5" name=""/>
            <p:cNvCxnSpPr>
              <a:stCxn id="211" idx="2"/>
              <a:endCxn id="219" idx="0"/>
            </p:cNvCxnSpPr>
            <p:nvPr/>
          </p:nvCxnSpPr>
          <p:spPr>
            <a:xfrm flipH="1">
              <a:off x="1522080" y="4217760"/>
              <a:ext cx="31010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6" name=""/>
            <p:cNvCxnSpPr>
              <a:stCxn id="211" idx="2"/>
              <a:endCxn id="220" idx="0"/>
            </p:cNvCxnSpPr>
            <p:nvPr/>
          </p:nvCxnSpPr>
          <p:spPr>
            <a:xfrm flipH="1">
              <a:off x="3129840" y="4217760"/>
              <a:ext cx="149292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7" name=""/>
            <p:cNvCxnSpPr>
              <a:stCxn id="211" idx="2"/>
              <a:endCxn id="222" idx="0"/>
            </p:cNvCxnSpPr>
            <p:nvPr/>
          </p:nvCxnSpPr>
          <p:spPr>
            <a:xfrm>
              <a:off x="4622400" y="4217760"/>
              <a:ext cx="36756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8" name=""/>
            <p:cNvCxnSpPr>
              <a:stCxn id="211" idx="2"/>
              <a:endCxn id="221" idx="0"/>
            </p:cNvCxnSpPr>
            <p:nvPr/>
          </p:nvCxnSpPr>
          <p:spPr>
            <a:xfrm>
              <a:off x="4622400" y="4217760"/>
              <a:ext cx="22280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29" name=""/>
            <p:cNvCxnSpPr>
              <a:stCxn id="222" idx="2"/>
              <a:endCxn id="223" idx="0"/>
            </p:cNvCxnSpPr>
            <p:nvPr/>
          </p:nvCxnSpPr>
          <p:spPr>
            <a:xfrm flipH="1">
              <a:off x="4574520" y="5355720"/>
              <a:ext cx="4150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0" name=""/>
            <p:cNvCxnSpPr>
              <a:stCxn id="222" idx="2"/>
              <a:endCxn id="224" idx="0"/>
            </p:cNvCxnSpPr>
            <p:nvPr/>
          </p:nvCxnSpPr>
          <p:spPr>
            <a:xfrm>
              <a:off x="4989600" y="5356080"/>
              <a:ext cx="560880" cy="60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1" name=""/>
            <p:cNvSpPr/>
            <p:nvPr/>
          </p:nvSpPr>
          <p:spPr>
            <a:xfrm>
              <a:off x="3232080" y="3325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14440" y="4375080"/>
              <a:ext cx="459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Fra                    Ita        Tai            H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16440" y="5499000"/>
              <a:ext cx="20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Não           Si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443560" y="1916280"/>
            <a:ext cx="3449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O algoritmo poderia encontrar uma Ad diferente para o mesmo conjunto de treinam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3789360"/>
            <a:ext cx="17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l ser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26B-C3B1-4A22-8998-96B58DFC52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rendiz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vores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64F-9FDF-4230-9D9A-28169D437C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 árvore resultan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7920" y="1599840"/>
            <a:ext cx="77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diferente da árvore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a hipótese concorda com todos os ex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é consideravelmente mais simples do que a árvore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hoven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ser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icaram de fora porque a árvore não necessita destes para classificar os ex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nunca viu um caso de espera de 0-10 min e o restaurante che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um caso no qual faminto é falso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orma que não devemos esp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26C-F464-4BD8-A42A-329052128E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40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scolha de testes de atribut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quema de aprendizagem da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ado para minimizar a profundidade da árvore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éia: escolher o atributo que melhor fornece uma classificação exata dos exemp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perfei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ivide os exemplos em conjuntos que são todos positivos ou todos neg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lien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ão é perfeito, mas é “bastante bo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 inúti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ixa os conjuntos de exemplos com a mesma proporção do conjunto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 atributo “realmente inút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F88-68FB-4601-8A5B-5190A164CC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algoritmo de aprendiz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bom algoritmo se ele produz hipóteses que classificam (predizem) bem exemplos ainda não v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edição é boa se ela se torna verdad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valiar a qualidade de uma hipót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os checar sua previsão com uma classificação correta que já conhe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exemplos conhecidos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junto de te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3BF-B0DC-4716-AA54-A3CD3065A7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etodologia para avaliação de desempenho de um algoritm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letar um grande conjunto de ex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di-lo em dois conjuntos disj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treinamento e conjunto de t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r o algoritmo ao conjunto de treinamento, gerando uma hipóte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r a quantidade de exemplos do conjunto de teste classificados corretamente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etir as etapas 2 a 4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erentes tamanhos de conjuntos de trei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erentes conjuntos de treinamento de cada tama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DF1-7BBD-485E-8F59-2C39BE470A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urva de aprendiz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traçada com o conjunto de dados obtidos da metodologi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treinamento aumenta =&gt; qualidade da previsão aum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om sinal de que existe um padrão nos dados e o algoritmo está capturando este padr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824-F171-4CB5-A621-D9E1F6D172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urva de aprendiz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4753080" cy="3418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187280" y="6021360"/>
            <a:ext cx="7272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bservação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um bom sinal de que existe realmente algum padrão nos dados e de que o algoritmo de aprendizagem o está incorpora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1557360"/>
            <a:ext cx="79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rva de aprendizagem para o algoritmo de árvore de decisão sobre 100 exemplos gerados aleatoriamente no domínio do restaurante. O gráfico resume 20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CB3-7544-4FC7-B379-A9791AC392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gerais: </a:t>
            </a: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overfit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96608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verfitt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hiper-especializaçã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encontrar uma “regularidade” muito restrita nos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uç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idação cruz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47640" y="4437000"/>
            <a:ext cx="6340680" cy="16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5E7-77EC-41DB-8529-FC8DDF1C5E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057400" y="5257800"/>
            <a:ext cx="4800600" cy="761760"/>
            <a:chOff x="2057400" y="5257800"/>
            <a:chExt cx="4800600" cy="761760"/>
          </a:xfrm>
        </p:grpSpPr>
        <p:sp>
          <p:nvSpPr>
            <p:cNvPr id="254" name=""/>
            <p:cNvSpPr/>
            <p:nvPr/>
          </p:nvSpPr>
          <p:spPr>
            <a:xfrm>
              <a:off x="2057400" y="5257800"/>
              <a:ext cx="4800600" cy="76176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00600" y="5257800"/>
              <a:ext cx="0" cy="76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5410080"/>
              <a:ext cx="19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rei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1480" y="54100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es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Validação Cruzad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8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e para evita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verfitting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para averiguar robustez dos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) Divide o conjunto de exemplos em dois sub-conjuntos: conjuntos de treinamento (TR) e de teste (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) Usa indução para gerar hipótese H sobre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) Mede percentagem de erro de H aplicada à 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) Repete passos 1-3 com diferentes tamanhos de TE e TR, e tendo elemento escolhidos aleato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32A-CCA6-4FF2-929D-399D47F0A43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s Prát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56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nóstico médico e de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álise de cré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uperação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A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 de separação de gás-óleo em plataformas de petról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iloto automático de um Ces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einado por três pilo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ve um desempenho melhor do que os trê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9C8-0068-4155-B83D-300DD9F5990C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1706400"/>
            <a:ext cx="7416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dução mediante árvores de dec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ma das formas mais simples de algoritmos de aprendizagem e também de muito su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 objeto ou situação descrito por um conjunto de propriedades ou atribu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a deci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Árvore de decisã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 formada por um conjunto de nós de decisão, perguntas, que permitem a classificação de cada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C0D-D6B4-4DD7-92EB-5D2CC52FD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484280"/>
            <a:ext cx="770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48480" indent="-348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prendizagem de uma árvore de decisão com 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000" indent="-2124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ituações em que se têm exemplos previamente classificados com regras desconhecidas que se pretendem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prender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(descobri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2124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sas classificações podem ter sido feitas por um especialista que queremos imitar ou traduzir em medidas difíceis ou caras de obter (por exemplo, medidas realizadas por testes destrutiv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2124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ode-se substituir o especialista por uma árvore de decis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0">
              <a:spcBef>
                <a:spcPts val="400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prendizagem, Estimação, Treinamento: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Partindo de exemplos, "adivinhar" a ár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Árvore de Decisão: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Conjunto de “nós de decisão” e “folhas” que implementam um modelo de classificação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A71-87A9-4252-9D06-A06B8BB786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7632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ir de um conjunto de propriedades, decide sim ou n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e árvores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nó interno testa um a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ramo corresponde a um valor do a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folha atribui uma classif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28A-8C0D-4CA5-970F-A93E6B4BA4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016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NDUÇÃO por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xempl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descrito pelos valores dos atributos e o valor 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redicado m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do predicado meta - chama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ifica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exemp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edicado meta é verdadeiro para algum exemplo, tem-se 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xemplo positiv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contrári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xemplo nega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junto completo de exemplos é chama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junto de trein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421-2680-4B9B-8405-7C8A6C9BB7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pressividade de 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715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função booleana pode ser escrita como uma árvore de deci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553080" cy="36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CF1-8999-494A-BA47-C63FCF3760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problema com a Ad triv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 de aprendizagem em árvore de decisão (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déia é testar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ributo mais importante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ele que faz a maior diferença para a classificação de um exemp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r a classificação correta com pequeno nº de testes = caminhos curtos e árvore pequ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3280" y="5516640"/>
            <a:ext cx="7201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imitação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árvore memoriza as observações. Ela não extrai qualquer padrão dos exemplos e, assim, não podemos esperar que ela esteja apta a extrapolar para exemplos não vistos 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C06-E595-479B-BCC8-831A2FC9C9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pressividade de árvores de decis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vores de decisão servem para alguns tipos de funções e não são boas para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elizmente, não existe uma espécie de representação que seja eficiente para todos os tipos de fun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8E6-404D-44C0-8D68-8F7C4B2431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8-22T10:09:39Z</dcterms:modified>
  <cp:revision>71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