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59E-7D21-4E21-8A3E-1FC24D10E91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75B-8960-4609-850C-27792B0F3F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929-B4EE-4854-B416-E43D308B21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F2D-F5CE-4151-8E58-D445923110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FB0-2C21-46B7-BC84-EDF65EBA84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FEC-D9E4-4892-B1D6-2C8D462D21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94EF-DDE6-4C10-AA8F-2FEB5845CF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6AF-8898-4B5B-83EE-D7035274AA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2D4-EB33-48EF-8270-991C9D5C20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373-275E-4AF8-8BF7-657D2124CF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6471-5E3B-4151-A585-539BD5E335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BAD5-AC37-428E-989B-3BF962D274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669D-54B1-43E4-AE43-C4E875A355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2155-3D54-4833-B6F8-E0B2A1F060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8BF-645B-4461-B28F-5DE13235EF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35D-5B00-4293-86F5-9C81FB70BC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FD60-D026-46AC-9D5B-80D5791B7E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8DB-F939-4F4C-BDDB-C4C034A5C8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93A-C6F4-4A5E-AAD8-3D6ACB5A3E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C492-8D5F-414E-9F17-28D14E3BCA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2EE4-DFE1-4224-BA43-ABFE9C8C3C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7AF-63D5-4C9A-BF88-02B31CFC26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248A-FFED-4EB2-93E1-F0605E26F3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093-7BA3-4AB2-AC22-476B712D1E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biose – cooperação mútua entre pessoas ou grupos em uma socie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BBC-86C6-4C12-8FE9-976541D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C34-59A6-40A3-9AFD-815A897B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9ED-0FEC-4FC0-9DB3-0A43A870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FBD-E03D-4652-8696-69C6ACD2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9463-0D51-46AB-A818-1504A378F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2F45E-3BAD-443D-895C-34267B523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034C4-D709-49F3-BA4A-2D9D08C4DD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B111-A0DE-4846-8D89-34185F488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BCD2-0486-47C0-BE05-36A41EC4D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BE726-F250-4FF6-98D4-77787006C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BD3F7-34B8-4807-937A-6FDB9E218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E3A-1321-49B1-BA05-2A43FF2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722C7-46F0-411A-9D9B-E3A26EB319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21B7C-7B32-4DC5-AD2B-77D1BB6A53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BF8C2-7A31-457A-87D2-7E533D5B72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A2781-E591-4FFD-960C-BACF65049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3B6C-D0CC-4428-A919-033A0D045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D55-AF23-413B-BCFF-F03A6C4F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60-9880-4EC3-8685-B31406D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381-202B-4F73-A3FB-740C39C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FEF-6F3F-444A-8572-76C894B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CB5-9ECC-4B3F-942C-9715BD3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545-16A8-40DD-AB4D-1AD197B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3E9-AA13-4C31-A19C-7C97DB6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661-FB18-4A7F-AC34-E0BB6E5C38F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03B3-9871-4A2E-9038-1B004B5FC37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de probabilidades – é o modelo mais tradicional para o tratamento da informação inc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um evento             , a probabilidade de ocorrênci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scrita por uma medida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, que satisfaz os seguintes axio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4005360"/>
                <a:ext cx="6335640" cy="24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0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,B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08360" y="2637000"/>
                <a:ext cx="1006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 </m:t>
                    </m:r>
                    <m:r>
                      <m:t xml:space="preserve">⊆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9D6-68DC-425A-B25E-458AEB9193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os axiomas anteriores, pode-se derivar as seguintes proprie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2924280"/>
                <a:ext cx="655344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-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,B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AFF-A945-44A8-8F15-A27E3BDA1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tribuição de probabil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 caracteriza a probabilidade dos eventos sobre um domínio discre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0920" y="5013360"/>
                <a:ext cx="5327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  </m:t>
                        </m:r>
                      </m:e>
                    </m:nary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32000" y="2997360"/>
                <a:ext cx="3745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A  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X, 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790-A123-4B3E-BD3C-6EDFB6440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84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dida de probabilidade tem 2 interpret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uent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representa o limite da frequência da ocorrência do ev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a seqüência infinita de experimentos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je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representa a crença de um determinado indivíduo na ocorrênci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neste caso supõe-se que o indivíduo, que fornece as probabilidades aos evento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ja capaz de exprimi-las de forma que estas obedeçam aos axioma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368-8A2E-4ED1-9284-5381EBC665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8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eorema de Bay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  provê a base para o tratamento da imperfeição da informação em diversos sistemas baseados em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teorema computa a probabilidade de um dado evento, dado um conjunto de observ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E90-0B44-4881-A9CB-041C117CE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680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Bayes. Se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637000"/>
            <a:ext cx="76341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-  a probabilidade de qu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verdadeira dada a evidência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 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probabilidade de que a evidência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rá observada s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for verdadei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 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probabilidade “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a prior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” de qu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é verdadeira na ausência de qualquer evidência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E6C-AD2A-4034-A9BD-205518D104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B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baseados em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1916280"/>
                <a:ext cx="3818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4005360"/>
                <a:ext cx="58690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116000" y="5516640"/>
            <a:ext cx="7632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k -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número de hipóteses poss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representam, respectivamente, novas evidências e evidências anteriores, em relação a um dado momento do proce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DF5-F73F-4AD9-98AB-A788ACF3A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ponha que no meio da noite dispare o alarme contra ladrões de uma casa. Deseja-se então saber quais são as chances de que esteja havendo uma tentativa de rou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xistam 95% de chances de que o alarme dispare quando uma tentativa de roubo ocor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m 1% das vezes o alarme dispara por outros motiv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que no bairro existe uma chance em 10.000 de uma dada casa ser assaltada em um dado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D9-984B-4780-91B7-DBEF43D6E9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-se entã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270080" y="2421000"/>
                <a:ext cx="6851520" cy="31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ubo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tão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94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617-D5BE-46FD-86FD-A828430265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valor pode parecer estranho, mas ele pode ser intuitivamente entendido quando verifica-se que as chances de haver um roubo e do alarme tocar (0,000095) são muito pequenas em relação às chances de haver um alarme falso (0,01)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5CA-0C7A-4FAC-B34F-91678F310A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5640" y="3357720"/>
            <a:ext cx="5040360" cy="720720"/>
            <a:chOff x="2195640" y="3357720"/>
            <a:chExt cx="5040360" cy="720720"/>
          </a:xfrm>
        </p:grpSpPr>
        <p:sp>
          <p:nvSpPr>
            <p:cNvPr id="109" name=""/>
            <p:cNvSpPr/>
            <p:nvPr/>
          </p:nvSpPr>
          <p:spPr>
            <a:xfrm>
              <a:off x="2195640" y="3357720"/>
              <a:ext cx="5040360" cy="72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68360" y="3430440"/>
              <a:ext cx="496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mo agir em meio à incertez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061-6E67-463F-9F16-24766A122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600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édico sab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ingite causa torcicolo em 50% das ve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pessoa é aleatoriamente selecionada da população dos EUA, há 1/50.000 de chance da pessoa ter mening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pessoa é aleatoriamente selecionada da população dos EUA, há 5% de chance da pessoa ter torcic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causa subjacente seja meningi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C75-13F7-4AA5-AD60-B79AE5763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1/5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1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corre diretamente do Teorema de B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5229360"/>
                <a:ext cx="5015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×</m:t>
                        </m:r>
                        <m:r>
                          <m:t xml:space="preserve">0,5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0F7-0585-4F61-A322-7FA4FB0FF9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s dos sistemas baseados em conhecimento mais famosos têm o enfoque bayesiano como base para o tratamento da informação imperfeita, como, por exemplo, o MYCIN e o PROSP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istema MYCIN, tanto regras como fatos têm associados um par 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B M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de a “crença” na hipótese (o próprio fato, ou conclusão de uma regra quando a premissa é completamente satisfe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de a “crença” na negação dessa hipót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áquina de inferência então não somente cria novos fatos, mas também um par [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B M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para este novo fato, utilizando uma variação formalmente imperfeita, porém eficaz, da regra de Bay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85F-7E92-4B24-AB96-E30E3D16F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ia dos conjuntos nebulo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bjetiva permitir graduações na pertinência de um elemento a uma da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dos conjuntos “cláss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um elemento pertence (1) ou não-pertence (0) a um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nebul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u de pertinência passa a ser dado por um valor no intervalo de números reais [0,1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202-9BC5-417C-9A75-A75D643C11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: Decisões binárias (sim ou n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se não tivermos certez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dição x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ão y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anç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Regr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uzz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: Se o objeto é redondo então é uma b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: Se o objeto é muito redondo então é uma bola com grande proba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zzy Logi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atemático para lidar com esta incert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ECB-220E-4371-A28B-C1BBD1B2E1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um universo de discur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 sub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finido por uma função de pertinência que associa a cada elem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gra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compreendido entre 0 e 1, com o qual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tenc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203-24C0-4044-A28E-13B18C839D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do que se deseja modelar o conceito “alto” aplicado a pesso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almente, uma pessoa que mede mais de 1,75m é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alta se tiver menos de 1,6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á uma pessoa que mede entre 1,60m e 1,75m será considerada mais alta quanto mais a altura está próxima de 1,7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4E6-A408-4326-A756-88942F992D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70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possível modelar o conceito “alto” pelo 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finido no intervalo de 0,5m a 2,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924280"/>
                <a:ext cx="6193080" cy="26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,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,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1DC-5691-410F-B96F-E984FDC29B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ficamente, o 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ser representado 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375240" cy="2522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58A-48F4-41F0-B770-54DCD7CFD6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presentação gráfica dos Conjuntos Fuzzy discret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03640" y="5445000"/>
            <a:ext cx="5029200" cy="1182600"/>
            <a:chOff x="3203640" y="5445000"/>
            <a:chExt cx="5029200" cy="1182600"/>
          </a:xfrm>
        </p:grpSpPr>
        <p:sp>
          <p:nvSpPr>
            <p:cNvPr id="182" name=""/>
            <p:cNvSpPr/>
            <p:nvPr/>
          </p:nvSpPr>
          <p:spPr>
            <a:xfrm>
              <a:off x="3203640" y="5445000"/>
              <a:ext cx="5029200" cy="11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A(u) =   0,0                     , se módulo(x) &gt;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 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(5 – módulo(x))/5, se módulo(x) &lt;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79680" y="5554440"/>
              <a:ext cx="76320" cy="685800"/>
            </a:xfrm>
            <a:custGeom>
              <a:avLst/>
              <a:gdLst/>
              <a:ahLst/>
              <a:rect l="l" t="t" r="r" b="b"/>
              <a:pathLst>
                <a:path w="213" h="1907">
                  <a:moveTo>
                    <a:pt x="212" y="0"/>
                  </a:moveTo>
                  <a:cubicBezTo>
                    <a:pt x="159" y="0"/>
                    <a:pt x="106" y="79"/>
                    <a:pt x="106" y="158"/>
                  </a:cubicBezTo>
                  <a:lnTo>
                    <a:pt x="106" y="794"/>
                  </a:lnTo>
                  <a:cubicBezTo>
                    <a:pt x="106" y="873"/>
                    <a:pt x="53" y="953"/>
                    <a:pt x="0" y="953"/>
                  </a:cubicBezTo>
                  <a:cubicBezTo>
                    <a:pt x="53" y="953"/>
                    <a:pt x="106" y="1032"/>
                    <a:pt x="106" y="1111"/>
                  </a:cubicBezTo>
                  <a:lnTo>
                    <a:pt x="106" y="1747"/>
                  </a:lnTo>
                  <a:cubicBezTo>
                    <a:pt x="106" y="1826"/>
                    <a:pt x="159" y="1906"/>
                    <a:pt x="212" y="19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187280" y="1844640"/>
            <a:ext cx="7041960" cy="3333600"/>
            <a:chOff x="1187280" y="1844640"/>
            <a:chExt cx="7041960" cy="3333600"/>
          </a:xfrm>
        </p:grpSpPr>
        <p:sp>
          <p:nvSpPr>
            <p:cNvPr id="185" name=""/>
            <p:cNvSpPr/>
            <p:nvPr/>
          </p:nvSpPr>
          <p:spPr>
            <a:xfrm flipV="1">
              <a:off x="4601520" y="1912320"/>
              <a:ext cx="1080" cy="32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7280" y="4205160"/>
              <a:ext cx="6828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2560" y="2295720"/>
              <a:ext cx="8535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3880" y="4274280"/>
              <a:ext cx="1208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20360" y="4274280"/>
              <a:ext cx="1208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9864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9024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220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792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560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988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9988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488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9148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7684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6916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56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16760" y="4205160"/>
              <a:ext cx="604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37160" y="1844640"/>
              <a:ext cx="60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0240" y="246924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760" y="2816280"/>
              <a:ext cx="14220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68360" y="316368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9240" y="35107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5760" y="385776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5000" y="281628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8480" y="316368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77240" y="35107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6360" y="385776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F61-460B-46B9-A24E-F246BD8BF5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mento d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ciocínio Estat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3D7-5AD5-4B06-98B6-FE01291653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6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presentação gráfica dos Conjuntos Fuzzy contínu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479600" y="2174760"/>
            <a:ext cx="5230800" cy="227016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60360" y="4444920"/>
            <a:ext cx="5959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4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5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6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7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9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2428920"/>
            <a:ext cx="50796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600" y="4284720"/>
            <a:ext cx="26146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070520" y="2546280"/>
            <a:ext cx="1477800" cy="173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9600" y="2565360"/>
            <a:ext cx="1743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22720" y="2571840"/>
            <a:ext cx="1671480" cy="170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94200" y="4284720"/>
            <a:ext cx="1816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676760" y="3308400"/>
            <a:ext cx="0" cy="113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77440" y="3570120"/>
            <a:ext cx="34909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477440" y="4043520"/>
            <a:ext cx="34909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8320" y="2565360"/>
            <a:ext cx="116208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50880" y="2174760"/>
            <a:ext cx="1090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1400" y="2174760"/>
            <a:ext cx="108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Unicode MS"/>
              </a:rPr>
              <a:t>A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084640"/>
            <a:ext cx="266544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ma pessoa de 1,77m pode se considerada tanto 20% baixa quanto 40%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67280" y="3481560"/>
            <a:ext cx="654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932000" y="479700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895-AA46-4C3B-BEF1-91E0E12413A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rmalmente, uma BC Fuzzy é representada por meio de regras de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ra de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antecedente&gt;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conseqüent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ecedente: composto por um conjunto de cond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üente: composto por um conjunto de ações ou diagnós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do as condições da regra são satisfeitas (mesmo que parcialmente) dizemos que a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gra é disparad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que determina o processamento do conseqüente da regra pelo sistema de inferência fuz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4DE-9D7D-45E5-BE5F-AA4E01E2C33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istemas fuzzy - f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1690560"/>
            <a:ext cx="7884720" cy="4617720"/>
            <a:chOff x="971640" y="1690560"/>
            <a:chExt cx="7884720" cy="4617720"/>
          </a:xfrm>
        </p:grpSpPr>
        <p:grpSp>
          <p:nvGrpSpPr>
            <p:cNvPr id="235" name=""/>
            <p:cNvGrpSpPr/>
            <p:nvPr/>
          </p:nvGrpSpPr>
          <p:grpSpPr>
            <a:xfrm>
              <a:off x="1095480" y="1690560"/>
              <a:ext cx="1542600" cy="701280"/>
              <a:chOff x="1095480" y="1690560"/>
              <a:chExt cx="1542600" cy="701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095480" y="1690560"/>
                <a:ext cx="154260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95480" y="169056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Entradas do sist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240680" y="1771560"/>
              <a:ext cx="1456920" cy="703080"/>
              <a:chOff x="7240680" y="1771560"/>
              <a:chExt cx="1456920" cy="703080"/>
            </a:xfrm>
          </p:grpSpPr>
          <p:sp>
            <p:nvSpPr>
              <p:cNvPr id="239" name=""/>
              <p:cNvSpPr/>
              <p:nvPr/>
            </p:nvSpPr>
            <p:spPr>
              <a:xfrm>
                <a:off x="7240680" y="1771560"/>
                <a:ext cx="145692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40680" y="1771560"/>
                <a:ext cx="1456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Saídas do sist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71640" y="3068640"/>
              <a:ext cx="1799640" cy="1213920"/>
              <a:chOff x="971640" y="3068640"/>
              <a:chExt cx="1799640" cy="1213920"/>
            </a:xfrm>
          </p:grpSpPr>
          <p:sp>
            <p:nvSpPr>
              <p:cNvPr id="242" name=""/>
              <p:cNvSpPr/>
              <p:nvPr/>
            </p:nvSpPr>
            <p:spPr>
              <a:xfrm>
                <a:off x="971640" y="3068640"/>
                <a:ext cx="179964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38400" y="3249000"/>
                <a:ext cx="1266480" cy="85500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Fuzzifica-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074000" y="3068640"/>
              <a:ext cx="1782360" cy="1213920"/>
              <a:chOff x="7074000" y="3068640"/>
              <a:chExt cx="1782360" cy="1213920"/>
            </a:xfrm>
          </p:grpSpPr>
          <p:sp>
            <p:nvSpPr>
              <p:cNvPr id="245" name=""/>
              <p:cNvSpPr/>
              <p:nvPr/>
            </p:nvSpPr>
            <p:spPr>
              <a:xfrm>
                <a:off x="7074000" y="3068640"/>
                <a:ext cx="178236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38240" y="3249000"/>
                <a:ext cx="1254240" cy="85500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Defuzzifi-c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052880" y="2987640"/>
              <a:ext cx="1714320" cy="701280"/>
              <a:chOff x="4052880" y="2987640"/>
              <a:chExt cx="1714320" cy="701280"/>
            </a:xfrm>
          </p:grpSpPr>
          <p:sp>
            <p:nvSpPr>
              <p:cNvPr id="248" name=""/>
              <p:cNvSpPr/>
              <p:nvPr/>
            </p:nvSpPr>
            <p:spPr>
              <a:xfrm>
                <a:off x="4052880" y="2987640"/>
                <a:ext cx="171432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52880" y="2987640"/>
                <a:ext cx="17143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Funções de pertinê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052880" y="3681360"/>
              <a:ext cx="1714320" cy="701280"/>
              <a:chOff x="4052880" y="3681360"/>
              <a:chExt cx="1714320" cy="701280"/>
            </a:xfrm>
          </p:grpSpPr>
          <p:sp>
            <p:nvSpPr>
              <p:cNvPr id="251" name=""/>
              <p:cNvSpPr/>
              <p:nvPr/>
            </p:nvSpPr>
            <p:spPr>
              <a:xfrm>
                <a:off x="4052880" y="3681360"/>
                <a:ext cx="171432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52880" y="3681360"/>
                <a:ext cx="17143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Conjunto de regr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95480" y="5356080"/>
              <a:ext cx="1542600" cy="703080"/>
              <a:chOff x="1095480" y="5356080"/>
              <a:chExt cx="1542600" cy="703080"/>
            </a:xfrm>
          </p:grpSpPr>
          <p:sp>
            <p:nvSpPr>
              <p:cNvPr id="254" name=""/>
              <p:cNvSpPr/>
              <p:nvPr/>
            </p:nvSpPr>
            <p:spPr>
              <a:xfrm>
                <a:off x="1095480" y="5356080"/>
                <a:ext cx="154260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95480" y="535608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Níveis de pertinê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202520" y="5356080"/>
              <a:ext cx="1542600" cy="703080"/>
              <a:chOff x="7202520" y="5356080"/>
              <a:chExt cx="1542600" cy="703080"/>
            </a:xfrm>
          </p:grpSpPr>
          <p:sp>
            <p:nvSpPr>
              <p:cNvPr id="257" name=""/>
              <p:cNvSpPr/>
              <p:nvPr/>
            </p:nvSpPr>
            <p:spPr>
              <a:xfrm>
                <a:off x="7202520" y="5356080"/>
                <a:ext cx="154260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02520" y="535608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Níveis de saí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95720" y="5094360"/>
              <a:ext cx="1626840" cy="1213920"/>
              <a:chOff x="4095720" y="5094360"/>
              <a:chExt cx="1626840" cy="1213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095720" y="5094360"/>
                <a:ext cx="162684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36200" y="5274720"/>
                <a:ext cx="1145520" cy="85464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Avalia-çã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das regr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36" idx="2"/>
              <a:endCxn id="242" idx="0"/>
            </p:cNvCxnSpPr>
            <p:nvPr/>
          </p:nvCxnSpPr>
          <p:spPr>
            <a:xfrm>
              <a:off x="1866600" y="2401920"/>
              <a:ext cx="6840" cy="658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2" idx="4"/>
              <a:endCxn id="254" idx="0"/>
            </p:cNvCxnSpPr>
            <p:nvPr/>
          </p:nvCxnSpPr>
          <p:spPr>
            <a:xfrm flipH="1">
              <a:off x="1866240" y="4294080"/>
              <a:ext cx="6840" cy="1053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4" idx="3"/>
              <a:endCxn id="260" idx="1"/>
            </p:cNvCxnSpPr>
            <p:nvPr/>
          </p:nvCxnSpPr>
          <p:spPr>
            <a:xfrm flipV="1">
              <a:off x="2638440" y="5701680"/>
              <a:ext cx="145800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0" idx="3"/>
              <a:endCxn id="257" idx="1"/>
            </p:cNvCxnSpPr>
            <p:nvPr/>
          </p:nvCxnSpPr>
          <p:spPr>
            <a:xfrm>
              <a:off x="5724360" y="5702040"/>
              <a:ext cx="147888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7" idx="0"/>
              <a:endCxn id="245" idx="2"/>
            </p:cNvCxnSpPr>
            <p:nvPr/>
          </p:nvCxnSpPr>
          <p:spPr>
            <a:xfrm flipH="1" flipV="1">
              <a:off x="7965720" y="4284360"/>
              <a:ext cx="7200" cy="1072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45" idx="0"/>
              <a:endCxn id="239" idx="2"/>
            </p:cNvCxnSpPr>
            <p:nvPr/>
          </p:nvCxnSpPr>
          <p:spPr>
            <a:xfrm flipV="1">
              <a:off x="7965720" y="2474280"/>
              <a:ext cx="3960" cy="59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2843280" y="3141720"/>
              <a:ext cx="1168200" cy="515880"/>
            </a:xfrm>
            <a:custGeom>
              <a:avLst/>
              <a:gdLst/>
              <a:ahLst/>
              <a:rect l="l" t="t" r="r" b="b"/>
              <a:pathLst>
                <a:path w="2883" h="1343">
                  <a:moveTo>
                    <a:pt x="2882" y="511"/>
                  </a:moveTo>
                  <a:lnTo>
                    <a:pt x="773" y="1087"/>
                  </a:lnTo>
                  <a:lnTo>
                    <a:pt x="843" y="1342"/>
                  </a:lnTo>
                  <a:lnTo>
                    <a:pt x="0" y="1023"/>
                  </a:lnTo>
                  <a:lnTo>
                    <a:pt x="564" y="320"/>
                  </a:lnTo>
                  <a:lnTo>
                    <a:pt x="634" y="575"/>
                  </a:lnTo>
                  <a:lnTo>
                    <a:pt x="2743" y="0"/>
                  </a:lnTo>
                  <a:lnTo>
                    <a:pt x="2461" y="351"/>
                  </a:lnTo>
                  <a:lnTo>
                    <a:pt x="2882" y="511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73760" y="3182760"/>
              <a:ext cx="1206360" cy="522360"/>
            </a:xfrm>
            <a:custGeom>
              <a:avLst/>
              <a:gdLst/>
              <a:ahLst/>
              <a:rect l="l" t="t" r="r" b="b"/>
              <a:pathLst>
                <a:path w="2977" h="1363">
                  <a:moveTo>
                    <a:pt x="0" y="511"/>
                  </a:moveTo>
                  <a:lnTo>
                    <a:pt x="2179" y="1106"/>
                  </a:lnTo>
                  <a:lnTo>
                    <a:pt x="2109" y="1362"/>
                  </a:lnTo>
                  <a:lnTo>
                    <a:pt x="2976" y="1049"/>
                  </a:lnTo>
                  <a:lnTo>
                    <a:pt x="2388" y="339"/>
                  </a:lnTo>
                  <a:lnTo>
                    <a:pt x="2318" y="595"/>
                  </a:lnTo>
                  <a:lnTo>
                    <a:pt x="139" y="0"/>
                  </a:lnTo>
                  <a:lnTo>
                    <a:pt x="432" y="355"/>
                  </a:lnTo>
                  <a:lnTo>
                    <a:pt x="0" y="511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2080" y="4430880"/>
              <a:ext cx="430200" cy="582480"/>
            </a:xfrm>
            <a:custGeom>
              <a:avLst/>
              <a:gdLst/>
              <a:ahLst/>
              <a:rect l="l" t="t" r="r" b="b"/>
              <a:pathLst>
                <a:path w="1061" h="1523">
                  <a:moveTo>
                    <a:pt x="795" y="0"/>
                  </a:moveTo>
                  <a:lnTo>
                    <a:pt x="795" y="1141"/>
                  </a:lnTo>
                  <a:lnTo>
                    <a:pt x="1060" y="1141"/>
                  </a:lnTo>
                  <a:lnTo>
                    <a:pt x="530" y="1522"/>
                  </a:lnTo>
                  <a:lnTo>
                    <a:pt x="0" y="1141"/>
                  </a:lnTo>
                  <a:lnTo>
                    <a:pt x="265" y="1141"/>
                  </a:lnTo>
                  <a:lnTo>
                    <a:pt x="265" y="0"/>
                  </a:lnTo>
                  <a:lnTo>
                    <a:pt x="530" y="190"/>
                  </a:lnTo>
                  <a:lnTo>
                    <a:pt x="795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A7C-425D-4DA0-9ED3-329AF59AAE2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istemas fuzzy - f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ágio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zzificação: mapeia cada entrada de dados ao sistema em uma ou mais funções de pertin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regras de um conjunto de regras (predefinidas) são avaliadas verificando quais são aplicávei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ão fortemente cada regra deve ser disparada dependendo de como foi ativada cada função de pertin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uzzificação: calcula a saída, baseada nos valores mapeados em funções de pertinência de saída e em função das regras que foram dispa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EF6-0868-4CD0-BC73-EC77626CA2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7169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e de velocidade de um venti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locidade depende d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63640" y="3500280"/>
            <a:ext cx="6097320" cy="2565720"/>
            <a:chOff x="1763640" y="3500280"/>
            <a:chExt cx="6097320" cy="2565720"/>
          </a:xfrm>
        </p:grpSpPr>
        <p:grpSp>
          <p:nvGrpSpPr>
            <p:cNvPr id="275" name=""/>
            <p:cNvGrpSpPr/>
            <p:nvPr/>
          </p:nvGrpSpPr>
          <p:grpSpPr>
            <a:xfrm>
              <a:off x="5268600" y="5405400"/>
              <a:ext cx="2590920" cy="395280"/>
              <a:chOff x="5268600" y="5405400"/>
              <a:chExt cx="2590920" cy="395280"/>
            </a:xfrm>
          </p:grpSpPr>
          <p:sp>
            <p:nvSpPr>
              <p:cNvPr id="276" name=""/>
              <p:cNvSpPr/>
              <p:nvPr/>
            </p:nvSpPr>
            <p:spPr>
              <a:xfrm>
                <a:off x="5268600" y="540540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68600" y="540540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516120" y="5405400"/>
              <a:ext cx="1752480" cy="395280"/>
              <a:chOff x="3516120" y="5405400"/>
              <a:chExt cx="1752480" cy="395280"/>
            </a:xfrm>
          </p:grpSpPr>
          <p:sp>
            <p:nvSpPr>
              <p:cNvPr id="279" name=""/>
              <p:cNvSpPr/>
              <p:nvPr/>
            </p:nvSpPr>
            <p:spPr>
              <a:xfrm>
                <a:off x="3516120" y="540540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16120" y="540540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Rápi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763640" y="5405400"/>
              <a:ext cx="1752480" cy="660600"/>
              <a:chOff x="1763640" y="5405400"/>
              <a:chExt cx="1752480" cy="660600"/>
            </a:xfrm>
          </p:grpSpPr>
          <p:sp>
            <p:nvSpPr>
              <p:cNvPr id="282" name=""/>
              <p:cNvSpPr/>
              <p:nvPr/>
            </p:nvSpPr>
            <p:spPr>
              <a:xfrm>
                <a:off x="1763640" y="540540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63640" y="5405400"/>
                <a:ext cx="175248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uito qu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68600" y="4991040"/>
              <a:ext cx="2590920" cy="414360"/>
              <a:chOff x="5268600" y="4991040"/>
              <a:chExt cx="2590920" cy="414360"/>
            </a:xfrm>
          </p:grpSpPr>
          <p:sp>
            <p:nvSpPr>
              <p:cNvPr id="285" name=""/>
              <p:cNvSpPr/>
              <p:nvPr/>
            </p:nvSpPr>
            <p:spPr>
              <a:xfrm>
                <a:off x="5268600" y="4991040"/>
                <a:ext cx="259092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68600" y="499104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516120" y="4991040"/>
              <a:ext cx="1752480" cy="414360"/>
              <a:chOff x="3516120" y="4991040"/>
              <a:chExt cx="1752480" cy="414360"/>
            </a:xfrm>
          </p:grpSpPr>
          <p:sp>
            <p:nvSpPr>
              <p:cNvPr id="288" name=""/>
              <p:cNvSpPr/>
              <p:nvPr/>
            </p:nvSpPr>
            <p:spPr>
              <a:xfrm>
                <a:off x="3516120" y="4991040"/>
                <a:ext cx="175248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16120" y="499104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éd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63640" y="4991040"/>
              <a:ext cx="1752480" cy="414360"/>
              <a:chOff x="1763640" y="4991040"/>
              <a:chExt cx="1752480" cy="414360"/>
            </a:xfrm>
          </p:grpSpPr>
          <p:sp>
            <p:nvSpPr>
              <p:cNvPr id="291" name=""/>
              <p:cNvSpPr/>
              <p:nvPr/>
            </p:nvSpPr>
            <p:spPr>
              <a:xfrm>
                <a:off x="1763640" y="4991040"/>
                <a:ext cx="175248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63640" y="499104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Qu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268600" y="4595760"/>
              <a:ext cx="2590920" cy="395280"/>
              <a:chOff x="5268600" y="4595760"/>
              <a:chExt cx="2590920" cy="395280"/>
            </a:xfrm>
          </p:grpSpPr>
          <p:sp>
            <p:nvSpPr>
              <p:cNvPr id="294" name=""/>
              <p:cNvSpPr/>
              <p:nvPr/>
            </p:nvSpPr>
            <p:spPr>
              <a:xfrm>
                <a:off x="5268600" y="459576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68600" y="459576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516120" y="4595760"/>
              <a:ext cx="1752480" cy="395280"/>
              <a:chOff x="3516120" y="4595760"/>
              <a:chExt cx="1752480" cy="39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516120" y="459576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16120" y="459576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Devag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763640" y="4595760"/>
              <a:ext cx="1752480" cy="395280"/>
              <a:chOff x="1763640" y="4595760"/>
              <a:chExt cx="1752480" cy="39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763640" y="459576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3640" y="459576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F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268600" y="4200480"/>
              <a:ext cx="2590920" cy="395280"/>
              <a:chOff x="5268600" y="4200480"/>
              <a:chExt cx="2590920" cy="3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268600" y="420048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68600" y="420048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516120" y="4200480"/>
              <a:ext cx="1752480" cy="395280"/>
              <a:chOff x="3516120" y="4200480"/>
              <a:chExt cx="1752480" cy="395280"/>
            </a:xfrm>
          </p:grpSpPr>
          <p:sp>
            <p:nvSpPr>
              <p:cNvPr id="306" name=""/>
              <p:cNvSpPr/>
              <p:nvPr/>
            </p:nvSpPr>
            <p:spPr>
              <a:xfrm>
                <a:off x="3516120" y="420048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16120" y="42004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Deslig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763640" y="4200480"/>
              <a:ext cx="1752480" cy="395280"/>
              <a:chOff x="1763640" y="4200480"/>
              <a:chExt cx="1752480" cy="3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1763640" y="420048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63640" y="42004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uito f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68600" y="3500280"/>
              <a:ext cx="2590920" cy="700200"/>
              <a:chOff x="5268600" y="3500280"/>
              <a:chExt cx="2590920" cy="700200"/>
            </a:xfrm>
          </p:grpSpPr>
          <p:sp>
            <p:nvSpPr>
              <p:cNvPr id="312" name=""/>
              <p:cNvSpPr/>
              <p:nvPr/>
            </p:nvSpPr>
            <p:spPr>
              <a:xfrm>
                <a:off x="5268600" y="3500280"/>
                <a:ext cx="259092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68600" y="3500280"/>
                <a:ext cx="25909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Corrente relativa do mo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516120" y="3500280"/>
              <a:ext cx="1752480" cy="700200"/>
              <a:chOff x="3516120" y="3500280"/>
              <a:chExt cx="1752480" cy="700200"/>
            </a:xfrm>
          </p:grpSpPr>
          <p:sp>
            <p:nvSpPr>
              <p:cNvPr id="315" name=""/>
              <p:cNvSpPr/>
              <p:nvPr/>
            </p:nvSpPr>
            <p:spPr>
              <a:xfrm>
                <a:off x="3516120" y="3500280"/>
                <a:ext cx="175248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16120" y="35002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Velocida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63640" y="3500280"/>
              <a:ext cx="1752480" cy="700200"/>
              <a:chOff x="1763640" y="3500280"/>
              <a:chExt cx="1752480" cy="700200"/>
            </a:xfrm>
          </p:grpSpPr>
          <p:sp>
            <p:nvSpPr>
              <p:cNvPr id="318" name=""/>
              <p:cNvSpPr/>
              <p:nvPr/>
            </p:nvSpPr>
            <p:spPr>
              <a:xfrm>
                <a:off x="1763640" y="3500280"/>
                <a:ext cx="175248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3640" y="35002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Temperatu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763640" y="3500280"/>
              <a:ext cx="6095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63640" y="420048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63640" y="459576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63640" y="499104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63640" y="54054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3640" y="5800680"/>
              <a:ext cx="609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3640" y="3500280"/>
              <a:ext cx="1440" cy="23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6120" y="3500280"/>
              <a:ext cx="1440" cy="23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68600" y="3500280"/>
              <a:ext cx="1800" cy="23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59520" y="3500280"/>
              <a:ext cx="1440" cy="23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B4F-AC5F-471B-80CA-E220683CFC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3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mento de desenvolver um sistema baseado em lógica fuzzy, deve-se deci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o cada variável de entrada e saída será particionad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ociar uma função de pertinência para cada part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, tem-se 4 funções de pertinência para 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quinta (moderada) poderia ser adicionada entre frio e q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número de funções necessárias depende da exatidão desejada para 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o mais curvas, mais sensibilidade, maior complex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Desenvolvendo o sistema fuzz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B5E-2E18-4D74-AEAD-D6A11316CB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31400" y="189000"/>
            <a:ext cx="82933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Conjuntos fuzzy correspondentes à variável Temperatura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76360" y="2781360"/>
            <a:ext cx="5943600" cy="2758320"/>
            <a:chOff x="1476360" y="2781360"/>
            <a:chExt cx="5943600" cy="2758320"/>
          </a:xfrm>
        </p:grpSpPr>
        <p:sp>
          <p:nvSpPr>
            <p:cNvPr id="335" name=""/>
            <p:cNvSpPr/>
            <p:nvPr/>
          </p:nvSpPr>
          <p:spPr>
            <a:xfrm>
              <a:off x="1933560" y="2781360"/>
              <a:ext cx="548640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04960" y="521964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-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3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76360" y="3054600"/>
              <a:ext cx="533520" cy="21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33560" y="3238560"/>
              <a:ext cx="19051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38680" y="3238560"/>
              <a:ext cx="63828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48160" y="3238560"/>
              <a:ext cx="5335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912840" y="3238560"/>
              <a:ext cx="53676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476960" y="3236760"/>
              <a:ext cx="60948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085000" y="3236760"/>
              <a:ext cx="61272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981680" y="3236760"/>
              <a:ext cx="914400" cy="183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96080" y="3238560"/>
              <a:ext cx="1523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33560" y="506736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6200" y="2814840"/>
              <a:ext cx="12952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Muito_f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67280" y="2814840"/>
              <a:ext cx="609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Frio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76760" y="281484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2400" y="2814840"/>
              <a:ext cx="1447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Muito_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1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de pertinência para a variável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tem-se apenas a variável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5950080"/>
            <a:ext cx="748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ormatos mais utilizados para funções de pertinência são os trapezoidais e os triangulares. Mas qualquer função mais adequada ao caso pode ser uti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078-8FC1-47D7-A585-B390BF588B4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6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Conjuntos fuzzy correspondentes à variável Velocidade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6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de pertinência para a variável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tem-se apenas a variável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692360" y="3213000"/>
            <a:ext cx="5943600" cy="2758320"/>
            <a:chOff x="1692360" y="3213000"/>
            <a:chExt cx="5943600" cy="2758320"/>
          </a:xfrm>
        </p:grpSpPr>
        <p:sp>
          <p:nvSpPr>
            <p:cNvPr id="356" name=""/>
            <p:cNvSpPr/>
            <p:nvPr/>
          </p:nvSpPr>
          <p:spPr>
            <a:xfrm>
              <a:off x="2149560" y="3213000"/>
              <a:ext cx="464832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20960" y="565128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6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8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2360" y="3485880"/>
              <a:ext cx="533520" cy="22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9560" y="3670200"/>
              <a:ext cx="3049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54480" y="3670200"/>
              <a:ext cx="40932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3440" y="3670200"/>
              <a:ext cx="68580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00400" y="3670200"/>
              <a:ext cx="6127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881320" y="3744360"/>
              <a:ext cx="917640" cy="175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807160" y="3668760"/>
              <a:ext cx="990720" cy="18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49560" y="5499000"/>
              <a:ext cx="464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73240" y="3246480"/>
              <a:ext cx="6858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87640" y="324648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baixa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92760" y="324648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mé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40680" y="3246480"/>
              <a:ext cx="5331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1680" y="3670200"/>
              <a:ext cx="761760" cy="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749760" y="3744360"/>
              <a:ext cx="914400" cy="175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4160" y="3746520"/>
              <a:ext cx="121932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21F-B030-48CE-AF4F-F376DF7B522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Definindo as regras de produção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660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baix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mé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nto as regras como os conjuntos fuzzy são especificados de acordo com o conhecimento de um especialista no domínio do 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F42-4358-4337-96E1-3ED4A3FDAA6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6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ºC pode ser considerada “fria” ou “qu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0% fria e 30% q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877000"/>
            <a:ext cx="7867440" cy="76176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71640" y="5950080"/>
            <a:ext cx="777708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zzificaçã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ransformar variáveis qualitativas, com base nas funções de pertinência, em algum significado para 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2743200"/>
            <a:ext cx="5486400" cy="243828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181480"/>
            <a:ext cx="5715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-1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2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3016080"/>
            <a:ext cx="533520" cy="22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3200400"/>
            <a:ext cx="19051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57600" y="3200400"/>
            <a:ext cx="638280" cy="1825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3200400"/>
            <a:ext cx="533520" cy="182880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731760" y="3200400"/>
            <a:ext cx="536760" cy="182880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903920" y="3198960"/>
            <a:ext cx="612720" cy="1831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00600" y="3198960"/>
            <a:ext cx="914400" cy="18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320040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5029200"/>
            <a:ext cx="548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2776680"/>
            <a:ext cx="1218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Unicode MS"/>
              </a:rPr>
              <a:t>Muito_f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2776680"/>
            <a:ext cx="761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Arial Unicode MS"/>
              </a:rPr>
              <a:t>Frio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277668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Arial Unicode MS"/>
              </a:rPr>
              <a:t>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2776680"/>
            <a:ext cx="1447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Muito_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33920" y="3809880"/>
            <a:ext cx="1066680" cy="1220760"/>
          </a:xfrm>
          <a:custGeom>
            <a:avLst/>
            <a:gdLst/>
            <a:ahLst/>
            <a:rect l="l" t="t" r="r" b="b"/>
            <a:pathLst>
              <a:path w="2965" h="3389">
                <a:moveTo>
                  <a:pt x="1005" y="13"/>
                </a:moveTo>
                <a:lnTo>
                  <a:pt x="0" y="3388"/>
                </a:lnTo>
                <a:lnTo>
                  <a:pt x="2964" y="3388"/>
                </a:lnTo>
                <a:lnTo>
                  <a:pt x="1958" y="0"/>
                </a:lnTo>
                <a:lnTo>
                  <a:pt x="1005" y="13"/>
                </a:lnTo>
                <a:lnTo>
                  <a:pt x="1005" y="13"/>
                </a:lnTo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00560" y="4491000"/>
            <a:ext cx="1201680" cy="534960"/>
          </a:xfrm>
          <a:custGeom>
            <a:avLst/>
            <a:gdLst/>
            <a:ahLst/>
            <a:rect l="l" t="t" r="r" b="b"/>
            <a:pathLst>
              <a:path w="3336" h="1484">
                <a:moveTo>
                  <a:pt x="502" y="0"/>
                </a:moveTo>
                <a:lnTo>
                  <a:pt x="2885" y="0"/>
                </a:lnTo>
                <a:lnTo>
                  <a:pt x="3335" y="1469"/>
                </a:lnTo>
                <a:lnTo>
                  <a:pt x="0" y="1483"/>
                </a:lnTo>
                <a:lnTo>
                  <a:pt x="502" y="0"/>
                </a:lnTo>
                <a:lnTo>
                  <a:pt x="502" y="0"/>
                </a:lnTo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467240" y="2894040"/>
            <a:ext cx="1440" cy="244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4486320"/>
            <a:ext cx="39625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3809880"/>
            <a:ext cx="313848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95880" y="3198960"/>
            <a:ext cx="609480" cy="1831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062-2EEF-4BE1-9755-6152E55E8F7D}" type="slidenum">
              <a:t>39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0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ção de regras para diagnóstico odontológico utilizando a lógica de primeira or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2997360"/>
                <a:ext cx="5759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rPr>
                        <m:lit/>
                        <m:nor/>
                      </m:rPr>
                      <m:t xml:space="preserve">om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rDeDente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oenç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ári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42920" y="422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 regra está corr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811-E4B1-4BA9-8A72-21F7CE1F5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Regras ativad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1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94476b"/>
                </a:solidFill>
                <a:latin typeface="Arial"/>
              </a:rPr>
              <a:t>If (temperatura is frio) then (velocidade is baix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f (temperatura is quente) then (velocidade is mé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871-624E-4A1B-8944-05975136CE2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Avaliação das regr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nte a avaliação de uma r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es são computados baseados nos níveis de ativação alcanç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uma das funções de pertin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uma das 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es valores são associados às regras difusas de saí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almente uma função de minimização é utilizada para determinar o valor associado a cada variável de entrada quando mais de uma função de pertinência é ativada na mesma reg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C48-AD7F-4F2D-B4CA-EB882B354FC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Operações sobre conjuntos fuzz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1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seção de dois conjuntos, corresponde à função fuzzy-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(A AND B) = min(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ão de dois conjuntos, corresponde à função fuzzy-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(A OR B) = max(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CBC-70B0-4E3F-9617-433F1068EAF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1484280"/>
            <a:ext cx="1353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42920" y="4797360"/>
            <a:ext cx="1871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24000" y="836640"/>
            <a:ext cx="5943600" cy="2758320"/>
            <a:chOff x="2124000" y="836640"/>
            <a:chExt cx="5943600" cy="2758320"/>
          </a:xfrm>
        </p:grpSpPr>
        <p:sp>
          <p:nvSpPr>
            <p:cNvPr id="410" name=""/>
            <p:cNvSpPr/>
            <p:nvPr/>
          </p:nvSpPr>
          <p:spPr>
            <a:xfrm>
              <a:off x="2581200" y="836640"/>
              <a:ext cx="548640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52600" y="327492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-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3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24000" y="1109880"/>
              <a:ext cx="533520" cy="21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81200" y="1293840"/>
              <a:ext cx="19051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86320" y="1293840"/>
              <a:ext cx="63828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95800" y="1293840"/>
              <a:ext cx="5335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560480" y="1293840"/>
              <a:ext cx="53676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24600" y="1292040"/>
              <a:ext cx="60948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732640" y="1292040"/>
              <a:ext cx="61272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629320" y="1292040"/>
              <a:ext cx="914400" cy="183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3720" y="1293840"/>
              <a:ext cx="1523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81200" y="312264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3840" y="870120"/>
              <a:ext cx="12952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Muito_f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4920" y="870120"/>
              <a:ext cx="609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Frio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24400" y="87012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20040" y="870120"/>
              <a:ext cx="1447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Muito_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949480" y="4005360"/>
            <a:ext cx="5943600" cy="2757960"/>
            <a:chOff x="2949480" y="4005360"/>
            <a:chExt cx="5943600" cy="2757960"/>
          </a:xfrm>
        </p:grpSpPr>
        <p:sp>
          <p:nvSpPr>
            <p:cNvPr id="427" name=""/>
            <p:cNvSpPr/>
            <p:nvPr/>
          </p:nvSpPr>
          <p:spPr>
            <a:xfrm>
              <a:off x="3406680" y="4005360"/>
              <a:ext cx="4648320" cy="243792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78080" y="644328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6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8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49480" y="4277880"/>
              <a:ext cx="533520" cy="22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06680" y="4462200"/>
              <a:ext cx="304920" cy="1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11600" y="4462200"/>
              <a:ext cx="409320" cy="1825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30560" y="4462200"/>
              <a:ext cx="685800" cy="1828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557520" y="4462200"/>
              <a:ext cx="612720" cy="1828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38440" y="4536720"/>
              <a:ext cx="917640" cy="175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064280" y="4460400"/>
              <a:ext cx="990720" cy="183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06680" y="6291000"/>
              <a:ext cx="4648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0360" y="4038480"/>
              <a:ext cx="6858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4760" y="403848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baixa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9880" y="403848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mé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7800" y="4038480"/>
              <a:ext cx="5331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68800" y="4462200"/>
              <a:ext cx="761760" cy="10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06880" y="4536720"/>
              <a:ext cx="914400" cy="175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21280" y="4538520"/>
              <a:ext cx="1219320" cy="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705-0DEF-4EDC-BC85-29F41738E91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62120" y="4572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2880" y="4572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167652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16765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89548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289548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1148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41148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53341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5410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335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0"/>
                </a:moveTo>
                <a:lnTo>
                  <a:pt x="5080" y="0"/>
                </a:lnTo>
                <a:lnTo>
                  <a:pt x="6138" y="2752"/>
                </a:lnTo>
                <a:lnTo>
                  <a:pt x="9314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41911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2752"/>
                </a:moveTo>
                <a:lnTo>
                  <a:pt x="6985" y="2752"/>
                </a:lnTo>
                <a:lnTo>
                  <a:pt x="8467" y="0"/>
                </a:lnTo>
                <a:lnTo>
                  <a:pt x="9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5335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0"/>
                </a:moveTo>
                <a:lnTo>
                  <a:pt x="423" y="0"/>
                </a:lnTo>
                <a:lnTo>
                  <a:pt x="1693" y="2752"/>
                </a:lnTo>
                <a:lnTo>
                  <a:pt x="9315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1911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2752"/>
                </a:moveTo>
                <a:lnTo>
                  <a:pt x="7833" y="2752"/>
                </a:lnTo>
                <a:lnTo>
                  <a:pt x="9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2050920"/>
            <a:ext cx="685800" cy="693720"/>
          </a:xfrm>
          <a:custGeom>
            <a:avLst/>
            <a:gdLst/>
            <a:ahLst/>
            <a:rect l="l" t="t" r="r" b="b"/>
            <a:pathLst>
              <a:path w="1907" h="1925">
                <a:moveTo>
                  <a:pt x="1253" y="0"/>
                </a:moveTo>
                <a:lnTo>
                  <a:pt x="741" y="0"/>
                </a:lnTo>
                <a:lnTo>
                  <a:pt x="0" y="1924"/>
                </a:lnTo>
                <a:lnTo>
                  <a:pt x="1906" y="1924"/>
                </a:lnTo>
                <a:lnTo>
                  <a:pt x="1253" y="0"/>
                </a:lnTo>
                <a:lnTo>
                  <a:pt x="125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95480" y="3657600"/>
            <a:ext cx="914400" cy="306360"/>
          </a:xfrm>
          <a:custGeom>
            <a:avLst/>
            <a:gdLst/>
            <a:ahLst/>
            <a:rect l="l" t="t" r="r" b="b"/>
            <a:pathLst>
              <a:path w="2542" h="849">
                <a:moveTo>
                  <a:pt x="423" y="0"/>
                </a:moveTo>
                <a:lnTo>
                  <a:pt x="2135" y="0"/>
                </a:lnTo>
                <a:lnTo>
                  <a:pt x="2541" y="848"/>
                </a:lnTo>
                <a:lnTo>
                  <a:pt x="0" y="848"/>
                </a:lnTo>
                <a:lnTo>
                  <a:pt x="423" y="0"/>
                </a:lnTo>
                <a:lnTo>
                  <a:pt x="42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457200"/>
            <a:ext cx="144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657600"/>
            <a:ext cx="2666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638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48520" y="365760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97180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3598" y="2753"/>
                </a:lnTo>
                <a:lnTo>
                  <a:pt x="4445" y="0"/>
                </a:lnTo>
                <a:lnTo>
                  <a:pt x="7833" y="0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175248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635" y="2753"/>
                </a:lnTo>
                <a:lnTo>
                  <a:pt x="1693" y="0"/>
                </a:lnTo>
                <a:lnTo>
                  <a:pt x="3387" y="0"/>
                </a:lnTo>
                <a:lnTo>
                  <a:pt x="4445" y="2753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1781280"/>
            <a:ext cx="3352680" cy="961920"/>
          </a:xfrm>
          <a:custGeom>
            <a:avLst/>
            <a:gdLst/>
            <a:ahLst/>
            <a:rect l="l" t="t" r="r" b="b"/>
            <a:pathLst>
              <a:path w="9315" h="2674">
                <a:moveTo>
                  <a:pt x="0" y="2673"/>
                </a:moveTo>
                <a:lnTo>
                  <a:pt x="5080" y="2673"/>
                </a:lnTo>
                <a:lnTo>
                  <a:pt x="6107" y="0"/>
                </a:lnTo>
                <a:lnTo>
                  <a:pt x="6985" y="2673"/>
                </a:lnTo>
                <a:lnTo>
                  <a:pt x="9314" y="26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000240"/>
            <a:ext cx="3352680" cy="963720"/>
          </a:xfrm>
          <a:custGeom>
            <a:avLst/>
            <a:gdLst/>
            <a:ahLst/>
            <a:rect l="l" t="t" r="r" b="b"/>
            <a:pathLst>
              <a:path w="9315" h="2675">
                <a:moveTo>
                  <a:pt x="0" y="2674"/>
                </a:moveTo>
                <a:lnTo>
                  <a:pt x="5927" y="2674"/>
                </a:lnTo>
                <a:lnTo>
                  <a:pt x="7236" y="0"/>
                </a:lnTo>
                <a:lnTo>
                  <a:pt x="8467" y="2674"/>
                </a:lnTo>
                <a:lnTo>
                  <a:pt x="9314" y="26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81480" y="57214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609588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5876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15228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715000"/>
            <a:ext cx="1371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mposi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6445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6445080"/>
            <a:ext cx="609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2AB-8F3C-4EE4-8E7A-8FADC3AA75A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de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vez que já se sabe quais regras devem ser at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processo de defuzzificação da saída é necessári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frar o significado de uma ação vaga como: “a velocidade de ser baixa”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ver conflitos entre regras que possam parecer contraditó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 dos métodos mais utilizados se baseia no método de determinação do centróide (determinação do centro de gravidade ou ma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2BA-F0E3-434E-825C-75C79AA9C85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de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icação das regras que foram ativ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o de composição das regras dispar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áreas que representam o grau de ativação de cada regra são compostas formando uma área result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bre esta área se calcula o ponto central, baseado no cálculo do centro de ma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m, o nível de ativação de cada regra age como um nível de ponderação no cálcul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B58-81CB-4164-BC1F-7AB09DF306F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62120" y="4572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4572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167652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16765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289548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289548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41148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1148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53341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410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335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0"/>
                </a:moveTo>
                <a:lnTo>
                  <a:pt x="5080" y="0"/>
                </a:lnTo>
                <a:lnTo>
                  <a:pt x="6138" y="2752"/>
                </a:lnTo>
                <a:lnTo>
                  <a:pt x="9314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41911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2752"/>
                </a:moveTo>
                <a:lnTo>
                  <a:pt x="6985" y="2752"/>
                </a:lnTo>
                <a:lnTo>
                  <a:pt x="8467" y="0"/>
                </a:lnTo>
                <a:lnTo>
                  <a:pt x="9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5335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0"/>
                </a:moveTo>
                <a:lnTo>
                  <a:pt x="423" y="0"/>
                </a:lnTo>
                <a:lnTo>
                  <a:pt x="1693" y="2752"/>
                </a:lnTo>
                <a:lnTo>
                  <a:pt x="9315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41911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2752"/>
                </a:moveTo>
                <a:lnTo>
                  <a:pt x="7833" y="2752"/>
                </a:lnTo>
                <a:lnTo>
                  <a:pt x="9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050920"/>
            <a:ext cx="685800" cy="693720"/>
          </a:xfrm>
          <a:custGeom>
            <a:avLst/>
            <a:gdLst/>
            <a:ahLst/>
            <a:rect l="l" t="t" r="r" b="b"/>
            <a:pathLst>
              <a:path w="1907" h="1925">
                <a:moveTo>
                  <a:pt x="1253" y="0"/>
                </a:moveTo>
                <a:lnTo>
                  <a:pt x="741" y="0"/>
                </a:lnTo>
                <a:lnTo>
                  <a:pt x="0" y="1924"/>
                </a:lnTo>
                <a:lnTo>
                  <a:pt x="1906" y="1924"/>
                </a:lnTo>
                <a:lnTo>
                  <a:pt x="1253" y="0"/>
                </a:lnTo>
                <a:lnTo>
                  <a:pt x="125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3657600"/>
            <a:ext cx="914400" cy="306360"/>
          </a:xfrm>
          <a:custGeom>
            <a:avLst/>
            <a:gdLst/>
            <a:ahLst/>
            <a:rect l="l" t="t" r="r" b="b"/>
            <a:pathLst>
              <a:path w="2542" h="849">
                <a:moveTo>
                  <a:pt x="423" y="0"/>
                </a:moveTo>
                <a:lnTo>
                  <a:pt x="2135" y="0"/>
                </a:lnTo>
                <a:lnTo>
                  <a:pt x="2541" y="848"/>
                </a:lnTo>
                <a:lnTo>
                  <a:pt x="0" y="848"/>
                </a:lnTo>
                <a:lnTo>
                  <a:pt x="423" y="0"/>
                </a:lnTo>
                <a:lnTo>
                  <a:pt x="42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457200"/>
            <a:ext cx="144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3657600"/>
            <a:ext cx="2666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81480" y="20638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365760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297180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3598" y="2753"/>
                </a:lnTo>
                <a:lnTo>
                  <a:pt x="4445" y="0"/>
                </a:lnTo>
                <a:lnTo>
                  <a:pt x="7833" y="0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175248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635" y="2753"/>
                </a:lnTo>
                <a:lnTo>
                  <a:pt x="1693" y="0"/>
                </a:lnTo>
                <a:lnTo>
                  <a:pt x="3387" y="0"/>
                </a:lnTo>
                <a:lnTo>
                  <a:pt x="4445" y="2753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1781280"/>
            <a:ext cx="3352680" cy="961920"/>
          </a:xfrm>
          <a:custGeom>
            <a:avLst/>
            <a:gdLst/>
            <a:ahLst/>
            <a:rect l="l" t="t" r="r" b="b"/>
            <a:pathLst>
              <a:path w="9315" h="2674">
                <a:moveTo>
                  <a:pt x="0" y="2673"/>
                </a:moveTo>
                <a:lnTo>
                  <a:pt x="5080" y="2673"/>
                </a:lnTo>
                <a:lnTo>
                  <a:pt x="6107" y="0"/>
                </a:lnTo>
                <a:lnTo>
                  <a:pt x="6985" y="2673"/>
                </a:lnTo>
                <a:lnTo>
                  <a:pt x="9314" y="26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3000240"/>
            <a:ext cx="3352680" cy="963720"/>
          </a:xfrm>
          <a:custGeom>
            <a:avLst/>
            <a:gdLst/>
            <a:ahLst/>
            <a:rect l="l" t="t" r="r" b="b"/>
            <a:pathLst>
              <a:path w="9315" h="2675">
                <a:moveTo>
                  <a:pt x="0" y="2674"/>
                </a:moveTo>
                <a:lnTo>
                  <a:pt x="5927" y="2674"/>
                </a:lnTo>
                <a:lnTo>
                  <a:pt x="7236" y="0"/>
                </a:lnTo>
                <a:lnTo>
                  <a:pt x="8467" y="2674"/>
                </a:lnTo>
                <a:lnTo>
                  <a:pt x="9314" y="26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57214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48520" y="609588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5334120"/>
            <a:ext cx="14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97760" y="6445080"/>
            <a:ext cx="12697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5876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15228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715000"/>
            <a:ext cx="1371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mposi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6445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77320" y="6445080"/>
            <a:ext cx="609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A51-4074-4B23-A1AC-0D9BEEF5311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tilização mais significativa da teoria dos conjuntos nebulosos em sistemas baseados em conhecimento são os controladores nebul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trolador nebuloso pode ser visto como um sistema especialista simplificado, em que a conseqüência de uma regra não é aplicada como antecedente de outra. Isto porque as ações de controle são baseadas em um único nível de infer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20F-C9EB-4449-B5C4-6BD44A97B31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 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8501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e de Aeronave (Rockwell Cor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ção do Metrô de Sendai (Hita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ão Automática (Nissan, Suba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Shuttle Docking (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imização 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vadores (Hitachi, Fujitech, Mitsubis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álise do Mercado de Ações (Yamai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álise de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juste da Imagem de TV (S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focus para Câmera de Video (Can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ilizador de Imagens de Video (Panas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63B-0EFE-4AAB-BB9F-0353AD6B8EC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todos os pacientes com dores de dentes têm caries; alguns deles têm gengivite, abscessos ou outro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tiva de transformar a regra em uma regra cau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regra também não é correta; nem todas as cáries causam 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71640" y="2924280"/>
                <a:ext cx="8028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om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orDeDent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árie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engivite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scess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58920" y="5013360"/>
                <a:ext cx="691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oenç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árie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rPr>
                        <m:lit/>
                        <m:nor/>
                      </m:rPr>
                      <m:t xml:space="preserve">om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rDeDent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1F5-EA8D-4378-BF7D-9860FABD8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 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8501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áquinas de lavar (Hitachi) – uso otimizado de potência, água e det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 condicionado industrial (Mitsubishi) – reduz o consumo de potência em 24%, usa menos sen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46B-8F02-4037-BB04-F8F88100DDA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81010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ros projetos japon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onhecimento de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stemas fuzzy 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bô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licópteros comandados por v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SA – controle fuzzy para ancorar suas naves automaticamente no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C3F-44B4-4A41-8511-00D00D49C1E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erspectiv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660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cial manuseio de incertezas e controle de sistemas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ógica fuzzy combinada com redes neurais artif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dade de adaptação e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bi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as classes de sistemas e de controlador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urodif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787-79FC-4D73-81D0-15BA96F7C51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r usar a lógica de primeira ordem para lidar com um domínio como diagnóstico médico é uma abordagem falha, por três raz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gui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norância Te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norância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do agente pode, na melhor das hipóteses, fornecer apenas um grau de “crença” nas sentenç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l ferramenta para lidar com graus de “crença”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ia da Prob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D4B-13EC-44A3-B754-C0E6C8464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99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representar imperfeições da informação, imprecisão, conflito, ignorância parci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feita: a aula começa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recisa: a aula começa entre 8h e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erta: acho que a aula começa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ga: a aula começa lá pela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abilística: é provável que a aula comece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sta: é possível que a aula comece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onsistente: segundo Maria, a aula começa as 8h, porém segundo João ela começa às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ompleta: não sei quando a aula começa, mas usualmente as aulas têm começado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54D-1816-4EF2-8BC4-A638C86072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 lidando com informações imperfeitas, ainda é possível tomar decisões razo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modelo formal para tratar cada um dos tipos de informações apresentadas an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abilíst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robabilidades; ou teoria da evidência (Dempster-Sha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recisa/Vag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os conjuntos nebulosos; conjuntos de aproximaç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ough se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; ou classes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ssibilis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os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er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robabilidades; possibilidades; evidência; ou model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onsist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ógicas não cláss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omple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ógicas não monotônicas como lógica de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034-F151-4FE7-AA99-F076E3083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numéricos mais conhecidos para a representação da informação imperfe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bul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53A-FA75-4050-BCBB-0A36F548E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4:01:58Z</dcterms:modified>
  <cp:revision>64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