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A18-F8EA-432F-973F-1D2905BA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CA8-7506-422A-A844-569B9AE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B35-595B-4276-9CBF-14BF8B98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9A1-5E67-42A2-BC65-57C0CD14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13DB1-FBB0-4C07-AC69-464ED140E5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FE967-9341-46A3-B9B6-2288245F1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08C79-183B-4A49-A0F4-CAED9EBDA6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B19B5-C100-4705-8216-95A2DF6B7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E7F4D-0F85-42D6-A36B-042EFE490E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2DDF-3193-4D08-BC3C-CBBA23CCD5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BF38C-D7AB-4EBC-A245-A75D162A3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8D1-DBE2-4906-82A0-EF9718D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8DBD-AF27-495D-AEA3-0A9B34589A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0FF6A-39F3-484B-9952-56B946D298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100B5-810F-4F75-9AE3-74C31B523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6DE95-1E02-4C8F-99B2-0A78E26779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9F5C3-9AEA-447A-919A-9340C0403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A9C-C7B7-49DF-AFC2-E2B009E6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DA9-030B-4BF2-9818-EAF0AB1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DAE-1B1F-40B2-80B2-C03F5F62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784-ECF0-4FCE-9528-D5E2C36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6EC-4A11-4608-BEBD-A4E168F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680-8BD9-4272-8997-40AFEBB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E42-38D3-4452-9AB6-CBD0A2D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75C-BD3D-47FA-AB8E-040AC1F7CAF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784-0ADF-4ED0-AF77-F1502E53396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V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48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a uma base de conhecimento utilizando regras que permita descrever o processo de decisão para identificar (1) o tipo de emergência, a partir dos sintomas, e (2) o tratamento, a partir do tipo de emerg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no sistema construído, suponha que um paciente sendo atendido tenha os seguintes sintomas: Dores de Cabeça e Perda dos Sent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o mecanismo de inferência com encadeamento progressivo, qual o tipo de emergência e o respectivo tratamento o sistema indicaria? Ilustre o processo (Conteúdos da Memória de Trabalho e Conjunto Conflito para cada pas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E14-F982-4C6B-89B1-7D6E461476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 – Sistemas Especi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A46-35CF-4E77-8527-5E3464343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e um Sistema Especialista para diagnóstico de automóveis, em que os Fatores de Certeza são precedidos por CF (inteiros de -100 a +100 indicam definitivamente falso até definitivamente verdadei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9ED-202A-4055-9906-260A5099AB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3781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42920" y="2060640"/>
          <a:ext cx="7776720" cy="4606920"/>
        </p:xfrm>
        <a:graphic>
          <a:graphicData uri="http://schemas.openxmlformats.org/drawingml/2006/table">
            <a:tbl>
              <a:tblPr/>
              <a:tblGrid>
                <a:gridCol w="3937680"/>
                <a:gridCol w="383904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NOT motor_arranca AND bateria_ru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BATERIA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farois_fra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bateria_ruim CF=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radio_fr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bateria_ruim” CF=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motor_arranca AND cheiro_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AFOGADO” CF=8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motor_arranca AND tanque=vaz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SEM GASOLINA” CF=9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motor_arranca AND tanque=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SEM GASOLINA” CF=3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2F6-0388-46E8-9718-647245645E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781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2705040"/>
            <a:ext cx="770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Motor arranca?' [sim, não]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Radio está fraco?' [sim, não]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O que mostra o marcador de gás?' [vazio, cheio, baix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Luzes estão fracas?' [sim, nã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heiro de gasolina?' [sim, nã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37F-C9F4-4C2B-9731-D92A40788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88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nha o resultado para a seguinte consu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419200"/>
            <a:ext cx="6624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 arranca?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heiro de gasolina?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ostra o marcador de gas?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v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 o 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091840"/>
            <a:ext cx="79218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a premissa de uma regra é incerta devido a fatos incertos e a conclusão é incerta devido a uma especificação na regra, então a seguinte fórmula é usada para calcular o fator de certeza ajustado da conclu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6021360"/>
            <a:ext cx="4757760" cy="4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69A-F38C-434C-9CEF-6E5822B7C5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88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nha o resultado para a seguinte consu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491200"/>
            <a:ext cx="66247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 arranca?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heiro de gasolina?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 CF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ostra o marcador de gas?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v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 o Resul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5091840"/>
            <a:ext cx="79218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a premissa de uma regra é incerta devido a fatos incertos e a conclusão é incerta devido a uma especificação na regra, então a seguinte fórmula é usada para calcular o fator de certeza ajustado da conclu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40000" y="6021360"/>
            <a:ext cx="4757760" cy="4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8B6-3896-484A-950E-E46F1C2590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48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ine que você foi contrato para desenvolver um sistema especialista que auxilie um paramédico a prestar os primeiros socorros a vítimas de acidentes, identificando a emergência e indicando o tratamento mais adequ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87F-4734-4F82-AB2C-7E5782BA3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48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sponder as questões abaixo, considere o conjunto de emergências, os sintomas e os tratamento indicados na tabela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0733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936-D308-4FA4-98AD-DEAD8F4CE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2T10:10:51Z</dcterms:modified>
  <cp:revision>65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