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A3C-6586-4400-8B39-903543E6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F46-81CE-4122-A0C9-17385A73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475-0FCC-4F97-A20D-C268FE8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C02-2662-4E91-80BA-8BBFFB9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F391F-C584-49AA-A2BE-B507224756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DB46-868C-40AA-B71B-791B200321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A95A2-7B87-4E3B-BD3E-56FC969CA5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2568-BE3B-4350-9595-9A73B9EDD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B857C-E9EC-480B-B228-E8B0573FF7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AC32-4839-4485-9EB3-8367F05C6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E7CD2-2EB7-46DA-9C8E-4878033C1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A5F-AFD9-41BD-9441-29E54A3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478D-2242-4740-87D7-D845D4CB98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613B3-70D1-42FC-BF7C-EA4FC7A44D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99CA-DF58-4B0E-8D0B-0F32F1F37C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45B6E-9C9E-41B6-AED1-5EDA22355F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10E30-5806-4783-BC7C-B1AFBCF06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7F4-92F5-4B49-B675-A885833C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97A-0A45-43D3-82B1-26E83E5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F77-7784-449B-8030-35C4EDB6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708-E790-46B1-90C2-5F3BB0BD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F07-8839-4672-A59E-1D2454E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A9A-2433-4D0F-A6F5-3D9B8C4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064-F636-4053-8F98-F255203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CD47-A7D2-469E-B6E0-8C43809FBCD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FB4-45A2-4FE5-A606-20B39B6BB5C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istemas que comparam comportamento de sistemas reais com comportamentos esper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Monitoração de leitura de instrumentos num reator nuclear para detectar condições de acidente; Monitoração de pacientes em U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A7D-8094-4937-8E6E-F8BF947E7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Es que desempenham tarefas de diagnóstico e conserto de comportamento de estudantes. Eles avaliam o que os estudantes conhecem e suas deficiências e traçam planos para corrigir as defici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s planos são executados diretamente com os estud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Ensinar estudantes a rastrear falhas em circuitos elétricos; Ensinar estudantes de medicina na área de seleção de antimicró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B0B-998A-4BB7-B0F1-D28B58B91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A93-0B86-4BDB-83C9-567B34FBC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nentes de qualquer 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s -&gt;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-&gt; Fatos Con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e Conhecimento: Conjunto de Representações do Conhecimento (Ex.: Fatos e Reg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Inferência -&gt; Procedimentos gerais para resolução de problemas (decide em que ordem e como aplicar as regr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-&gt; Interação do Sistema Especialista com o Usuário (caracterizada pela explicação de suas soluções e diagnós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B2D-82BF-47EB-9201-5DEE8E3D2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43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e um Sistema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897" t="0" r="0" b="0"/>
          <a:stretch/>
        </p:blipFill>
        <p:spPr>
          <a:xfrm>
            <a:off x="1004760" y="2205000"/>
            <a:ext cx="8139240" cy="290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42920" y="5877000"/>
            <a:ext cx="7632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Módulo composto pela máquina de inferência e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mada de interface de um sistema e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B28-B3C7-4A4B-8D71-95B026A52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çã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pre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r situações através de sensores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s dados podem ser de várias formas: imagens, sinais de áudio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médicos de Interpretação usam medidas obtidas através da monitoração de dados de pacientes: pressão sanguínea, batimentos cardía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avés da Interpretação desses dados, o SE apresenta um diagnóstico para 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B13-FABE-4181-A869-184C5BB15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nóstic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m as prováveis consequências de dadas situ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predizer o estrago em determinada plantação causado por alguma praga; predizer a demanda de petróleo através da situação geopolítica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Prognóstico são, às vezes, modelos de simulação, modelos que espelham alguma atividade do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F2B-981C-4727-8DA4-118E6DB9E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óstic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gn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 descrições de situações e características de comportamento para inferir prováveis causas de mau funcionamento em sist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Diagnosticar causas de doenças em pacientes através da observação de seus sintomas; Localizar falhas em circuitos elét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1A5-5621-4035-8DBD-D877FBCA7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que desempenham tarefas de Projeto desenvolvem configurações de objetos baseados num conjunto de restr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Layout de circuitos integrados; Criação de moléculas orgânicas comple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F92-5276-4C73-A8C5-AFDDDCE6A3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istemas que decidem sobre estratégias de ação antes das ações serem tom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lanejar as ações de vários dias em uma guerra para reduzir a capacidade militar das forças inimi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622-809C-4EE0-810B-A60CBC9C0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09:46:30Z</dcterms:modified>
  <cp:revision>65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