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C8A-AF87-4F14-8455-587F878E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189-978F-417E-9FAD-4400307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314-372A-4476-90E9-80DAB739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130-807D-4421-89AF-A4DF7DB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569D4-6F34-4447-BBF5-A07272BF1B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9EFF6-6DBC-4930-94B0-4B8E6C6CB0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4E75-9A6D-4FF6-9A99-CDABE342E8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712B5-F5AC-44A2-8FA5-B1D5D1C59E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AE7B2-DC26-4CE3-903D-1EBAD03A5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72B7E-8902-40CD-9253-410DA91A4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6247-14FB-4315-B796-5E9DA8AFA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EA1-439C-4911-B5CC-AE1FA76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29D0-CAB4-4ABB-9084-4AEA07722F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182D-A91B-47AF-AA29-E44EA79E6A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7591-E7BD-499D-9E46-A0808AA2D6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7707A-21D9-4AFA-896A-FF083F12C1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D7B5-9021-463D-BFC3-DCEA5923C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A4F-0BD5-4742-888E-3A1A25A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C0C-22B7-4EA0-B34C-3D54D6BF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C01-54B0-41C3-BF2E-68956B9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35F-6C5F-4D87-A6E0-A4FEBB3D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943-8482-4745-9111-5716AF9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2B9-7038-4AB2-B393-443AE86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235-379B-4326-BEF5-5AAE99C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6BF-1AF2-402E-94F3-E493002E988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549A-075C-49A2-92C9-A6DF2F258CF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V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 – Redes Semân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09F-6D0E-4D65-A4B9-BA261C7CC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81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e o conhecimento abaixo utilizando Redes Semânticas e informe qual é o tipo de rede constru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que se deseja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Enciclopédias e dicionários são liv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O Aurélio é um dicio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A Britânica é uma enciclopé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Cada livro tem uma 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) Vermelho e verde são 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) Todos os dicionários são verm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) As enciclopédias nunca são verme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) A Britânica é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Cada livro é uma enciclopédia ou um dicionário, mas não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730-7089-418A-9F66-E68102ED8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e o Prolog para construir cada repres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 exemplo de consulta para cada representação usando o 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que se deseja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Enciclopédias e dicionários são liv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O Aurélio é um dicio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A Britânica é uma enciclopé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Cada livro tem uma 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) Vermelho e verde são 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) Todos os dicionários são verm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) As enciclopédias nunca são verme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) A Britânica é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Cada livro é uma enciclopédia ou um dicionário, mas não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329-86BC-4E96-994D-514464C92E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4560" y="1557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idere a Rede Bayesiana a segu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grama esteja molhada, tenha chovido, tenha sido usado regador e o tempo esteja nubl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grama esteja molhada e de que tenha chovido?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7130" t="31870" r="17591" b="15807"/>
          <a:stretch/>
        </p:blipFill>
        <p:spPr>
          <a:xfrm>
            <a:off x="1835280" y="3267000"/>
            <a:ext cx="5832360" cy="35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8A8-DF18-4A1B-A003-B53B49435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09:51:42Z</dcterms:modified>
  <cp:revision>64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