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EFE-AED7-4965-AE92-361367DD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160-6B37-4BEE-BA70-EE364691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7C4-3D03-420B-A796-E6BE4144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DC4-B04F-46F2-8C45-617C7FFC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74D36-5608-4D7D-B653-F4A1810A7F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EB011-214E-4D6A-8AE0-BFA4E8F927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59845-85C5-47E0-8874-3AD45FD9E0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E9104-CC7B-4BD3-88A4-D0CAB7A8DC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44E5A-7A50-462F-8F9C-DF6585B100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203A1-354C-4B0C-97F5-D4A48D5C0F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9AB43-E93C-42A5-ABB6-14CB74BCA6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216-B017-426F-9A8C-634DDFC6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FF0A9-0855-4AB7-B8FA-341B50261A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73A28-5416-4119-AF2F-2C06F78B74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507E8-1D2D-42C4-89C9-FEDF7B3383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B0147-9D5E-4F57-BA24-A3B7DF09E4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51BB6-3314-442D-87BC-49F7489A62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39F-F466-41EC-828D-357F4F7B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4ED-42C0-4BBD-9B52-086C3BA8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DA4-06F5-4532-B6B4-08592D82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919-2BE1-446F-8E34-A822D57E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2DA-801D-4EFD-A0A6-A1F19E8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2D3-8AE1-4A40-AC4F-01C6C4BE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DC7-BD88-46F4-8DE0-01A83C03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88F6-6FBD-48BD-90D8-2B2BEC61740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C5C1-9379-465A-9C8E-28807336D85F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de Asserção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desenvolvidas para garantir proposições. Diferentemente das redes de definição, a informação em uma rede de asserção é considerada contingentemente verdadeira, a não ser que seja explicitamente marcada com um operador de mo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am desenvolvidas para a asserção de proposições lógicas. A notação gráfica foi criada com base na notação utilizada pela química orgân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grafos relacionais conseguem representar apenas dois tipos de operadores: operadores de conjunção e operadores de "existência'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6021360"/>
            <a:ext cx="7129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Esta notação foi criada por Although Peirce em 1882, e serviria para mostrar “os átomos e as moléculas da lógica''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6E8-A142-432F-A0F7-37A8A292AE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561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mantic Networ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cessing Syste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SN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6370560" cy="3255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71640" y="51577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e thinks that Bob believes that a dog is eating a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936720" y="5626080"/>
            <a:ext cx="817236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position M1 states that Sue is the experiencer (Expr) of the verb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thin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whose theme (Thme) is another proposition M2. For M2, the experiencer is Bob, the verb is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believ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and the theme is a proposition M3. For M3, the agent (Agnt) is some entity B1, which is a member of the class Dog, the verb is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and the patient (Ptnt) is an entity B2, which is a member of the class Bone. As Figure illustrates, propositions may be used at the metalevel to make statements about other propositions: M1 states that M2 is thought by Sue, and M2 states that M3 is believed by Bob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805-5D33-447C-9F3B-CCFCE675F0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34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de Implic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usam a implicação com principal relação para conexão de nodos. Podem ser usadas para representar padrões de crenças, causalidade, ou inferê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redes de implicação estabelecem relações de implicação entre os no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endendo da interpretação, estas redes podem ser vistas como redes de crenças e redes Bayesianas, para isto seria necessário envolver valores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babil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s relações de verdadeiro e fal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734080"/>
            <a:ext cx="7559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ntes de se obter alguma evidência fala-se de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robabilidade a priori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u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robabilidade não condicionada.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pois de obtida evidência fala-se de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robabilidade a posteriori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u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robabilidade condicio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4DC-FEA2-441C-8387-2A33A06B12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s Bay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diagramas que organizam o conhecimento numa dada área por meio de um mapeamento entr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ausa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fe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baseados em redes Bayesianas: são capazes de gerar automaticamente predições ou decisões mesmo na situação de inexistência de algumas peças de inform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 Bayesiana: definida pela sua estrutura e modelo probabilístico, determinando de forma unívoca a distribuição conjunta para as variáveis que descr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A56-5CC7-4FD9-8E87-1F87549E88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s Bayesianas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ão grafos direcionados acíclicos com as seguintes caracterís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nós correspondem a variáveis aleató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ligação direcionada ou arco com seta liga pares de variáveis (nós). O significado intuitivo de um arco dirigido do nó X para o nó Y é qu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 tem uma influência direta sobre 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nó tem associados os estados da variável que representa e uma tabela de probabilidades condicionadas que quantifica os efeitos que os pais exercem sobre um nó (probabilidade do nó estar num estado específico dado os estados dos seus p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rafo não possui ciclos direcion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DD8-E46D-44B3-AE2F-40FBCC2039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4256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s Bay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ematicam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uma Re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ayesian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representação compacta de uma tabela de conjunção de probabilidades do universo do probl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 ponto de vista de um especialis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Redes Bayesianas constituem um modelo gráfico que representa de forma simples as relações de causalidade das variáveis de um sist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628-57A6-4F8D-9CEB-C67B45782F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044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ma Re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Bayesian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iste 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variáveis e um conjunto de arcos ligando as variáve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variável possui um conjunto limitado de estados mutuamente exclus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variáveis e arcos formam um grafo dirigido sem ciclo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A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ada variável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possui como pai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xiste uma tabel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(A| B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37F-51D2-4856-99EA-9F365C5FBF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s Bay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ocê possui um novo alarme contra ladrões em casa. Este alarme é muito confiável na detecção de ladrões, entretanto, ele também pode disparar caso ocorra um terremo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ocê tem dois vizinhos, João e Maria, os quais prometeram telefonar-lhe no trabalho caso o alarme disp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João sempre liga quando ouve o alarme, entretanto, algumas vezes confunde o alarme com o telefone e também liga nestes ca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aria, por outro lado, gosta de ouvir música alta e às vezes não escuta o alarme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016-F0ED-4097-8833-B485A83D24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ção do problema (Rede Bayesi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122560" y="2492280"/>
            <a:ext cx="5113080" cy="3170160"/>
            <a:chOff x="2122560" y="2492280"/>
            <a:chExt cx="5113080" cy="3170160"/>
          </a:xfrm>
        </p:grpSpPr>
        <p:grpSp>
          <p:nvGrpSpPr>
            <p:cNvPr id="143" name=""/>
            <p:cNvGrpSpPr/>
            <p:nvPr/>
          </p:nvGrpSpPr>
          <p:grpSpPr>
            <a:xfrm>
              <a:off x="2193840" y="2492280"/>
              <a:ext cx="1368360" cy="865440"/>
              <a:chOff x="2193840" y="2492280"/>
              <a:chExt cx="1368360" cy="865440"/>
            </a:xfrm>
          </p:grpSpPr>
          <p:sp>
            <p:nvSpPr>
              <p:cNvPr id="144" name=""/>
              <p:cNvSpPr/>
              <p:nvPr/>
            </p:nvSpPr>
            <p:spPr>
              <a:xfrm>
                <a:off x="2193840" y="2492280"/>
                <a:ext cx="1368360" cy="86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65120" y="2708280"/>
                <a:ext cx="122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Assal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867280" y="2492280"/>
              <a:ext cx="1368360" cy="865080"/>
              <a:chOff x="5867280" y="2492280"/>
              <a:chExt cx="1368360" cy="865080"/>
            </a:xfrm>
          </p:grpSpPr>
          <p:sp>
            <p:nvSpPr>
              <p:cNvPr id="147" name=""/>
              <p:cNvSpPr/>
              <p:nvPr/>
            </p:nvSpPr>
            <p:spPr>
              <a:xfrm>
                <a:off x="5867280" y="2492280"/>
                <a:ext cx="1368360" cy="86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38560" y="257148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Tremor de ter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067280" y="3716280"/>
              <a:ext cx="1368360" cy="865080"/>
              <a:chOff x="4067280" y="3716280"/>
              <a:chExt cx="1368360" cy="8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4067280" y="3716280"/>
                <a:ext cx="1368360" cy="86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38560" y="393192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Alar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122560" y="4797360"/>
              <a:ext cx="1368360" cy="865080"/>
              <a:chOff x="2122560" y="4797360"/>
              <a:chExt cx="1368360" cy="865080"/>
            </a:xfrm>
          </p:grpSpPr>
          <p:sp>
            <p:nvSpPr>
              <p:cNvPr id="153" name=""/>
              <p:cNvSpPr/>
              <p:nvPr/>
            </p:nvSpPr>
            <p:spPr>
              <a:xfrm>
                <a:off x="2122560" y="4797360"/>
                <a:ext cx="1368360" cy="86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94200" y="486864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João telefo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867280" y="4797360"/>
              <a:ext cx="1368360" cy="865080"/>
              <a:chOff x="5867280" y="4797360"/>
              <a:chExt cx="1368360" cy="865080"/>
            </a:xfrm>
          </p:grpSpPr>
          <p:sp>
            <p:nvSpPr>
              <p:cNvPr id="156" name=""/>
              <p:cNvSpPr/>
              <p:nvPr/>
            </p:nvSpPr>
            <p:spPr>
              <a:xfrm>
                <a:off x="5867280" y="4797360"/>
                <a:ext cx="1368360" cy="86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38920" y="487008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Maria telefo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417840" y="3213000"/>
              <a:ext cx="936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219280" y="3355920"/>
              <a:ext cx="1079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17480" y="4437000"/>
              <a:ext cx="8650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18200" y="4437000"/>
              <a:ext cx="79200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997-1A51-4FC4-BE24-FE36B6A4BC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167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bela de Probabilidades (Redes Bayesia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332000" y="2924280"/>
          <a:ext cx="7200720" cy="2520720"/>
        </p:xfrm>
        <a:graphic>
          <a:graphicData uri="http://schemas.openxmlformats.org/drawingml/2006/table">
            <a:tbl>
              <a:tblPr/>
              <a:tblGrid>
                <a:gridCol w="2881080"/>
                <a:gridCol w="43196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alto   Terrem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Alarme|Assalto, Terremot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ade             Fal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ade      Ver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0                0,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ade        Fal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0                0,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o         Ver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0                0,7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o           Fal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                0,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93B-8D15-4983-9734-F31597A5F8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es Semân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76B-9D9B-47C8-AAC0-16277D7220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54200" y="2060640"/>
            <a:ext cx="136836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25840" y="2276640"/>
            <a:ext cx="1224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sa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35640" y="2062080"/>
            <a:ext cx="1368360" cy="8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8720" y="2278080"/>
            <a:ext cx="1224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rrem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922560" y="3718080"/>
            <a:ext cx="1368360" cy="865080"/>
            <a:chOff x="3922560" y="3718080"/>
            <a:chExt cx="1368360" cy="865080"/>
          </a:xfrm>
        </p:grpSpPr>
        <p:sp>
          <p:nvSpPr>
            <p:cNvPr id="170" name=""/>
            <p:cNvSpPr/>
            <p:nvPr/>
          </p:nvSpPr>
          <p:spPr>
            <a:xfrm>
              <a:off x="3922560" y="3718080"/>
              <a:ext cx="1368360" cy="86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3840" y="3933720"/>
              <a:ext cx="12240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lar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482920" y="5157720"/>
            <a:ext cx="136836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4200" y="515772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oão telefona (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5157720"/>
            <a:ext cx="136872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5640" y="519264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ia telefona (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0920" y="2925720"/>
            <a:ext cx="649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074920" y="2925720"/>
            <a:ext cx="865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63640" y="451008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43880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619280" y="2133720"/>
          <a:ext cx="647640" cy="60624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164360" y="2206800"/>
          <a:ext cx="647640" cy="60624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724360" y="3429000"/>
          <a:ext cx="1440000" cy="1376280"/>
        </p:xfrm>
        <a:graphic>
          <a:graphicData uri="http://schemas.openxmlformats.org/drawingml/2006/table">
            <a:tbl>
              <a:tblPr/>
              <a:tblGrid>
                <a:gridCol w="792360"/>
                <a:gridCol w="647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   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 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 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 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547640" y="5877000"/>
          <a:ext cx="909720" cy="865080"/>
        </p:xfrm>
        <a:graphic>
          <a:graphicData uri="http://schemas.openxmlformats.org/drawingml/2006/table">
            <a:tbl>
              <a:tblPr/>
              <a:tblGrid>
                <a:gridCol w="282600"/>
                <a:gridCol w="627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804000" y="5873760"/>
          <a:ext cx="936360" cy="795240"/>
        </p:xfrm>
        <a:graphic>
          <a:graphicData uri="http://schemas.openxmlformats.org/drawingml/2006/table">
            <a:tbl>
              <a:tblPr/>
              <a:tblGrid>
                <a:gridCol w="291960"/>
                <a:gridCol w="644400"/>
              </a:tblGrid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141912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 Bayesiana e prob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798-1A18-4637-A3D3-1A7C0B99A6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87280" y="162864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Redes Bay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Quest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Calcular a probabilidade do alarme ter tocado, mas, nem um ladrão nem um terremoto aconteceram, e ambos, João em Maria liga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350028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ribuição conjunta de probabilid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50920" y="3933720"/>
                <a:ext cx="5761080" cy="26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ai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¬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¬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¬</m:t>
                            </m:r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¬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¬</m:t>
                            </m:r>
                            <m:r>
                              <m:t xml:space="preserve">E</m:t>
                            </m:r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6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B28-3E02-4A5E-A7CD-162D6DBBEE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cedimento geral para construção de Rede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Bayesian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Escolher um conjunto de variávei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descrevam o domín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Escolher uma ordem para as variáve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Enquanto existir variávei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. Escolher uma variável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dicionar um nó na re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. Determinar os nó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is(Xi)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ntre os nós que já estejam na rede e que satisfaçam a equaç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 * 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. Definir a tabela de probabilidades condicionais par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fato de que cada nó é conectado aos nós mais antigos na rede garante que o grafo será sempre acícl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19280" y="5805360"/>
                <a:ext cx="69483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Pai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para </m:t>
                    </m:r>
                    <m:r>
                      <m:rPr>
                        <m:lit/>
                        <m:nor/>
                      </m:rPr>
                      <m:t xml:space="preserve">Pai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⊆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F6F-7083-49D4-9374-BB5D3CE361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ferência usando Redes Bay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istribuição conjunta pode ser usada para responder à qualquer pergunta sobre o domí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redes Bayesianas, como representação gráfica desta distribuição, podem também ser usadas para responder qualquer quest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B20-29BC-49F5-8CB8-A14153A3BE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1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ma Rede Bayesiana para diagnó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473120" y="2357280"/>
            <a:ext cx="6915240" cy="3879720"/>
            <a:chOff x="1473120" y="2357280"/>
            <a:chExt cx="6915240" cy="3879720"/>
          </a:xfrm>
        </p:grpSpPr>
        <p:sp>
          <p:nvSpPr>
            <p:cNvPr id="199" name=""/>
            <p:cNvSpPr/>
            <p:nvPr/>
          </p:nvSpPr>
          <p:spPr>
            <a:xfrm>
              <a:off x="1473120" y="2788920"/>
              <a:ext cx="18734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Fatores de predisposi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65480" y="3811320"/>
              <a:ext cx="1729080" cy="9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Problem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(Doença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(Causa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92760" y="3509640"/>
              <a:ext cx="180000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59640" y="4949640"/>
              <a:ext cx="1728720" cy="9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Tes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(Sintoma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(Efeit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86560" y="4723920"/>
              <a:ext cx="1800360" cy="15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74920" y="2357280"/>
              <a:ext cx="1800000" cy="15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02200" y="3438360"/>
              <a:ext cx="93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22920" y="4589280"/>
              <a:ext cx="100800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A0C-AADF-4E3B-951F-4B09F5149E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Executáve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ncluem algum mecanismo, como procedimentos anexos, para execução de inferências, passagem de mensagens, ou busca por padrões e associ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redes executáveis contêm mecanismos que permitem a alteração dinâmica na própria rede. Três tipos de mecanismos são mais comumente utilizad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ssagem de mensagens - dados passados entre os no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dimentos anexados - cada nodo possui um procedi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ormações de grafos - combinar, modificar e quebrar 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exemplo bastante utilizado de redes executáveis são a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s de Petr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2A6-A732-41B7-BC92-A01430C124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5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de Aprendiz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onstroem, ou estendem a sua representação por meio da aquisição de conhecimento a partir de exemp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novo conhecimento pode mudar a antiga rede pela adição e remoção de arcos e nodos, ou pela alteração de valores numéricos, que associam nodos e ar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sistema de aprendizado, natural ou artificial, responde a novas informações a partir da alteração de sua representação interna do conheci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3BA-E1BA-48CE-8E14-1E92777547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21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sistemas que utilizam redes de aprendizado podem se valer de três mecanismos para alteração de sua re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ote memor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versão da nova informação em uma rede e adição da mesma na rede a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Alteração de pes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Alteração de valores associados a nodos ou ar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estrutur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é o mais complexo de todos, e implica basicamente na alteração das conexões entre os n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sistemas que se utilizam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ote memor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ão mais indicados para aplicações que necessitam da recuperação exata de d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que utilizam alteração de pesos (exemplo: redes neurais) são mais indicados para reconhecimento de padr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Híbrid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ombinam duas ou mais das redes ant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C3B-9830-4FA1-BA21-999483E888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Aplic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mpreensão de linguagem natur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e taxonomias de conhecimentos nos quais as ligações entre conceitos são de natureza hierárqu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5B3-D7C6-4447-95BC-86A7C3E4A7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m adaptadas à representação de um conjunto hierárquico de conce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ões na definição de raciocí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B3C-07D1-457F-8FF5-833E540DCA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484280"/>
            <a:ext cx="799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de Semâ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me utilizado para definir um conjunto heterogêneo de sist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rede semântica consiste em um conjunto de nodos (nós) conectados por um conjunto de ar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dos - em geral, representam obje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cos - relações binárias entre esses objetos. Os nodos podem também ser utilizados para representar predicados, classes, palavras de uma linguagem, entre outras possíveis interpretações, dependendo do sistema de redes semân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877000"/>
            <a:ext cx="79200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es Semântic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São grafos rotulados em que os nós representam conceitos e os arcos relações  de natureza semântica entre conceitos. Surgiram em 1968, com os estudos realizados por Quillian a respeito da memória associativa hum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6A3-E2AF-4E62-817E-45897DBE2A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7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35280" y="2033640"/>
            <a:ext cx="6265800" cy="431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B62-C14F-496B-806F-B7FC84C548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16000" y="2276640"/>
                <a:ext cx="748980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Pessoas</m:t>
                        </m:r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∀</m:t>
                            </m:r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emMã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⇒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ssoasF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as</m:t>
                            </m:r>
                          </m:e>
                        </m:d>
                      </m:e>
                      <m:e/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Pessoas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erna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830-943F-44FC-969E-1AF5C52427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922400"/>
            <a:ext cx="817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aciocín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- tentar projetar uma rede semântica representando o problema a ser resolvido sobre uma rede de conhecimento por meio de um mecanismo de correspondência estrutur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ramente, há correspondência imediata: é necessário a consideração 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erança de propriedad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FCE-6A6F-4DD3-8BC1-61323E157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redes semânticas podem ser divididas 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de Defin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de Asser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de Implic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Execut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de Aprend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Híbr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85C-DFED-466D-9D1A-17DA79B712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Semân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es de Definição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atizam o subtipo, ou a relação do tipo “é um” entre um tipo conceitual e um subtipo recém defin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de resultante suporta a regra da herança a partir da cópia de propriedades definidas para o supertipo para todos os seus subtipos.  Já que as definições são verdadeiras por definição, a informação neste tipo de rede é geralmente assumida como necessariamente verdadei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primeiras implementações de redes semânticas surgiram para definições de tipos conceituais e para padrões de relação para máquinas de tradu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734080"/>
            <a:ext cx="77580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É a mais antiga das redes semânticas. Foi proposta pelo filósofo grego Porfírio que ilustrou o método de categorização proposto por Aristóteles. O método utilizava uma estrutura hierárquica de tipos e subtip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2A3-9BE5-4587-8731-1CC135E366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2637000"/>
            <a:ext cx="2592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Árvore de Porfír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3796"/>
          <a:stretch/>
        </p:blipFill>
        <p:spPr>
          <a:xfrm>
            <a:off x="3564000" y="44280"/>
            <a:ext cx="49863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B12-28BF-41B2-85DE-13052CB0F0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27T10:22:07Z</dcterms:modified>
  <cp:revision>669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