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9CF7-D71A-4A5B-BF0E-083E8EAE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C96-8271-4DDE-89A8-4247088B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605-82EA-42DE-A71F-FD5C7A96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8322-C2D3-4815-A92D-B01D69A2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13484-8AF8-447C-A558-7A7A9B7CEB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58A80-5F76-40E2-81D3-BB0872274D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2635D-E66C-49D0-997D-4E01E5504C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80A6C-4493-413F-911D-D71A9AB214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3E304-9B27-41B8-AAB4-7CE53BF135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B193A-2E42-489F-9AC0-5E5BFBCA29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48EE5-4138-4198-A9DE-8C4297CAAD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8F5-7F09-4238-BF5E-371C51CE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DF262-975B-4221-AC54-DF0D2B4B59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96D1E-6236-4ED0-9722-E5B7136911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A608-E4A9-4610-A6F5-C8194BB1F5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1BFF3-199B-412F-B187-1F4F1D22D6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354E5-59FF-47A2-8DA3-9DB104FF35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EE7-9817-4118-B47C-57096A67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E163-191C-4CD9-929C-4667DF68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DBC-3721-49F6-B7E5-61ED789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945-DA08-458E-8AEA-2DD4EF1A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054-B77C-44CF-BC22-49B7229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34E-E0A7-4202-99A2-82017EF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0C7-C143-4516-B422-EDCECE5E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F167-3E84-4C00-B2B1-C67D46605AB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B57E-3C34-43FB-885D-BEF6C05F4BDB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II - Adic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16000" y="266040"/>
            <a:ext cx="74073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Transformando Conhecimento em A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conhecimento inferido deve ser usado para auxiliar o agente  a realizar 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regras que relacionem o estado atual do mundo às ações que o agente pode re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vanç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próxima caver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gir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90 graus à direita ou à esquerd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g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 objeto na mesma caverna que o agen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tir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direção para onde o agente está olhando (a flecha para quando encontra uma parede ou mata o Wumpu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ai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cav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77E-D5D3-4B3C-9A74-A5BCCE7AA4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266040"/>
            <a:ext cx="74804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Transformando Conhecimento em A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 de Reg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está na caverna (1,1) virado para a direita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Wumpus está na caverna (2,1), ent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1-1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Dir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W2-1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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avanç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essas regras, o agente pode então perguntar à BC que ação ele deve realiz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o avanç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o girar para a esquer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o atirar?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9C3-DB62-44EE-8EF8-359612CB6A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1516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gente-BC com Lógica Proposicion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95960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gente-BC-Proposicion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rcepç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el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ercepções-Senten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rcepção,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a c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sta de possíveis a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ç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s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C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ergunta-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,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 &lt;- 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825-26B4-4720-B7A4-4DD4D3C08C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com o Agente Proposicion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ógica Proposicion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capaz de fazer inferências que resultam em 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udo, esta lógica é “fraca”, não sendo capaz de lidar com domínios simples como o Mundo de Wumpu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181-330A-4EB5-91DD-2CBBF96B41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com o Agente Proposicion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istem proposições demai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a regra: “não avance se o Wumpus estiver em frente a você“ só pode ser representada com um conjunto de 64 reg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, serão necessárias milhares de regras para definir um agente eficiente, e o processo de inferência ficará muito l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o 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omínios dinâmic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F07-2A92-46EA-A08A-0A67D52590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920" y="31680"/>
            <a:ext cx="751680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oblemas com o Agente Proposiciona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804096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do o agente faz seu primeiro movimento, a proposição A(1,1) torna-se falsa,  e  A(2,1) torna-se verdade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podemos apenas “apagar”  A(1,1) porque o agente precisa saber onde esteve 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solução é usar símbolos diferentes para a localização do agente a cada temp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t 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u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requer regras dependentes do temp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BC tem que ser “reescrita” a cada temp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o ag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cutar 100 passos, a BC terá 6400 regras apenas para dizer que ele não deve avançar quando o Wumpus estiver em frente a ele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E3E8-F188-4C28-A759-C96AC32BA6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Uma Solução: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155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lógica representa objetos e relações entre objetos, além das proposi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F4E-828B-4E6A-9255-CC6A108824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(descri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22C-70DD-4865-80A2-F7A1340FDC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55736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Mundo do Wu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5364000"/>
            <a:ext cx="7921440" cy="131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 Mundo do Wumpu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- proposto em 1972 por Gregory Yob; cansado dos jogos da época que eram baseados em grades cartesianas, ele decidiu então criar um novo tipo de jogo para computador. A idéia era fazer com que o agente não mais caminhasse por entre campos de um ambiente mas sim por entre arestas de uma figura geométrica: as arestas funcionariam como espécie de corredores que levariam o agente para diferentes estados.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http://www.ime.usp.br/~leliane/LabVIA/historia.h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2276" r="0" b="1331"/>
          <a:stretch/>
        </p:blipFill>
        <p:spPr>
          <a:xfrm>
            <a:off x="3276720" y="2060640"/>
            <a:ext cx="3528720" cy="322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7080" y="30686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u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81360"/>
            <a:ext cx="901800" cy="9223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0920" y="3284640"/>
            <a:ext cx="1243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6160" y="43815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Agente caç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de teso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3440" y="4221000"/>
            <a:ext cx="898560" cy="8510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16360" y="4653000"/>
            <a:ext cx="730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CDB-33DC-4ADD-BD00-EE05733682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88280"/>
            <a:ext cx="626436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Um Agente-BC para 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Base de Conheciment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BC) consiste 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ntenças representando as percepções do a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ntenças válidas implicadas a partir das sentenças das percep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gras utilizadas para implicar novas sentenças a partir das sentença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ímbol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x-y significa que “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g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á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x-y significa que “existe um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ura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x-y significa que “o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Wumpu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á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x-y significa que “o 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u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á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x-y significa que “exis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ris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x-y significa que “exis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fe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x-y significa que “exis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lu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 caverna (x,y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2552-2D39-4B8C-B76F-B7B1DC93A9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920" y="188280"/>
            <a:ext cx="71294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ase de Conhecimento para 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383240" cy="9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base nas percepções do estado abaixo,  a BC deverá conter as seguintes  sentenç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760" y="4297320"/>
            <a:ext cx="1213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V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- cav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i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431600" y="3008160"/>
            <a:ext cx="2711880" cy="3012120"/>
            <a:chOff x="4431600" y="3008160"/>
            <a:chExt cx="2711880" cy="3012120"/>
          </a:xfrm>
        </p:grpSpPr>
        <p:sp>
          <p:nvSpPr>
            <p:cNvPr id="118" name=""/>
            <p:cNvSpPr/>
            <p:nvPr/>
          </p:nvSpPr>
          <p:spPr>
            <a:xfrm>
              <a:off x="4789080" y="3009600"/>
              <a:ext cx="2349000" cy="250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7640" y="361296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87640" y="422244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87640" y="483192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90640" y="300816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97240" y="300816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04200" y="300816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1600" y="49827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31600" y="42969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31600" y="37638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62960" y="568440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9400" y="5684400"/>
              <a:ext cx="17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16360" y="5684400"/>
              <a:ext cx="17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23320" y="5684400"/>
              <a:ext cx="178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31600" y="31539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3880" y="5235120"/>
              <a:ext cx="387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11240" y="4451040"/>
              <a:ext cx="439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22800" y="417636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5840" y="4320720"/>
              <a:ext cx="38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19040" y="493056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61360" y="493056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3880" y="5006520"/>
              <a:ext cx="38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480" y="4938480"/>
              <a:ext cx="41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B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18680" y="374148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W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31200" y="30798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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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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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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2DA-9B98-4971-830C-2E61B22D42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920" y="45360"/>
            <a:ext cx="79250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ase de Conhecimento para 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920" y="1523520"/>
            <a:ext cx="7850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também tem algum conhecimento prévio sobre o ambiente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.g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a caverna não te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e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nt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o Wumpus não está nessa caverna, nem está em nenhuma caverna adjacente a e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terá um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gr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averna no seu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1: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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2: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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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3: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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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também deve saber que, se exist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e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(1,2), então deve haver um Wumpus em (1,2) ou em alguma caverna adjacente a e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4: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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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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085-4324-4C6D-A8FC-3F37902C04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266040"/>
            <a:ext cx="74804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Encontrar o Wumpus - Inferência!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Wumpus está em (1,3). Como provar is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agente precisa mostrar q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BC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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uma sentenç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ál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struindo 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abela-Ver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a sente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usand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gras de infer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0BC-0F6A-4B1D-962E-4B1086992B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107280"/>
            <a:ext cx="74437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Encontrar o Wumpus - Inferência!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96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1250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icialmente, vamos mostrar que o Wumpu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á em nenhuma outra caverna, e então concluir, por eliminação, que ele está em (1,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us Pone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 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1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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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-elimin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a (1), obtemos três sentenças isola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us Pone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em seguida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-eliminação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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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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odus Pone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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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2-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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7B4-0E47-4C9F-9DA6-D52DA4C0C4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266040"/>
            <a:ext cx="74804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Encontrar o Wumpus - Inferência!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058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Un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é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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 (do passo 2, temos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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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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Un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é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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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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Aplican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solução Un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é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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W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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temos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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0F97-49DD-43DF-A016-F1BE912E90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27T10:21:22Z</dcterms:modified>
  <cp:revision>622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