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D81-DBD5-4669-8961-C183260D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7F1-DA26-4230-AE71-DA2A1AD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468-091E-4331-81E5-B974D80D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E70-DFF2-4DC3-959E-095A909A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D6029-0F6D-4780-B606-6FF09CF1F4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AA024-C1CB-4BB2-8A58-EB353288F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529DD-2F45-445E-A813-1F2B6CFEC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0F3D-71CD-4013-9BB4-DC455AC4A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DBFC-0527-47D8-9BB5-6755B059C7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A5A88-E3B8-479E-9034-3DBEF74496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E72CB-9483-4285-8F59-60D28367F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F0E-FC1B-45F4-9B4E-842E714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1AD5D-8E80-41EF-B4E6-A18C0EAB7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15352-9C1C-477B-A54C-AB357D636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53D12-51C5-4D43-9C9F-49172C5AFD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8691-5A6D-46A9-9FE7-DD43DEAFF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D994-84F2-416E-A6FD-D5DFA8ADA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98D-02AF-4FC5-B06A-DF0D02B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82E-DAEC-402D-AF5B-E70EE20B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A1C-660B-4AA5-9E0F-1162B93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467-9B93-4145-B9D1-BB302B08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81D-A4AA-4B38-9B5C-93B9F528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04C-9734-468B-87C9-E93A291E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A79-F721-413A-8609-F24E40B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B3B7-1B9C-4D73-8618-4B88367766B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BC09-4DEB-41E1-8D64-A6739BF79EE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r.tuwien.ac.at/students/prak_wumpusjava/simulator/Welcome.html" TargetMode="External"/><Relationship Id="rId2" Type="http://schemas.openxmlformats.org/officeDocument/2006/relationships/hyperlink" Target="http://www.kr.tuwien.ac.at/students/prak_wumpusjava/simulator/TestDumb.html" TargetMode="External"/><Relationship Id="rId3" Type="http://schemas.openxmlformats.org/officeDocument/2006/relationships/hyperlink" Target="http://www.ime.usp.br/~leliane/LabVIA/historia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88280"/>
            <a:ext cx="62643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aciocinando e Agindo n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72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ndo em (2,2), o agente move-se para (2,3) e encontra o ou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58200" y="2924280"/>
            <a:ext cx="2711880" cy="3012120"/>
            <a:chOff x="1258200" y="2924280"/>
            <a:chExt cx="2711880" cy="3012120"/>
          </a:xfrm>
        </p:grpSpPr>
        <p:sp>
          <p:nvSpPr>
            <p:cNvPr id="173" name=""/>
            <p:cNvSpPr/>
            <p:nvPr/>
          </p:nvSpPr>
          <p:spPr>
            <a:xfrm>
              <a:off x="1615680" y="2925720"/>
              <a:ext cx="2349000" cy="250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14240" y="352872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4240" y="413856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14240" y="4748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688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2384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044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58200" y="48988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8200" y="4213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8200" y="36795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956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600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4296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92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200" y="3070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85880" y="5151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1720" y="41241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8560" y="42368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5640" y="484632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7960" y="484632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26240" y="49226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8360" y="485424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5280" y="365724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4520" y="444492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363280" y="2924280"/>
            <a:ext cx="2711880" cy="3012120"/>
            <a:chOff x="5363280" y="2924280"/>
            <a:chExt cx="2711880" cy="3012120"/>
          </a:xfrm>
        </p:grpSpPr>
        <p:sp>
          <p:nvSpPr>
            <p:cNvPr id="198" name=""/>
            <p:cNvSpPr/>
            <p:nvPr/>
          </p:nvSpPr>
          <p:spPr>
            <a:xfrm>
              <a:off x="5720760" y="292572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8960" y="352908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8960" y="413856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8960" y="474804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196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892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3280" y="48988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3280" y="4213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63280" y="367992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9464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108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4804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5500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3280" y="3070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5151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4600" y="351324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3640" y="42368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50360" y="48466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93400" y="48466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31320" y="49226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03080" y="485460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50360" y="36576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6960" y="42148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4360" y="44434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85720" y="42148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58400" y="390996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63560" y="3605040"/>
              <a:ext cx="46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58040" y="3071880"/>
              <a:ext cx="46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900000" y="5877000"/>
            <a:ext cx="36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) Depois do terceiro movimento,          com a percepção                                                [Fedor, Nad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5843520"/>
            <a:ext cx="37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Depois do quinto movimento, com a percepção                       [Nada, Bris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F05-C7D6-41FF-A195-BCFAD764A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rcício... Encontrar o our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34996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0372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996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360" y="2421000"/>
            <a:ext cx="2776320" cy="2529000"/>
            <a:chOff x="3276360" y="2421000"/>
            <a:chExt cx="2776320" cy="2529000"/>
          </a:xfrm>
        </p:grpSpPr>
        <p:sp>
          <p:nvSpPr>
            <p:cNvPr id="235" name=""/>
            <p:cNvSpPr/>
            <p:nvPr/>
          </p:nvSpPr>
          <p:spPr>
            <a:xfrm>
              <a:off x="3605040" y="2421000"/>
              <a:ext cx="244764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3480" y="304488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3480" y="365436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33480" y="426420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3540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164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4824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360" y="4415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360" y="3729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360" y="319572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360" y="2586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1600" y="44211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7720" y="251640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32480" y="381168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35360" y="3202200"/>
              <a:ext cx="32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44960" y="376092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2C9-8A7E-43AB-A69E-E39B04EB04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34996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9712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372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996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ks interessantes (implementaçã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kr.tuwien.ac.at/students/prak_wumpusjava/simulator/Welc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kr.tuwien.ac.at/students/prak_wumpusjava/simulator/TestDumb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ime.usp.br/~leliane/LabVIA/histori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CD7-54E9-45AE-BF39-EFFA66B1D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123-1C66-4F15-A26E-EDA4C26318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undo do Wu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445000"/>
            <a:ext cx="79218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averna que consiste em salas conectadas por passagen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- proposto em 1972 por Gregory Yob; cansado dos jogos da época que eram baseados em grades cartesianas, ele decidiu então criar um novo tipo de jogo para computador. A idéia era fazer com que o agente não mais caminhasse por entre campos de um ambiente mas sim por entre arestas de uma figura geométrica: as arestas funcionariam como espécie de corredores que levariam o agente para diferentes estados. (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http://www.ime.usp.br/~leliane/LabVIA/historia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276" r="0" b="1331"/>
          <a:stretch/>
        </p:blipFill>
        <p:spPr>
          <a:xfrm>
            <a:off x="3276720" y="2060640"/>
            <a:ext cx="3528720" cy="322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7080" y="3068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u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81360"/>
            <a:ext cx="901800" cy="9223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0920" y="3284640"/>
            <a:ext cx="1243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160" y="43815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gente caç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de teso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4221000"/>
            <a:ext cx="898560" cy="8510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6360" y="4653000"/>
            <a:ext cx="730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591-AE6F-4864-8D95-44E64D7E7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agente estiver em uma sala diretamente (não diagonalmente) ao lado da sala do Wumpus, perceberá um fedo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salas ao lado de uma sala com precipício/buraco/poç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passa uma bris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ee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sala com ouro, o agente percebe um bri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jogador tem apenas um tiro para tentar matar o Wum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Wumpus for morto, dará um berro/grito que será escutado em toda a cav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Jogador morre se ficar em uma sala com o Wumpus vivo ou entrar em uma sala com precipí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744-3B06-4EF1-8D9D-0D1F1A922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mb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des, Wumpus, cavernas, buracos, o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d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na caverna (1,1) com apenas uma fl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umpus e buracos em cavernas quais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gar a barra de ouro e voltar à caverna (1,1) com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B4C-F489-40AC-9879-71DD24D46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pçõ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dor (ao lado do Wum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isa (ao lado dos bura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ilho (na caverna do o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oque (contra a parede da caver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ito do Wumpus (quando mo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146-1749-4247-AFDE-41B43D94D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nçar para próxima cav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irar 90 graus à direita ou à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gar um objeto na mesma caverna d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rar na direção para onde o agente está olhando (a flecha para quando encontra uma parede ou mata o Wum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ir da cav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FF4-F96E-414A-9134-3381789C64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buClr>
                <a:srgbClr val="cccc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313560"/>
            <a:ext cx="77151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184400" y="1628640"/>
            <a:ext cx="42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50160" cy="351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587700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) Situação inicial, depois da percepção [Nada, Nad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584352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Depois de um movimento,         com a percepção                            [Nada, Bris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B57-B082-4EDF-81A9-A8E9C68754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61280"/>
            <a:ext cx="72723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aciocinando e Agindo n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0400" y="1483920"/>
            <a:ext cx="8283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início do jogo, depois de receber sua primeira percep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pois do 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vimento, com a seqüência de perce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nada,brisa,nada,nada,nad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31280" y="3511440"/>
            <a:ext cx="2711880" cy="3012480"/>
            <a:chOff x="1331280" y="3511440"/>
            <a:chExt cx="2711880" cy="3012480"/>
          </a:xfrm>
        </p:grpSpPr>
        <p:sp>
          <p:nvSpPr>
            <p:cNvPr id="129" name=""/>
            <p:cNvSpPr/>
            <p:nvPr/>
          </p:nvSpPr>
          <p:spPr>
            <a:xfrm>
              <a:off x="1688760" y="351288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6960" y="411624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6960" y="472572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86960" y="533556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996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692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388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1280" y="548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1280" y="4800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1280" y="4267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264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908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604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300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1280" y="3657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9920" y="568620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9920" y="49244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4200" y="5610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9800" y="536580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925880" y="3513240"/>
            <a:ext cx="2347920" cy="25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24440" y="411624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4440" y="472608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24440" y="533556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780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04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064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68400" y="54864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68400" y="4800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68400" y="42670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99400" y="618804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6560" y="6188040"/>
            <a:ext cx="17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53160" y="6188040"/>
            <a:ext cx="17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59400" y="618804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68400" y="3657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6440" y="5738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28400" y="4824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5480" y="54338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03040" y="5300640"/>
            <a:ext cx="433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86240" y="5472000"/>
            <a:ext cx="4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62440" y="4848120"/>
            <a:ext cx="4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63960" y="3832200"/>
            <a:ext cx="1213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V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DD6-94FD-4788-A284-156133DD2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0:58Z</dcterms:modified>
  <cp:revision>62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