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56AC5-979E-4593-B72D-AC581D2D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B8417-9F19-4E66-ACAB-AD8BC3408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1172B-BED8-48B8-908A-09431B852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D19CE-942E-4402-8CFD-62186BBA2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D67745-5AA8-4FE4-98DE-2031736A69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30CD6-0507-47BD-94C6-FC496C7EE6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311EB-0406-48CF-8CD9-CEA5E895FC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9D716E-A350-4BE5-B9CA-6FCA3DB6B1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06F7E-589C-48E3-94B5-1C10C77CFB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92D66-F6A0-4DAE-AB67-A5BFA2A694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C5F81-733A-4C53-90BB-9853B0B5AE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A01B-74EF-4090-AB21-AF18251E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86DF5-8726-43CE-9E2F-6723F3199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D386C-C6D0-4973-B607-CD36F486D1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7BB67-74ED-457A-8477-DF5B32143E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408B1-8E4C-44E1-87DF-C3B9A9E60A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F3B625-6DDA-41A5-892D-93B3F05265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31F86-06CB-48B5-8F49-18EFCEFE4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98A2-0E41-4B74-92B6-40C83645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D535-B469-461F-8719-812FB4EC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69EE-8AE0-4A6D-950C-439950F3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BEED-3197-4525-9826-1A6E610B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B6EA-5D2C-4757-B2A4-0FECF84F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7A07-4D3E-4788-896B-24A230242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lum bright="-20000"/>
          </a:blip>
          <a:stretch/>
        </p:blipFill>
        <p:spPr>
          <a:xfrm>
            <a:off x="0" y="0"/>
            <a:ext cx="90000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EE90-520A-4F4F-90F0-EFF49DE534F4}"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lum bright="-20000"/>
          </a:blip>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D820-0414-4B13-84B3-DA15614FDE80}"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826920" y="6381360"/>
            <a:ext cx="576360" cy="476640"/>
            <a:chOff x="826920" y="6381360"/>
            <a:chExt cx="576360" cy="476640"/>
          </a:xfrm>
        </p:grpSpPr>
        <p:sp>
          <p:nvSpPr>
            <p:cNvPr id="56" name=""/>
            <p:cNvSpPr/>
            <p:nvPr/>
          </p:nvSpPr>
          <p:spPr>
            <a:xfrm>
              <a:off x="826920" y="6762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059480" y="6532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853920" y="6381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1640" y="6539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855360" y="6388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Representação do Conhecimento    (Parte II - Adicional)</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7" name="PlaceHolder 2"/>
          <p:cNvSpPr>
            <a:spLocks noGrp="1"/>
          </p:cNvSpPr>
          <p:nvPr>
            <p:ph/>
          </p:nvPr>
        </p:nvSpPr>
        <p:spPr>
          <a:xfrm>
            <a:off x="971280" y="1700280"/>
            <a:ext cx="79930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ea typeface="Times New Roman"/>
              </a:rPr>
              <a:t>Aplicações da lógica - </a:t>
            </a:r>
            <a:r>
              <a:rPr b="0" lang="pt-BR" sz="2400" spc="-1" strike="noStrike">
                <a:solidFill>
                  <a:srgbClr val="000000"/>
                </a:solidFill>
                <a:latin typeface="Arial"/>
                <a:ea typeface="Times New Roman"/>
              </a:rPr>
              <a:t>Diversos sistemas ou linguagens integram o raciocínio lógico, como:</a:t>
            </a:r>
            <a:endParaRPr b="0" lang="en-US" sz="24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STRIPS,</a:t>
            </a:r>
            <a:endParaRPr b="0" lang="en-US" sz="20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PROLOG,</a:t>
            </a:r>
            <a:endParaRPr b="0" lang="en-US" sz="20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s bases de dados dedutivas, nas quais as técnicas de inferência lógica encontram uma aplicação na resolução de um problema expresso na forma de consulta a uma base de dados, permitindo deduzir uma informação que não é organizada explicitamente na base. Os diferentes modelos atuais correspondem a uma ligação mais ou menos forte entre um sistema de gerenciamento de banco de dados (SGBD) clássico, adaptado à manipulação de grandes quantidades de informação estruturada de maneira uniforme, e um mecanismo de dedução do tipo PROLO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1C17EF-87F6-4D8F-9E03-FCE16221D2B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ógica de Predicados</a:t>
            </a:r>
            <a:br>
              <a:rPr sz="2800"/>
            </a:br>
            <a:r>
              <a:rPr b="0" lang="pt-B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887F73F-0B79-4DB3-8F33-8F024062B1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3" name="PlaceHolder 2"/>
          <p:cNvSpPr>
            <a:spLocks noGrp="1"/>
          </p:cNvSpPr>
          <p:nvPr>
            <p:ph/>
          </p:nvPr>
        </p:nvSpPr>
        <p:spPr>
          <a:xfrm>
            <a:off x="971640" y="17002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ea typeface="Times New Roman"/>
              </a:rPr>
              <a:t>As representações lógica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Fruto do desenvolvimento teórico no domínio da lógica formal, estas representações remontam aos primeiros dias da IA (cf. o </a:t>
            </a:r>
            <a:r>
              <a:rPr b="0" i="1" lang="pt-BR" sz="2400" spc="-1" strike="noStrike">
                <a:solidFill>
                  <a:srgbClr val="000000"/>
                </a:solidFill>
                <a:latin typeface="Arial"/>
                <a:ea typeface="Times New Roman"/>
              </a:rPr>
              <a:t>Logic Theorist</a:t>
            </a:r>
            <a:r>
              <a:rPr b="0" lang="pt-BR" sz="2400" spc="-1" strike="noStrike">
                <a:solidFill>
                  <a:srgbClr val="000000"/>
                </a:solidFill>
                <a:latin typeface="Arial"/>
                <a:ea typeface="Times New Roman"/>
              </a:rPr>
              <a:t> de Newell, Shaw e Simon em 1956). </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rquétipo da representação declarativa, elas concernem sobretudo a lógica matemática (</a:t>
            </a:r>
            <a:r>
              <a:rPr b="1" lang="pt-BR" sz="2400" spc="-1" strike="noStrike">
                <a:solidFill>
                  <a:srgbClr val="000000"/>
                </a:solidFill>
                <a:latin typeface="Arial"/>
                <a:ea typeface="Times New Roman"/>
              </a:rPr>
              <a:t>lógica das proposições </a:t>
            </a:r>
            <a:r>
              <a:rPr b="0" lang="pt-BR" sz="2400" spc="-1" strike="noStrike">
                <a:solidFill>
                  <a:srgbClr val="000000"/>
                </a:solidFill>
                <a:latin typeface="Arial"/>
                <a:ea typeface="Times New Roman"/>
              </a:rPr>
              <a:t>e</a:t>
            </a:r>
            <a:r>
              <a:rPr b="1" lang="pt-BR" sz="2400" spc="-1" strike="noStrike">
                <a:solidFill>
                  <a:srgbClr val="000000"/>
                </a:solidFill>
                <a:latin typeface="Arial"/>
                <a:ea typeface="Times New Roman"/>
              </a:rPr>
              <a:t> lógica dos predicados de primeira ordem</a:t>
            </a:r>
            <a:r>
              <a:rPr b="0" lang="pt-BR" sz="2400" spc="-1" strike="noStrike">
                <a:solidFill>
                  <a:srgbClr val="000000"/>
                </a:solidFill>
                <a:latin typeface="Arial"/>
                <a:ea typeface="Times New Roman"/>
              </a:rPr>
              <a:t>). Mas outras lógicas não padrão são igualmente uti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83FF56-5A07-49EE-9252-6A67F5DAB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5" name="PlaceHolder 2"/>
          <p:cNvSpPr>
            <a:spLocks noGrp="1"/>
          </p:cNvSpPr>
          <p:nvPr>
            <p:ph/>
          </p:nvPr>
        </p:nvSpPr>
        <p:spPr>
          <a:xfrm>
            <a:off x="971640" y="1773360"/>
            <a:ext cx="792144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as proposiçõ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Times New Roman"/>
              </a:rPr>
              <a:t>As fórmulas lógicas coerentes — </a:t>
            </a:r>
            <a:r>
              <a:rPr b="0" lang="pt-BR" sz="2400" spc="-1" strike="noStrike">
                <a:solidFill>
                  <a:srgbClr val="000000"/>
                </a:solidFill>
                <a:latin typeface="Arial"/>
                <a:ea typeface="Times New Roman"/>
              </a:rPr>
              <a:t>O termo proposição recobre a idéia de asserção formulada seguindo uma certa sintaxe e susceptível de ser avaliado "verdadeiro" ou "falso" por um universo da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Uma fórmula básica bem formada permite representar um fragmento do conhecimento (verdadeiro ou fals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99C89C-E2F8-40D9-9B9B-27ACB708E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7"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as proposiçõ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Times New Roman"/>
              </a:rPr>
              <a:t>Insuficiência da lógica das proposições — </a:t>
            </a:r>
            <a:r>
              <a:rPr b="0" lang="pt-BR" sz="2400" spc="-1" strike="noStrike">
                <a:solidFill>
                  <a:srgbClr val="000000"/>
                </a:solidFill>
                <a:latin typeface="Arial"/>
                <a:ea typeface="Times New Roman"/>
              </a:rPr>
              <a:t>A lógica das proposições se revela insuficiente quando deseja-se deduzir propriedades válidas para um conjunto de elementos do mundo re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 lógica das proposições de primeira ordem fornece os meios para precisar o alcance das assertivas mais gerais e, portanto, de exprimir este tipo de conhecim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DFE3E9-74FE-4CA3-8259-9E224BECE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9"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e predicados de primeira ord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Pode ser vista como uma extensão da lógica das proposições. Munida de propriedades de base da lógica das proposições, ela permite entre outras coisas, introduzir elementos gerais chamados "variáve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s fórmulas bem formadas da lógica dos predicados podem, como antes, serem avaliados verdadeiras ou falsas para uma interpretação da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4AEE8D-C812-4364-BBE7-2EE3B03D2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1"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e predicados de primeira ord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Observações:</a:t>
            </a: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 noção de primeira ordem é associada ao fato das variáveis poderem ser quantificadas, mas não os predicados nem as funções.</a:t>
            </a: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Demonstra-se que é impossível encontrar um método geral para decidir o valor de uma fórmula quantificada: a lógica dos predicados de primeira ordem é "não decidív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48AB0B-6167-4784-B6BF-B274F0422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3" name="PlaceHolder 2"/>
          <p:cNvSpPr>
            <a:spLocks noGrp="1"/>
          </p:cNvSpPr>
          <p:nvPr>
            <p:ph/>
          </p:nvPr>
        </p:nvSpPr>
        <p:spPr>
          <a:xfrm>
            <a:off x="971280" y="1773360"/>
            <a:ext cx="79930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ea typeface="Times New Roman"/>
              </a:rPr>
              <a:t>Vantavens e inconvenientes da lógica formal — </a:t>
            </a:r>
            <a:r>
              <a:rPr b="0" lang="pt-BR" sz="2000" spc="-1" strike="noStrike">
                <a:solidFill>
                  <a:srgbClr val="000000"/>
                </a:solidFill>
                <a:latin typeface="Arial"/>
                <a:ea typeface="Times New Roman"/>
              </a:rPr>
              <a:t>A lógica formal se fundamenta sobre bases teóricas sólidas e parece, em inúmeros casos, a forma mais natural de se exprimir fatos e relações dedutíveis entre os fatos. Ela é perfeitamente adaptada ao raciocínio exato em situações em que dispõe de dados completos, como a demonstração de teoremas, a resolução de enigmas, etc.</a:t>
            </a:r>
            <a:endParaRPr b="0" lang="en-US" sz="20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tretanto, o rigor deste formalismo, no qual os predicados recebem valores binários VERDADEIRO ou FALSO, não permite exprimir apreciações mais sutis. Inclusive, não permite tomar decisões nos casos de informações incompletas, ao contrário da capacidade do homem, que é capaz de raciocinar desta forma. Para remediar estas limitações, outras lógicas foram introduzidas, em especial as lógicas não monotônicas, as lógicas multivaloradas e as lógicas modai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518B255-93BB-44C2-B199-B8DFEA72F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5" name="PlaceHolder 2"/>
          <p:cNvSpPr>
            <a:spLocks noGrp="1"/>
          </p:cNvSpPr>
          <p:nvPr>
            <p:ph/>
          </p:nvPr>
        </p:nvSpPr>
        <p:spPr>
          <a:xfrm>
            <a:off x="971280" y="1557360"/>
            <a:ext cx="7993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ea typeface="Times New Roman"/>
              </a:rPr>
              <a:t>Vantavens e inconvenientes da lógica formal - </a:t>
            </a:r>
            <a:r>
              <a:rPr b="0" lang="pt-BR" sz="2000" spc="-1" strike="noStrike">
                <a:solidFill>
                  <a:srgbClr val="000000"/>
                </a:solidFill>
                <a:latin typeface="Arial"/>
                <a:ea typeface="Times New Roman"/>
              </a:rPr>
              <a:t>a lógica formal não fornece meios de organização do conjunto de conhecimentos manipulados, o que, em casos nos quais este conjunto é importante, apresenta um inconveniente quanto à sua manipulaçã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fim, representar conhecimento de natureza procedural ou heurística é bastante difíci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FF2238-64D9-4BF3-A6B6-7731A3B51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2-27T10:20:20Z</dcterms:modified>
  <cp:revision>594</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