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69DA-0974-49B3-A89A-819E4920E8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8FFA-B627-4F8A-988D-F032E886F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2AF27-1B92-4258-B0ED-C290E59D42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0C0A5-196A-4F00-9161-BDB3FF389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6382B6-D65D-405A-B9E5-977AAF53B01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CA1794-4668-47A3-A372-6CB1DF9E2A5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B3DF4A9-AC24-4222-A831-6871C0A5814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822EC3-5BBA-4B7E-BBD1-60BF93EC67F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CDF28B6-EFB0-48D7-97F4-98A3FB2F273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7BC7C6-70F6-403A-ACD2-8867C778D04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E2D701-4FF8-4610-AF70-318622F0431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59F3-BE49-49EB-878A-4B2E02569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D61877-2A1F-4290-B5DE-1FE28DFB168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3B359-E116-49CE-8403-F1864EAB641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70B2A6-CCEA-49C5-A19A-86654E01E8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72BE3C0-C458-42B2-B5D1-B4419CD152A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7984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188400" y="159984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97128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7984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188400" y="3966480"/>
            <a:ext cx="24840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1067A7F-26C6-43DB-A1DC-33A26464692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1B98-9BB3-4F28-9F9D-C1FEF5A74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2311-71AF-455E-8DB8-1166D377A7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ED232-BB8E-48CA-B807-D0E80C14F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971280" y="277920"/>
            <a:ext cx="771516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C430C-EF9F-400B-87E4-F963D36EA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570F4-8303-4B9D-9D54-158ECC29C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924800" y="396648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0C80-A362-4B45-9D3E-4D68610725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924800" y="1599840"/>
            <a:ext cx="376488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971280" y="3966480"/>
            <a:ext cx="77151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0C9FA-3C5C-4F49-BD9A-E45E365DE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598320" y="1447920"/>
            <a:ext cx="8077320" cy="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900000" cy="68580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971280" y="159984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901920" y="64278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81CA8C-DD84-4FCC-A679-77A3990307A2}" type="slidenum">
              <a:rPr b="0" lang="pt-BR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106200" y="6165720"/>
            <a:ext cx="720720" cy="620640"/>
            <a:chOff x="106200" y="6165720"/>
            <a:chExt cx="720720" cy="620640"/>
          </a:xfrm>
        </p:grpSpPr>
        <p:sp>
          <p:nvSpPr>
            <p:cNvPr id="8" name=""/>
            <p:cNvSpPr/>
            <p:nvPr/>
          </p:nvSpPr>
          <p:spPr>
            <a:xfrm>
              <a:off x="106200" y="6662520"/>
              <a:ext cx="720720" cy="1238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97080" y="6362280"/>
              <a:ext cx="39348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flipV="1">
              <a:off x="140760" y="6165720"/>
              <a:ext cx="39240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99600" y="6372000"/>
              <a:ext cx="393120" cy="27180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flipV="1">
              <a:off x="141480" y="6174720"/>
              <a:ext cx="394560" cy="27288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>
            <a:lum bright="-20000"/>
          </a:blip>
          <a:stretch/>
        </p:blipFill>
        <p:spPr>
          <a:xfrm>
            <a:off x="0" y="0"/>
            <a:ext cx="2340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46DA-6430-4580-A868-FE43F3B26547}" type="slidenum">
              <a:rPr b="0" lang="pt-BR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484360" y="2924280"/>
            <a:ext cx="3024360" cy="7308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508720" y="2923920"/>
            <a:ext cx="3095640" cy="712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826920" y="6381360"/>
            <a:ext cx="576360" cy="476640"/>
            <a:chOff x="826920" y="6381360"/>
            <a:chExt cx="576360" cy="476640"/>
          </a:xfrm>
        </p:grpSpPr>
        <p:sp>
          <p:nvSpPr>
            <p:cNvPr id="56" name=""/>
            <p:cNvSpPr/>
            <p:nvPr/>
          </p:nvSpPr>
          <p:spPr>
            <a:xfrm>
              <a:off x="826920" y="6762960"/>
              <a:ext cx="576360" cy="95040"/>
            </a:xfrm>
            <a:prstGeom prst="rect">
              <a:avLst/>
            </a:prstGeom>
            <a:noFill/>
            <a:ln w="0">
              <a:noFill/>
            </a:ln>
            <a:effectLst>
              <a:outerShdw dist="12600" dir="16200000" blurRad="0" rotWithShape="0">
                <a:srgbClr val="fffff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600" spc="-1" strike="noStrike">
                  <a:solidFill>
                    <a:srgbClr val="ffcc00"/>
                  </a:solidFill>
                  <a:latin typeface="Humanst521 BT"/>
                </a:rPr>
                <a:t>DSC/CCT/UFCG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059480" y="65325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 flipV="1">
              <a:off x="853920" y="6381000"/>
              <a:ext cx="313560" cy="20916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1061640" y="6539760"/>
              <a:ext cx="314640" cy="20844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 flipV="1">
              <a:off x="855360" y="6388560"/>
              <a:ext cx="315360" cy="209520"/>
            </a:xfrm>
            <a:custGeom>
              <a:avLst/>
              <a:gdLst/>
              <a:ahLst/>
              <a:rect l="l" t="t" r="r" b="b"/>
              <a:pathLst>
                <a:path w="1470" h="999">
                  <a:moveTo>
                    <a:pt x="279" y="5"/>
                  </a:moveTo>
                  <a:cubicBezTo>
                    <a:pt x="333" y="20"/>
                    <a:pt x="361" y="24"/>
                    <a:pt x="393" y="32"/>
                  </a:cubicBezTo>
                  <a:cubicBezTo>
                    <a:pt x="425" y="40"/>
                    <a:pt x="439" y="44"/>
                    <a:pt x="474" y="53"/>
                  </a:cubicBezTo>
                  <a:cubicBezTo>
                    <a:pt x="474" y="53"/>
                    <a:pt x="603" y="89"/>
                    <a:pt x="603" y="89"/>
                  </a:cubicBezTo>
                  <a:cubicBezTo>
                    <a:pt x="637" y="100"/>
                    <a:pt x="656" y="108"/>
                    <a:pt x="678" y="119"/>
                  </a:cubicBezTo>
                  <a:cubicBezTo>
                    <a:pt x="700" y="130"/>
                    <a:pt x="724" y="145"/>
                    <a:pt x="738" y="155"/>
                  </a:cubicBezTo>
                  <a:cubicBezTo>
                    <a:pt x="752" y="165"/>
                    <a:pt x="757" y="173"/>
                    <a:pt x="765" y="182"/>
                  </a:cubicBezTo>
                  <a:cubicBezTo>
                    <a:pt x="773" y="191"/>
                    <a:pt x="780" y="200"/>
                    <a:pt x="785" y="209"/>
                  </a:cubicBezTo>
                  <a:cubicBezTo>
                    <a:pt x="794" y="223"/>
                    <a:pt x="793" y="227"/>
                    <a:pt x="795" y="239"/>
                  </a:cubicBezTo>
                  <a:cubicBezTo>
                    <a:pt x="797" y="251"/>
                    <a:pt x="800" y="268"/>
                    <a:pt x="800" y="279"/>
                  </a:cubicBezTo>
                  <a:cubicBezTo>
                    <a:pt x="801" y="296"/>
                    <a:pt x="801" y="296"/>
                    <a:pt x="798" y="308"/>
                  </a:cubicBezTo>
                  <a:cubicBezTo>
                    <a:pt x="795" y="320"/>
                    <a:pt x="787" y="336"/>
                    <a:pt x="780" y="349"/>
                  </a:cubicBezTo>
                  <a:cubicBezTo>
                    <a:pt x="772" y="361"/>
                    <a:pt x="765" y="375"/>
                    <a:pt x="753" y="386"/>
                  </a:cubicBezTo>
                  <a:cubicBezTo>
                    <a:pt x="740" y="399"/>
                    <a:pt x="721" y="414"/>
                    <a:pt x="702" y="425"/>
                  </a:cubicBezTo>
                  <a:cubicBezTo>
                    <a:pt x="683" y="436"/>
                    <a:pt x="662" y="444"/>
                    <a:pt x="642" y="452"/>
                  </a:cubicBezTo>
                  <a:cubicBezTo>
                    <a:pt x="622" y="460"/>
                    <a:pt x="612" y="466"/>
                    <a:pt x="585" y="473"/>
                  </a:cubicBezTo>
                  <a:cubicBezTo>
                    <a:pt x="585" y="473"/>
                    <a:pt x="535" y="486"/>
                    <a:pt x="480" y="494"/>
                  </a:cubicBezTo>
                  <a:cubicBezTo>
                    <a:pt x="425" y="502"/>
                    <a:pt x="370" y="504"/>
                    <a:pt x="295" y="504"/>
                  </a:cubicBezTo>
                  <a:cubicBezTo>
                    <a:pt x="220" y="504"/>
                    <a:pt x="235" y="499"/>
                    <a:pt x="145" y="504"/>
                  </a:cubicBezTo>
                  <a:cubicBezTo>
                    <a:pt x="72" y="751"/>
                    <a:pt x="0" y="999"/>
                    <a:pt x="0" y="999"/>
                  </a:cubicBezTo>
                  <a:cubicBezTo>
                    <a:pt x="0" y="999"/>
                    <a:pt x="230" y="999"/>
                    <a:pt x="230" y="999"/>
                  </a:cubicBezTo>
                  <a:cubicBezTo>
                    <a:pt x="230" y="999"/>
                    <a:pt x="490" y="984"/>
                    <a:pt x="490" y="984"/>
                  </a:cubicBezTo>
                  <a:cubicBezTo>
                    <a:pt x="556" y="979"/>
                    <a:pt x="582" y="975"/>
                    <a:pt x="627" y="968"/>
                  </a:cubicBezTo>
                  <a:cubicBezTo>
                    <a:pt x="672" y="961"/>
                    <a:pt x="717" y="953"/>
                    <a:pt x="760" y="944"/>
                  </a:cubicBezTo>
                  <a:cubicBezTo>
                    <a:pt x="803" y="935"/>
                    <a:pt x="846" y="925"/>
                    <a:pt x="888" y="914"/>
                  </a:cubicBezTo>
                  <a:cubicBezTo>
                    <a:pt x="930" y="903"/>
                    <a:pt x="971" y="894"/>
                    <a:pt x="1015" y="879"/>
                  </a:cubicBezTo>
                  <a:cubicBezTo>
                    <a:pt x="1078" y="858"/>
                    <a:pt x="1106" y="846"/>
                    <a:pt x="1150" y="824"/>
                  </a:cubicBezTo>
                  <a:cubicBezTo>
                    <a:pt x="1194" y="802"/>
                    <a:pt x="1247" y="771"/>
                    <a:pt x="1280" y="749"/>
                  </a:cubicBezTo>
                  <a:cubicBezTo>
                    <a:pt x="1312" y="724"/>
                    <a:pt x="1329" y="712"/>
                    <a:pt x="1350" y="689"/>
                  </a:cubicBezTo>
                  <a:cubicBezTo>
                    <a:pt x="1373" y="664"/>
                    <a:pt x="1385" y="649"/>
                    <a:pt x="1420" y="599"/>
                  </a:cubicBezTo>
                  <a:cubicBezTo>
                    <a:pt x="1455" y="549"/>
                    <a:pt x="1465" y="464"/>
                    <a:pt x="1465" y="464"/>
                  </a:cubicBezTo>
                  <a:cubicBezTo>
                    <a:pt x="1470" y="429"/>
                    <a:pt x="1464" y="416"/>
                    <a:pt x="1460" y="394"/>
                  </a:cubicBezTo>
                  <a:cubicBezTo>
                    <a:pt x="1456" y="372"/>
                    <a:pt x="1451" y="353"/>
                    <a:pt x="1443" y="332"/>
                  </a:cubicBezTo>
                  <a:cubicBezTo>
                    <a:pt x="1433" y="312"/>
                    <a:pt x="1428" y="290"/>
                    <a:pt x="1410" y="266"/>
                  </a:cubicBezTo>
                  <a:cubicBezTo>
                    <a:pt x="1392" y="242"/>
                    <a:pt x="1363" y="211"/>
                    <a:pt x="1335" y="189"/>
                  </a:cubicBezTo>
                  <a:cubicBezTo>
                    <a:pt x="1335" y="189"/>
                    <a:pt x="1299" y="160"/>
                    <a:pt x="1242" y="134"/>
                  </a:cubicBezTo>
                  <a:cubicBezTo>
                    <a:pt x="1185" y="108"/>
                    <a:pt x="1154" y="101"/>
                    <a:pt x="1116" y="89"/>
                  </a:cubicBezTo>
                  <a:cubicBezTo>
                    <a:pt x="1078" y="77"/>
                    <a:pt x="1063" y="72"/>
                    <a:pt x="1011" y="62"/>
                  </a:cubicBezTo>
                  <a:cubicBezTo>
                    <a:pt x="1011" y="62"/>
                    <a:pt x="879" y="38"/>
                    <a:pt x="801" y="26"/>
                  </a:cubicBezTo>
                  <a:cubicBezTo>
                    <a:pt x="727" y="15"/>
                    <a:pt x="629" y="9"/>
                    <a:pt x="564" y="5"/>
                  </a:cubicBezTo>
                  <a:cubicBezTo>
                    <a:pt x="499" y="1"/>
                    <a:pt x="449" y="2"/>
                    <a:pt x="411" y="2"/>
                  </a:cubicBezTo>
                  <a:cubicBezTo>
                    <a:pt x="374" y="1"/>
                    <a:pt x="358" y="0"/>
                    <a:pt x="336" y="2"/>
                  </a:cubicBezTo>
                  <a:cubicBezTo>
                    <a:pt x="314" y="2"/>
                    <a:pt x="288" y="2"/>
                    <a:pt x="279" y="5"/>
                  </a:cubicBezTo>
                  <a:close/>
                </a:path>
              </a:pathLst>
            </a:cu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1" name="PlaceHolder 4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2556000" y="2179440"/>
            <a:ext cx="6264000" cy="333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ahoma"/>
              </a:rPr>
              <a:t>Inteligência Artificial 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Tahoma"/>
              </a:rPr>
              <a:t>Representação do Conhecimento    (Parte II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Prof.</a:t>
            </a:r>
            <a:r>
              <a:rPr b="1" lang="pt-BR" sz="1600" spc="-1" strike="noStrike" u="sng" baseline="30000">
                <a:solidFill>
                  <a:srgbClr val="000000"/>
                </a:solidFill>
                <a:uFillTx/>
                <a:latin typeface="Tahoma"/>
              </a:rPr>
              <a:t>a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Joseana Macêdo Fechi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pt-BR" sz="1600" spc="-1" strike="noStrike">
                <a:solidFill>
                  <a:srgbClr val="000000"/>
                </a:solidFill>
                <a:latin typeface="Tahoma"/>
              </a:rPr>
              <a:t>joseana@dsc.ufcg.edu.b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000000"/>
                </a:solidFill>
                <a:latin typeface="Tahoma"/>
              </a:rPr>
              <a:t>Carga Horária: 60 hora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2627280" y="260280"/>
            <a:ext cx="619272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Universidade Federal de Campina Gran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Departamento de Sistemas e Computaç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ahoma"/>
              </a:rPr>
              <a:t>Curso de Bacharelado em Ciência da Computação</a:t>
            </a:r>
            <a:r>
              <a:rPr b="0" lang="pt-BR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71640" y="1599840"/>
            <a:ext cx="792144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ste exemplo simples, é possível perceber três pontos importantes na conversão de sentenças do português em fórmulas da lógic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itas sentenças do português são ambíguas (por exemplo, 5, 6 e 7). A escolha da interpretação correta pode ser difíci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iste freqüentemente uma escolha de como representar o conhecimento. Representações simples são desejáveis mas elas podem impedir certos tipos de raciocín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smo em situações muito simples, um conjunto de sentenças não parece conter toda a informação necessária para raciocinar sobre o tópico em questã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3280" indent="-2628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ra ser capaz de usar um conjunto de fórmulas efetivamente, é muitas vezes necessário ter acesso a um outro conjunto de fórmulas que representam fatos considerados óbvios demais para mencionar (senso comum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C78DA-604F-4C44-B102-4A5CD28E64D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responder à questã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Marco era leal a César?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BB663-B128-44B5-8100-03DFA30DB9B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7280" y="1706400"/>
            <a:ext cx="756144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ece que usando 7 e 8, dá para concluir que Marco não era leal a César (ignorando a distinção entre passado e present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Há a necessidade de inclusão de conhecimento de senso comum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9. Todos os homens são pesso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5" name=""/>
              <p:cNvSpPr txBox="1"/>
              <p:nvPr/>
            </p:nvSpPr>
            <p:spPr>
              <a:xfrm>
                <a:off x="1403280" y="4653000"/>
                <a:ext cx="4321080" cy="476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X 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homem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pesso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51B44-A0AA-4FBE-AA9F-AABCE39E19D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042560" y="1628640"/>
            <a:ext cx="771516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906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processo de engenharia de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dentificar a tare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gregar o conhecimento relev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finir um vocabulário de predicados, funções e const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dificar o conhecimento geral sobre o dom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dificar uma descrição da instância específica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ormular consultas ao procedimento de inferência e obter respost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90680" indent="-490680">
              <a:spcBef>
                <a:spcPts val="601"/>
              </a:spcBef>
              <a:buClr>
                <a:srgbClr val="000000"/>
              </a:buClr>
              <a:buSzPct val="8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purar a base de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0EAE4-B22B-4AE5-B9CB-519CDE00961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1187280" y="2421000"/>
            <a:ext cx="7128000" cy="302724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042560" y="1628280"/>
            <a:ext cx="7704360" cy="5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Exempl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189080" y="6458400"/>
            <a:ext cx="7128000" cy="276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aptado do livro Artificial Intelligence: A Modern Approach by Stuart Russell and Peter Norvig, 2003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 flipH="1" flipV="1">
            <a:off x="6732720" y="5589720"/>
            <a:ext cx="107928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99533-BC77-4F07-BB20-19A5FCC4A0AC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1. Identificar a taref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ircuito realmente efetua soma de modo apropriad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todas as entradas estão em nível alto, qual será a saída da porta A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circuito contém laços de realimentação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0">
              <a:spcBef>
                <a:spcPts val="3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5119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2. Agregar conhecimento releva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sinais fluem pelos fios até os terminais de entrada das portas, e cada porta produz um sinal no terminal de saída que flui por outro f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877680" indent="-4388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o funcionam as portas AND, OR, XOR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EDE17-19DF-42CC-A72A-6A8668CAC1E9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042560" y="1699920"/>
            <a:ext cx="77151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3. Definir um vocabulár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rtas: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Tip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= XOR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ntr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1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14400" indent="-4572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Conectad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aí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1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Entrad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1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), .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E2441-40A9-402A-8A99-A82DD88880B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777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5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. Codificar o conhecimento geral do dom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56040" indent="-356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dois terminais estão conectados, eles têm o mesmo sinal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040" indent="-356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sinal em todo terminal é 1 ou 0 (mas não ambos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56040" indent="-35604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ectados é um predicado comuta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56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9" name=""/>
              <p:cNvSpPr txBox="1"/>
              <p:nvPr/>
            </p:nvSpPr>
            <p:spPr>
              <a:xfrm>
                <a:off x="2050920" y="3500280"/>
                <a:ext cx="5327640" cy="39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nectad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a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Sinal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2771640" y="4540320"/>
                <a:ext cx="3311640" cy="760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t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∨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t xml:space="preserve">t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  <m:e>
                        <m:r>
                          <m:t xml:space="preserve">1</m:t>
                        </m:r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195640" y="5877000"/>
                <a:ext cx="5167080" cy="39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Conectad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⇔</m:t>
                    </m:r>
                    <m:r>
                      <m:rPr>
                        <m:lit/>
                        <m:nor/>
                      </m:rPr>
                      <m:t xml:space="preserve">Conectados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6F280-544B-4EBB-BE56-3F73F8A8812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. Codificar o conhecimento geral do dom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aída de uma porta OR é 1 se e somente se qualquer de suas entradas é 1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aída de uma porta AND é 0 se e somente se qualquer de suas entradas é 0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2124000" y="3716280"/>
                <a:ext cx="5761080" cy="76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íd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⇔</m:t>
                        </m:r>
                        <m:r>
                          <m:t xml:space="preserve">∃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050920" y="5516640"/>
                <a:ext cx="5977080" cy="78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íd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⇔</m:t>
                        </m:r>
                        <m:r>
                          <m:t xml:space="preserve">∃</m:t>
                        </m:r>
                        <m:r>
                          <m:t xml:space="preserve">n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n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1C416-2C21-459F-A258-18F0B6E7070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4. Codificar o conhecimento geral do domíni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aída de uma porta XOR é 1 se e somente se suas entradas são diferente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saída de uma porta NOT é diferente de sua entra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1116000" y="3789360"/>
                <a:ext cx="7848720" cy="79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∀</m:t>
                        </m:r>
                        <m:r>
                          <m:t xml:space="preserve">g</m:t>
                        </m:r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OR</m:t>
                        </m:r>
                        <m:r>
                          <m:t xml:space="preserve">⇒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íd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  <m:r>
                          <m:t xml:space="preserve">⇔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≠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r>
                          <m:t xml:space="preserve">g</m:t>
                        </m:r>
                        <m:r>
                          <m:t xml:space="preserve">)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116000" y="5516640"/>
                <a:ext cx="7416720" cy="37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t xml:space="preserve">g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Tipo</m:t>
                    </m:r>
                    <m:r>
                      <m:t xml:space="preserve">(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NOT</m:t>
                    </m:r>
                    <m:r>
                      <m:t xml:space="preserve">)</m:t>
                    </m:r>
                    <m:r>
                      <m:t xml:space="preserve">⇒</m:t>
                    </m:r>
                    <m:r>
                      <m:rPr>
                        <m:lit/>
                        <m:nor/>
                      </m:rPr>
                      <m:t xml:space="preserve">Sina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aída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)</m:t>
                    </m:r>
                    <m:r>
                      <m:t xml:space="preserve">≠</m:t>
                    </m:r>
                    <m:r>
                      <m:rPr>
                        <m:lit/>
                        <m:nor/>
                      </m:rPr>
                      <m:t xml:space="preserve">Sina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Entrada</m:t>
                    </m:r>
                    <m:r>
                      <m:t xml:space="preserve">(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g</m:t>
                    </m:r>
                    <m:r>
                      <m:t xml:space="preserve">)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E27F-1AC3-45F0-928E-F338A43080A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1187280" y="1844640"/>
            <a:ext cx="756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Tópic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ógica de Predicados</a:t>
            </a:r>
            <a:br>
              <a:rPr sz="2800"/>
            </a:b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8E1-8AAD-4692-919A-04AEFB3EBEF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5. Codificar a instância específica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2" name=""/>
              <p:cNvSpPr txBox="1"/>
              <p:nvPr/>
            </p:nvSpPr>
            <p:spPr>
              <a:xfrm>
                <a:off x="2050920" y="3860640"/>
                <a:ext cx="4897440" cy="1265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OR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XO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  <m:r>
                          <m:rPr>
                            <m:lit/>
                            <m:nor/>
                          </m:rPr>
                          <m:t xml:space="preserve">               </m:t>
                        </m:r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ND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Tipo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OR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63" name=""/>
          <p:cNvSpPr/>
          <p:nvPr/>
        </p:nvSpPr>
        <p:spPr>
          <a:xfrm>
            <a:off x="1332000" y="314172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tegoria das por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EC99B-C6ED-47B2-A585-75F45792C40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5. Codificar a instância específica do probl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971640" y="299736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exões entre as port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95280" y="3573360"/>
            <a:ext cx="8605800" cy="2217960"/>
            <a:chOff x="395280" y="3573360"/>
            <a:chExt cx="8605800" cy="2217960"/>
          </a:xfrm>
        </p:grpSpPr>
        <p:sp>
          <p:nvSpPr>
            <p:cNvPr id="168" name=""/>
            <p:cNvSpPr/>
            <p:nvPr/>
          </p:nvSpPr>
          <p:spPr>
            <a:xfrm>
              <a:off x="395280" y="3573360"/>
              <a:ext cx="8605800" cy="22179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69" name=""/>
                <p:cNvSpPr txBox="1"/>
                <p:nvPr/>
              </p:nvSpPr>
              <p:spPr>
                <a:xfrm>
                  <a:off x="636120" y="3700080"/>
                  <a:ext cx="8328240" cy="2019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eqArr>
                        <m:e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Saí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Saí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Saí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Saí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Saí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Sai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X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Saí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Saida</m:t>
                          </m:r>
                          <m:r>
                            <m:t xml:space="preserve">(</m:t>
                          </m:r>
                          <m:r>
                            <m:t xml:space="preserve">2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  <m:r>
                            <m:rPr>
                              <m:lit/>
                              <m:nor/>
                            </m:rPr>
                            <m:t xml:space="preserve">            </m:t>
                          </m:r>
                          <m:r>
                            <m:rPr>
                              <m:lit/>
                              <m:nor/>
                            </m:rPr>
                            <m:t xml:space="preserve">Conectados</m:t>
                          </m:r>
                          <m:r>
                            <m:t xml:space="preserve">(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3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C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,</m:t>
                          </m:r>
                          <m:r>
                            <m:rPr>
                              <m:lit/>
                              <m:nor/>
                            </m:rPr>
                            <m:t xml:space="preserve">Entrada</m:t>
                          </m:r>
                          <m:r>
                            <m:t xml:space="preserve">(</m:t>
                          </m:r>
                          <m:r>
                            <m:t xml:space="preserve">1</m:t>
                          </m:r>
                          <m:r>
                            <m:t xml:space="preserve">,</m:t>
                          </m:r>
                          <m:sSub>
                            <m:e>
                              <m:r>
                                <m:t xml:space="preserve">A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  <m:r>
                            <m:t xml:space="preserve">)</m:t>
                          </m:r>
                          <m:r>
                            <m:t xml:space="preserve">)</m:t>
                          </m:r>
                        </m:e>
                      </m:eqAr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1AAA-3147-47CB-B15C-3F259994F15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79280" y="4437000"/>
            <a:ext cx="8713800" cy="86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6. Formular consultas ao procedimento de in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e combinações de entradas fariam a primeira saída de 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 bit de soma) ser 0 e a segunda saída de C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(o bit de transporte) ser 1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3" name=""/>
              <p:cNvSpPr txBox="1"/>
              <p:nvPr/>
            </p:nvSpPr>
            <p:spPr>
              <a:xfrm>
                <a:off x="398520" y="4437000"/>
                <a:ext cx="8566200" cy="82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íd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0</m:t>
                        </m:r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ída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3816-2CD4-42B2-9ED9-E35513C025A1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6. Formular consultas ao procedimento de in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 respostas são substituições para as variávei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i</a:t>
            </a:r>
            <a:r>
              <a:rPr b="0" lang="pt-BR" sz="20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tais que a sentença resultante é conseqüência lógica da base de conhecimento. Existem três substituições desse tip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6" name=""/>
              <p:cNvSpPr txBox="1"/>
              <p:nvPr/>
            </p:nvSpPr>
            <p:spPr>
              <a:xfrm>
                <a:off x="1187280" y="4508640"/>
                <a:ext cx="7417080" cy="5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  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  <m:r>
                      <m:rPr>
                        <m:lit/>
                        <m:nor/>
                      </m:rPr>
                      <m:t xml:space="preserve">     </m:t>
                    </m:r>
                    <m:d>
                      <m:dPr>
                        <m:begChr m:val="{"/>
                        <m:endChr m:val="}"/>
                      </m:dPr>
                      <m:e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0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  <m:r>
                          <m:t xml:space="preserve">,</m:t>
                        </m:r>
                        <m:f>
                          <m:fPr>
                            <m:type m:val="lin"/>
                          </m:fPr>
                          <m:num>
                            <m:sSub>
                              <m:e>
                                <m:r>
                                  <m:t xml:space="preserve">i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1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BD73E-654F-4D6A-A57C-49AC4B7B8A3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250920" y="4221000"/>
            <a:ext cx="8893080" cy="865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993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6. Formular consultas ao procedimento de infe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is são os conjuntos de valores possíveis de todos os terminais para o circuito somador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0" name=""/>
              <p:cNvSpPr txBox="1"/>
              <p:nvPr/>
            </p:nvSpPr>
            <p:spPr>
              <a:xfrm>
                <a:off x="330120" y="4270320"/>
                <a:ext cx="8704440" cy="814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∃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,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sSub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, 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Entrada</m:t>
                        </m:r>
                        <m:r>
                          <m:t xml:space="preserve">(</m:t>
                        </m:r>
                        <m:r>
                          <m:t xml:space="preserve">3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i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ída</m:t>
                        </m:r>
                        <m:r>
                          <m:t xml:space="preserve">(</m:t>
                        </m:r>
                        <m:r>
                          <m:t xml:space="preserve">1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∧</m:t>
                        </m:r>
                        <m:r>
                          <m:rPr>
                            <m:lit/>
                            <m:nor/>
                          </m:rPr>
                          <m:t xml:space="preserve">Sinal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Saída</m:t>
                        </m:r>
                        <m:r>
                          <m:t xml:space="preserve">(</m:t>
                        </m:r>
                        <m:r>
                          <m:t xml:space="preserve">2</m:t>
                        </m:r>
                        <m:r>
                          <m:t xml:space="preserve">,</m:t>
                        </m:r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o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ABEA0-DAE2-4E8B-8457-78F70FCA47E8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971280" y="1599840"/>
            <a:ext cx="784836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 domínio dos circuitos eletrônic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7. Depurar a base de conhecimen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63600" indent="-36360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demos perturbar a base de conhecimento de várias maneiras, a fim de verificar que tipos de comportamentos errôneos emerg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-457200">
              <a:spcBef>
                <a:spcPts val="45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exemplo, suponha que omitimos a asserção de que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108576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sistema será incapaz de provar diversas saídas para o circui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7885080" y="4075200"/>
                <a:ext cx="647640" cy="361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≠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4F1AA-490D-4024-9ED8-2CB4EFA2131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Engenharia de Conhecimento em Lógica de Primeira Ordem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186920" y="1989000"/>
            <a:ext cx="741708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3600" indent="-36360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O desenvolvimento de uma base de conhecimento em lógica de primeira ordem exige um processo cuidadoso de análise do domínio, escolha de um vocabulário e codificação dos axiomas necessários para dar suporte às inferências desejad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63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91879-E5DC-4CE4-910E-84BAE490AC5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1700280"/>
            <a:ext cx="792144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Inteligência Artificial (IA) deve ter mecanismos para a representação de fato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249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o conhecimento do mundo que um sistema de IA necessita - uso da lógica proposicional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-se os fatos do mundo real por meio das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órmulas bem formadas ("fbf's")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u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oposições lógic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ova de teoremas foi um dos primeiros domínios a explorar as técnicas de I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E3BB-ADFA-4095-9CAE-C214EE503D7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1042920" y="1562040"/>
            <a:ext cx="79218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É importante lembrar qu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ógica proposicional - O termo proposição recobre a idéia de asserção formulada seguindo uma certa sintaxe e susceptível de ser avaliado "verdadeiro" ou "falso" por um universo d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300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ógica de predicados de primeira ordem - pode ser vista como uma extensão da lógica das proposi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0840" indent="-265680"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unida de propriedades de base da lógica das proposições, permite introduzir elementos gerais chamados "variáveis“ (normalmente chamadas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z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que podem ser quantificadas pelo quantificador universal ∀ (qualquer que seja) ou pelo quantificador existencial ∃ (exist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ED695-28D9-40A1-AE2B-859C32093DCB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71280" y="18900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>
            <a:off x="1042920" y="1562040"/>
            <a:ext cx="7921800" cy="45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É importante lembrar qu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noção de primeira ordem é associada ao fato das variáveis poderem ser quantificadas, mas não os predicados nem as funçõ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D89AF-3CBC-4F0E-AD27-6910E6CC8AC3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042920" y="1773360"/>
            <a:ext cx="78501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Simbologia a ser utilizad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implicação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   ”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neg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   ”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disjun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   ”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conjun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   ”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quantificação universal = "para todos"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   ”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quantificação existencial = "existe")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1547640" y="3238560"/>
                <a:ext cx="285840" cy="19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¬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2786040" y="4952880"/>
                <a:ext cx="152280" cy="165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2" name=""/>
          <p:cNvSpPr/>
          <p:nvPr/>
        </p:nvSpPr>
        <p:spPr>
          <a:xfrm>
            <a:off x="2880" y="-1080"/>
            <a:ext cx="2415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900" spc="-1" strike="noStrike">
                <a:solidFill>
                  <a:srgbClr val="000000"/>
                </a:solidFill>
                <a:latin typeface="Erie"/>
                <a:ea typeface="Times New Roman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763640" y="5516640"/>
            <a:ext cx="136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1619280" y="4940280"/>
                <a:ext cx="241200" cy="289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∃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1547640" y="4437000"/>
                <a:ext cx="304920" cy="32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1547640" y="4030560"/>
                <a:ext cx="289080" cy="26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546200" y="3598920"/>
                <a:ext cx="289080" cy="26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C8BBC-9201-41E1-BD26-D9672E22776C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6000" y="1844280"/>
            <a:ext cx="76327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 u="sng">
                <a:solidFill>
                  <a:srgbClr val="000000"/>
                </a:solidFill>
                <a:uFillTx/>
                <a:latin typeface="Arial"/>
              </a:rPr>
              <a:t>Obje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Explorar o uso da lógica de predicados como uma forma para representar o conhec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sidere o seguinte conjunto de sentenç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Marco era um hom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Marco era um pompei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Todos os pompeianos eram ro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César era um sober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 Todos os romanos ou eram leais a César ou o odiav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. Todos são leais a algué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7. As pessoas somente tentam assassinar soberanos aos quais elas não são le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. Marco tentou assassinar Cés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74BBB-957E-4CD1-B421-D1F0B5525FC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042920" y="1628640"/>
            <a:ext cx="763272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presentação dos fatos descritos por estas sentenças a partir de um conjunto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fbf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's na lógica de predicad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1. Marco era um hom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homem(Mar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2. Marco era um pompei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pompeiano(Marc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. Todos os pompeianos eram roman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4. César era um sobera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soberano(Cesar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547640" y="5235480"/>
                <a:ext cx="432144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X: pompeiano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romano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6F4BB-97F0-4955-B759-6CEEEF7AF5F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71280" y="277920"/>
            <a:ext cx="77151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Verdana"/>
              </a:rPr>
              <a:t>Representação do Conhecimento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71280" y="1773000"/>
            <a:ext cx="7561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5. Todos os romanos ou eram leais a César ou o odiava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6. Todos são leais a algué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7. As pessoas somente tentam assassinar soberanos aos quais elas não são leai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8. Marco tentou assassinar Césa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5" name=""/>
              <p:cNvSpPr txBox="1"/>
              <p:nvPr/>
            </p:nvSpPr>
            <p:spPr>
              <a:xfrm>
                <a:off x="1547640" y="2120760"/>
                <a:ext cx="6337440" cy="3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X: romano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rPr>
                        <m:lit/>
                        <m:nor/>
                      </m:rPr>
                      <m:t xml:space="preserve"> lea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Cesar</m:t>
                    </m:r>
                    <m:r>
                      <m:t xml:space="preserve">)</m:t>
                    </m:r>
                    <m:r>
                      <m:t xml:space="preserve">∨</m:t>
                    </m:r>
                    <m:r>
                      <m:rPr>
                        <m:lit/>
                        <m:nor/>
                      </m:rPr>
                      <m:t xml:space="preserve"> odia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Cesa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1547640" y="3230640"/>
                <a:ext cx="21607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X:</m:t>
                    </m:r>
                    <m:r>
                      <m:t xml:space="preserve">∃</m:t>
                    </m:r>
                    <m:r>
                      <m:rPr>
                        <m:lit/>
                        <m:nor/>
                      </m:rPr>
                      <m:t xml:space="preserve">Y: lea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996840" y="4510080"/>
                <a:ext cx="7967880" cy="438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X:</m:t>
                    </m:r>
                    <m:r>
                      <m:t xml:space="preserve">∀</m:t>
                    </m:r>
                    <m:r>
                      <m:rPr>
                        <m:lit/>
                        <m:nor/>
                      </m:rPr>
                      <m:t xml:space="preserve">Y: pessoa</m:t>
                    </m:r>
                    <m:r>
                      <m:t xml:space="preserve">(</m:t>
                    </m:r>
                    <m:r>
                      <m:t xml:space="preserve">X</m:t>
                    </m:r>
                    <m:r>
                      <m:t xml:space="preserve">)</m:t>
                    </m:r>
                    <m:r>
                      <m:t xml:space="preserve">∧</m:t>
                    </m:r>
                    <m:r>
                      <m:rPr>
                        <m:lit/>
                        <m:nor/>
                      </m:rPr>
                      <m:t xml:space="preserve">tentarassassina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  <m:r>
                      <m:t xml:space="preserve">→</m:t>
                    </m:r>
                    <m:r>
                      <m:t xml:space="preserve">¬</m:t>
                    </m:r>
                    <m:r>
                      <m:rPr>
                        <m:lit/>
                        <m:nor/>
                      </m:rPr>
                      <m:t xml:space="preserve">leal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X,Y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1476360" y="5662440"/>
                <a:ext cx="4291200" cy="438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tentarassassinar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Marco,Cesar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AFB91-9DA6-4D23-BA6D-478CA1AD6E5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2T16:46:30Z</dcterms:created>
  <dc:creator>Joseana Macêdo Fechine</dc:creator>
  <dc:description/>
  <dc:language>en-US</dc:language>
  <cp:lastModifiedBy>USE</cp:lastModifiedBy>
  <dcterms:modified xsi:type="dcterms:W3CDTF">2008-02-20T09:07:53Z</dcterms:modified>
  <cp:revision>599</cp:revision>
  <dc:subject/>
  <dc:title>Inteligência Artificial I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4</vt:r8>
  </property>
</Properties>
</file>