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B760-B624-423F-83CC-18D3D3085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993D-8505-4C78-BB15-9F11CA77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FBC6-A563-4011-9C6A-7D3B75323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8995-280D-4985-B537-FAE3F98FD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CFCDF7-8EAC-4FC6-B481-7276A998F3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F4299-4715-4921-86F6-0970882B8D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62298C-7F31-4534-AE01-D0043BA05F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613A2-FB18-4542-8CC5-0DBB7C7265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21E17-CC8F-4FE4-961D-1EE0F2927F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E6B146-BC87-46A0-AAA3-389B6BDA48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F631F-AE00-429D-9BC4-80473CA437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4B12-943A-442A-A965-9C18FD18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292CE-B921-4CF9-8A21-36BD630814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4C90BA-A056-49DE-A293-755E083D5C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C41BD-ECC4-48A2-9650-0006AAA73F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093BC-589F-4B28-A6A0-8F8E3B4612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2C8C49-6C6F-4AF2-8114-3A4B214CB6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6CB3-9503-4BB1-BD67-2EF9D0BA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EEB4-5057-4E78-B7B0-521DBCF9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CA89-6E6C-42A4-9938-4E48B24A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1F2B-F31F-4EC0-AE68-6CD2C19A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AD40-EE81-4991-84CB-45D0AC6C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6F84-735F-4F72-9B40-FBCA6554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7522-27D5-4565-95C2-C6C26993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3ECD-4539-47D3-9007-DCB7521FA314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06200" y="6165720"/>
            <a:ext cx="720720" cy="620640"/>
            <a:chOff x="106200" y="6165720"/>
            <a:chExt cx="720720" cy="620640"/>
          </a:xfrm>
        </p:grpSpPr>
        <p:sp>
          <p:nvSpPr>
            <p:cNvPr id="8" name=""/>
            <p:cNvSpPr/>
            <p:nvPr/>
          </p:nvSpPr>
          <p:spPr>
            <a:xfrm>
              <a:off x="10620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9708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14076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9960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14148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0" y="0"/>
            <a:ext cx="2340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9874-D699-4B28-8CB3-B56F4A08ED88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826920" y="6381360"/>
            <a:ext cx="576360" cy="476640"/>
            <a:chOff x="826920" y="6381360"/>
            <a:chExt cx="576360" cy="476640"/>
          </a:xfrm>
        </p:grpSpPr>
        <p:sp>
          <p:nvSpPr>
            <p:cNvPr id="56" name=""/>
            <p:cNvSpPr/>
            <p:nvPr/>
          </p:nvSpPr>
          <p:spPr>
            <a:xfrm>
              <a:off x="826920" y="6762960"/>
              <a:ext cx="57636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59480" y="653256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853920" y="638100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1640" y="653976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855360" y="638856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556000" y="2179440"/>
            <a:ext cx="626400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Representação do Conhecimento    (Parte I - Exercíc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1187280" y="191628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olu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ciocínio por In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ciocínio por Ana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ciocínio por De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ciocínio por In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ciocínio por De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ciocínio por In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ciocínio por Ab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F973-8DF2-4121-8B82-4E68F985938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rcí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E971-9545-4E7E-93C4-6799228B50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187280" y="191628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. Determine o tipo de raciocínio utilizado a segui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ferro conduz eletricidad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ferro é met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ouro conduz eletricidad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ouro é met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cobre conduz eletricidad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cobre é met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o os metais conduzem eletricidad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78C0-B1B9-48CE-88B5-A48F7BE5CD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191628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. Determine o tipo de raciocínio utilizado a segui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rra e Marte são planetas, giram em torno do sol e têm atmosfe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rra é habita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te também deve ser habit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55CC-CC5F-4DFE-A46D-FAA4271DA3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3. Determine o tipo de raciocínio utilizado a segui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os os alunos gostam de inteligência artificial. Francisco é aluno. Francisco gosta de inteligência artific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96D0-55DB-4E39-956D-580D58A374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4. Determine o tipo de raciocínio utilizado a segui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os os alunos que foram entrevistados gostam de Inteligência Artific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o aluno gosta de inteligência artifici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7FD1-4302-4D28-B055-669D3C0C6F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1187280" y="191628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5. Determine o tipo de raciocínio utilizado a segui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os os feijões deste saco são bran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s feijões provêm deste sa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s feijões são bran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3074-4988-4A32-B8DA-BE548523BB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1187280" y="191628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6. Determine o tipo de raciocínio utilizado a segui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es feijões provêm deste sa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es feijões são bran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odos os feijões deste saco são bran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00AA-945C-441C-A32A-7642A64254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187280" y="191628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7. Determine o tipo de raciocínio utilizado a segui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odos os feijões deste saco são bran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es feijões são bran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es feijões provêm deste sa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85D8-9C04-41B5-B370-1306309CBB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Alberto Lima</cp:lastModifiedBy>
  <dcterms:modified xsi:type="dcterms:W3CDTF">2008-11-17T10:41:51Z</dcterms:modified>
  <cp:revision>609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