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8B5D-A7F8-421F-A16C-C1AB960E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DFE9-F95B-4C3A-8276-EF20CB28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D806-FAA6-403A-81DB-F77A4377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AE5D-F71D-4406-BD83-E2C73FFA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10D6D-538B-4BC0-9E5D-27FABEAC36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09D80-E6E0-4412-9C51-F7B1A63FB5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3DB9F-2302-40D1-9A74-48DF2B4861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5DA0D-4EB1-40EC-A105-B0B526CD4D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EEA14-BA00-45FF-B60A-727A49E4AE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6EFB4-51E2-4503-BF7C-F260E8AF9E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5F858-F1EF-4DC3-8886-51D0538BEF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42E6-DB2B-4DD5-94DB-2133094B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F0EBA-AC04-4921-A64C-0B9948F5E8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D15B5-5B03-447E-B745-74967F1662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B8AE4-C8E6-42D2-BB61-24B1EF330F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2C134-00FF-422A-B3A0-05B6C797A6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50DD8-EFD0-4171-99C7-86FF8E912D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08C2-11A6-49ED-B80B-60C1C599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FD1-6D0D-490D-9EA7-9AF609E3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8962-E6CB-4A08-B05E-CECD6F92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6B28-DA90-4166-BFA0-829A98F3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96F-0954-49A3-8A26-3535FEAD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4C8-AC99-476A-8535-19293820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1BD-A0F4-4A63-B005-E43D7E9F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0DD2-92B8-4D36-8687-43CCC14F663E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88F0-9B54-4082-BFF4-2190B9101277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Representação do Conhecimento    (Parte I - Adicion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906560" y="3886200"/>
            <a:ext cx="6152040" cy="2584440"/>
            <a:chOff x="1906560" y="3886200"/>
            <a:chExt cx="6152040" cy="2584440"/>
          </a:xfrm>
        </p:grpSpPr>
        <p:sp>
          <p:nvSpPr>
            <p:cNvPr id="117" name=""/>
            <p:cNvSpPr/>
            <p:nvPr/>
          </p:nvSpPr>
          <p:spPr>
            <a:xfrm>
              <a:off x="1920240" y="5263200"/>
              <a:ext cx="608076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5256000" y="5900400"/>
              <a:ext cx="2802600" cy="570240"/>
              <a:chOff x="5256000" y="5900400"/>
              <a:chExt cx="2802600" cy="570240"/>
            </a:xfrm>
          </p:grpSpPr>
          <p:sp>
            <p:nvSpPr>
              <p:cNvPr id="119" name=""/>
              <p:cNvSpPr/>
              <p:nvPr/>
            </p:nvSpPr>
            <p:spPr>
              <a:xfrm>
                <a:off x="5256000" y="6361560"/>
                <a:ext cx="143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502240" y="5900400"/>
                <a:ext cx="89388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pt-BR" sz="1800" spc="-1" strike="noStrike">
                    <a:solidFill>
                      <a:srgbClr val="000000"/>
                    </a:solidFill>
                    <a:latin typeface="Arial"/>
                  </a:rPr>
                  <a:t>impl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762240" y="6102360"/>
                <a:ext cx="129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sentenç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1906560" y="4624200"/>
              <a:ext cx="3336840" cy="1818720"/>
              <a:chOff x="1906560" y="4624200"/>
              <a:chExt cx="3336840" cy="1818720"/>
            </a:xfrm>
          </p:grpSpPr>
          <p:sp>
            <p:nvSpPr>
              <p:cNvPr id="123" name=""/>
              <p:cNvSpPr/>
              <p:nvPr/>
            </p:nvSpPr>
            <p:spPr>
              <a:xfrm>
                <a:off x="1906560" y="5808960"/>
                <a:ext cx="18201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Representaçã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4534920" y="4624200"/>
                <a:ext cx="0" cy="136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320000">
                <a:off x="3735000" y="5316120"/>
                <a:ext cx="1224360" cy="33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pt-BR" sz="1800" spc="-1" strike="noStrike">
                    <a:solidFill>
                      <a:srgbClr val="000000"/>
                    </a:solidFill>
                    <a:latin typeface="Arial"/>
                  </a:rPr>
                  <a:t>semânt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47040" y="6102360"/>
                <a:ext cx="129636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sentenç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2296440" y="4088520"/>
              <a:ext cx="2575080" cy="685800"/>
              <a:chOff x="2296440" y="4088520"/>
              <a:chExt cx="2575080" cy="685800"/>
            </a:xfrm>
          </p:grpSpPr>
          <p:sp>
            <p:nvSpPr>
              <p:cNvPr id="128" name=""/>
              <p:cNvSpPr/>
              <p:nvPr/>
            </p:nvSpPr>
            <p:spPr>
              <a:xfrm>
                <a:off x="2296440" y="4435200"/>
                <a:ext cx="9363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Mund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45040" y="4088520"/>
                <a:ext cx="72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fat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060160" y="3886200"/>
              <a:ext cx="2387520" cy="2222280"/>
              <a:chOff x="5060160" y="3886200"/>
              <a:chExt cx="2387520" cy="222228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7084800" y="4532400"/>
                <a:ext cx="0" cy="155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6320000">
                <a:off x="6283440" y="5320800"/>
                <a:ext cx="1224360" cy="33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pt-BR" sz="1800" spc="-1" strike="noStrike">
                    <a:solidFill>
                      <a:srgbClr val="000000"/>
                    </a:solidFill>
                    <a:latin typeface="Arial"/>
                  </a:rPr>
                  <a:t>semânti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5060160" y="3886200"/>
                <a:ext cx="2387520" cy="495720"/>
                <a:chOff x="5060160" y="3886200"/>
                <a:chExt cx="2387520" cy="4957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5060160" y="4255920"/>
                  <a:ext cx="1566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437800" y="3886200"/>
                  <a:ext cx="1122480" cy="33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i="1" lang="pt-BR" sz="1800" spc="-1" strike="noStrike">
                      <a:solidFill>
                        <a:srgbClr val="000000"/>
                      </a:solidFill>
                      <a:latin typeface="Arial"/>
                    </a:rPr>
                    <a:t>segue-s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721200" y="4013640"/>
                  <a:ext cx="726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00"/>
                      </a:solidFill>
                      <a:latin typeface="Arial"/>
                    </a:rPr>
                    <a:t>fat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"/>
          <p:cNvSpPr/>
          <p:nvPr/>
        </p:nvSpPr>
        <p:spPr>
          <a:xfrm>
            <a:off x="1143000" y="1600200"/>
            <a:ext cx="75438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584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aciocínio “correto”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arante que as novas sentenças representam fatos que se seguem dos fatos representados pelas sentenças existentes na B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ct val="100000"/>
              </a:lnSpc>
              <a:spcBef>
                <a:spcPts val="1250"/>
              </a:spcBef>
              <a:spcAft>
                <a:spcPts val="125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lementa a relação de 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mplic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 entre sentenç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Baseados em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198A-A09A-4F95-BA02-CE1AE21FA8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18800" y="260280"/>
            <a:ext cx="8016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Linguagens de Representação do Conhecimento (LRC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777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spcAft>
                <a:spcPts val="1500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inguagem de Representação do Conheciment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definida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) uma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intax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que descreve as configurações que podem constituir sentenças daquela linguag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) uma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emânt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que liga cada sentença aos fatos no mundo que  ela repres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sentença faz uma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firm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 respeito do mun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spcAft>
                <a:spcPts val="1001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agent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credi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s sentenças que correspondem a sua configuração inte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 um mecanismo de inferência associado =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aciocí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92C-2F6D-41A2-B8AA-046E587DAD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751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Linguagens de Representação do Conhecimento (LRC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guagens de program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precisas, porém não são suficientemente express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guagens natur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muito expressivas, porém são ambígu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guagens de representação de conhecimento (LRC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tilizadas para expressar as sentenças das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3 grandes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nguagens (predominantemente) declar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nguagens procediment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nguagens híbr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1C42-0847-4F48-854B-7D458EDBBD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ritérios de avaliação de LRC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ressiv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que é possível dizer facilmente na linguagem?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erência dispon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 tipo de inferência é possível fazer na linguag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rre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nferência é plausível? A semântica é bem defini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fici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nferência se realiza em um tempo razoável?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62B4-D13F-4B3F-8392-1527FB1217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ritérios de avaliação de LRC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ular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fácil identificar e reutilizar partes do conheciment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gibilid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fácil de ler e entender o que está escri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ficiência aquisi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fácil adicionar conhecime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433-6DD5-4B49-8368-2B5DA6A2B8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5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bservações sobre linguagem e raciocín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paração controle - conhecim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ja  qual for o raciocínio, haverá sempre um motor geral que o implementar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tarefa do pesquisador de IA é “só” codificar corretamente o conhec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gramação Declarativ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iz 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qu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ção descritiva dos fatos, relacionamentos e reg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as partes de uma bicicleta e seus relacionamen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gramação Procediment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iz “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tos e seqüências de instruções para manipular esses f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: como desmontar uma bicicl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5881-CDE6-443E-8158-AEC39CB7A3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rodução (continuaç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D8D4-1A7F-4E8D-9583-5FC61C72C3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212840" y="1828800"/>
            <a:ext cx="7169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 componentes principais (separado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 de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canismo de In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Baseados em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269E-3278-4BF0-B135-3CB3984B0C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87280" y="1828800"/>
            <a:ext cx="74901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se de Conheci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ém sentenças em uma </a:t>
            </a:r>
            <a:r>
              <a:rPr b="1" i="1" lang="pt-BR" sz="2400" spc="-1" strike="noStrike">
                <a:solidFill>
                  <a:srgbClr val="0000ff"/>
                </a:solidFill>
                <a:latin typeface="Arial"/>
              </a:rPr>
              <a:t>Linguagem de Representação de Conhecimento</a:t>
            </a:r>
            <a:r>
              <a:rPr b="1" i="1" lang="pt-BR" sz="2400" spc="-1" strike="noStrike">
                <a:solidFill>
                  <a:srgbClr val="cccc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tratável” pelo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ões de regras e f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canismo (máquina) de Inferência associ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ponsável por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nferir,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 partir do conhecimento da base, novos fatos ou hipóteses intermediárias/temporá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Baseados em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1B6D-7C88-4932-9CE1-C59BE980C3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West é criminoso ou não?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lei americana diz que é proibido vender armas a uma nação hostil. Cuba possui alguns mísseis, e todos eles foram vendidos pelo Capitão West, que é american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resolver este problema de classificaçã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Linguagem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você entende o que está escrito em portuguê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heciment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você sabe um pouco de geopolítica e ar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nferênci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você é capaz de raciocinar usando este conhecimento descrito em portuguê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C2DE-22CD-4639-9194-279534C217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817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o uma máquina poderia resolver este probl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gundo a I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r 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heci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 domí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á-lo em um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nguag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f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lementar um mecanismo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ferênc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utilizá-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estões-c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adquirir esse conheci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representá-lo adequadam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raciocinar com ele correta e eficientem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B0D9-0058-4E42-A068-5D8FB437A7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42560" y="1557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hecimento na Máqu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eias numéricas ou alfanuméricas que não possuem significado associ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12, m1, west, 10.... (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dos organizados: significam alguma coisa para quem os rece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01, 03,  04, 06, 07, 08, 10 (meses ??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heci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do, informação ou abstração formatado de maneira a permitir raciocínio por um ser humano ou por uma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Baseados em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A9A-1429-48FA-ABFD-50DFA60423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42560" y="1557000"/>
            <a:ext cx="771516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s e ob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lação Arma - Míssil - m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órmula da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imigoPolítico(Cuba,U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tribuição de probabilidade prévia e condicional de variáveis aleatór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Cuba-usar-míssil-contra-USA |Cuba-tem-m1) = 0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sta saber is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, é preciso saber como estruturar o conhecimento, identificar sua natureza para efetivamente saber como usá-lo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Baseados em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B8BA-B7D9-48C2-884F-6521F863B0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7702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se de Conheci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: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x  Míssil(x)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ma(x)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Míssil(M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canismo (máquina) de Inferência associ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: M1 é uma a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Baseados em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79B4-8F4D-434D-A0D4-0F1EE6610B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Alberto Lima</cp:lastModifiedBy>
  <dcterms:modified xsi:type="dcterms:W3CDTF">2008-11-17T10:42:50Z</dcterms:modified>
  <cp:revision>594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