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536-1436-4D94-89EA-43E019F4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214F-5D32-47AC-AAC4-E167A2A4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3B8F-07F3-4436-97E1-A206F1C57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056-B8D0-4474-B430-11E0B165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8F14B-CCD4-49A6-B91A-FF890D8F26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DBE84-14B2-4584-B3D8-56EC2F7C57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F0BDA-587D-47BF-9219-31117F213D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8115D-8B4B-4D7E-84D1-734BCF6A06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6EA93-F7BF-45DF-A7F0-91A6A4AB78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A5FFA-1692-49C5-85C8-47D3057312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E10AD-524B-421A-8E21-CA3E3D724B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1417-4911-44DF-937E-F5822680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B7F33-E27B-4F59-A5C8-1129258400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B2A78-AF56-451A-9066-5D625EFCB2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BF1B6-9816-48FD-92A4-E6C1A9F25E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8F87C-D4C8-4824-A257-F4D92126B4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EB8D7-4D3C-498D-8D20-54EDA31288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135E-13A2-47B1-AD0C-F7073C80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AA3-9B20-4E7F-A8F9-E9030360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8F0B-557A-4BDA-A86B-E1CF4247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066D-11DA-4DA4-A895-950ADF88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896-F1D3-4148-9AB3-FC5B6DB8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A95-E659-45D6-B1DE-63907268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AF22-BC1C-456B-B152-5EABE60B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902A-D2F0-4280-A907-7907BFEE2CF1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A978-F7C4-43D4-B285-0E8F1E2ACE41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Parte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42920" y="177300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mplos de paradigmas de representação do conheci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hecimento Proced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Árvores de Deci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hecimento Estatí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quemas Híbr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1C44-958A-40EB-98F8-A6BE7B7059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848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hecimento Procedur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o conhecimento é representado em forma de funções/procedi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o conhecimento é representado por um rótulo de grafos direcionados, cujos nós representam conceitos e entidades, enquanto os arcos representam a relação entre entidades e conce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parecido com a rede semântica, exceto que cada nó representa conceito e/ou situações. Cada nó tem várias propriedades que podem ser especificadas ou herdadas pelo padr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ógic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modo de declaração que representa o conhec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DB2-405B-499E-B0C9-61A56F029B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920" y="1628640"/>
            <a:ext cx="7848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Árvores de Decisã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conceitos são organizados em forma de árv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hecimento Estatístic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uso de fatores de certeza, Redes Bayesianas, Lógica Fuzzy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r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sistemas de produção para codificar regras de condição/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squemas Híbrid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qualquer representação do formalismo que emprega a combinação de esquemas de representação do conhec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s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uma experiência passada, acumulando casos e tentando descobrir, por analogia, soluções para outros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FD5-4B24-4184-8F10-3BB6EAA41A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42920" y="177300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MetaConheciment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[Rich  and Knight 1991] pode definir-se como conhecimento acerca do próprio conhecimento que se deté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Pode ser usado para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guiar a seleção, localização e uso de reg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ar informação acerca das regras e do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justificar as regras melhorando a capacidade de expl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oiar na detecção de erros ao introduzir novas reg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facilitar a introdução de novo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CE6-59CC-47EE-B6CC-18EEDCF9D7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920" y="191592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o conhecimento - sub-área de IA cujo objetivo principal é a busca de formalismos que possam ser usados para representar informação a respeito do mundo re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ito do que se faz em IA baseia-se na chamada hipótese da representação do conheci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acordo com Reichgelt (1991), formalismos de representação do conhecimento podem ser discutidos em quatro níveis distintos: executável, lógico, epistemológico e conceitu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5950080"/>
            <a:ext cx="74901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pistemologia -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"estudo da ciência"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vem do grego, (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epistem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 = ciência, conhecimento científico, (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log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 = palavra, verbo, estudo, discurs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BCD-32F1-4598-861D-DA45A7FE52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2920" y="1773000"/>
            <a:ext cx="7850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poderíamos conceber um mecanismo geral para representar o conheci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podemos representar definições? E exceçõ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um sistema inteligente deve fazer suposições pré-concebidas sobre informação ausente e como ele poderia ajustar o seu raciocínio caso estas suposições se mostrem errad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podemos representar o tempo da melhor forma possível? E a casualidade? E a incertez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AEF-B773-45C4-9D47-7694350E6B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556560"/>
            <a:ext cx="77151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&amp; Raciocín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0"/>
              </a:spcAft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aciocíni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é um processo de construção de novas sentenças a partir  de sentenças exist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6320" y="3048120"/>
            <a:ext cx="702468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tegorias (Típicas) de Raciocí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bd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5877000"/>
            <a:ext cx="7129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tras categorias: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Analog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Resolução de restriçõ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FF81-314C-471D-B9E3-5F4E8704C5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tegorias de Raciocínio: dedu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00000" y="1720440"/>
            <a:ext cx="8172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de raciocínio no qual uma conclusão segue necessariamente das premissas supo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ia-se na criação de novas sentenças a partir de premissas dadas como verdadeiras. A sentença criada é necessariamente verdadei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das regras básicas da inferência da Lógica Dedutiva: regra d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odus ponen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Latim: modo que afir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e X é verdade e se X sendo verdade implica que Y é verdade, então Y é ver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42C-1A57-4EDC-8B51-F07C694F85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tegorias de Raciocínio: dedu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99632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emissa 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Todo homem é m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emissa 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João é hom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clu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João é mor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8FD1-9BD3-44C5-AAF1-F0B86B21B0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tegorias de Raciocínio: indu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8067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conclusão sobre todos os membros de uma classe por meio do exame de apenas uns poucos membros da cla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maneira geral, raciocínio do particular para o g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alment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ara um conjunto de objetos, X={a,b,c,d,...}, se a propriedade P é verdade para a, e se P é verdade para b, e se P é verdade para c,... então P é verdade para todo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04B-BC88-48CC-8767-00C3901BD3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97C-5B6C-4395-80C9-8711B46E59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tegorias de Raciocínio: indu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640" y="1628280"/>
            <a:ext cx="8067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so 1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oseana é professo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oseana tem um ótimo sal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so 2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ustáquio é profess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ustáquio tem um ótimo sal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so 3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mar é profess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mar tem um ótimo salá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ei geral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rofessor tem um ótimo salári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659A-B851-41EF-8734-A4FB46A79A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56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tegorias de Raciocínio: abdu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6920" y="1844280"/>
            <a:ext cx="770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iste em, dada uma premissa do tipo P → Q,  e sabendo-se que Q é verdadeira, admite-se que, talvez, P seja verdade, ou seja, supõe-se, sem certeza, que P é verd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uma heurística para fazer “inferências plausívei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icia uma conclusão plausível consistente com a informação disponível, a qual pode de fato está er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almente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e Y é verdade e X implica em Y, então X é ver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E835-9B89-448F-A038-8036E77A8C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tegorias de Raciocínio: abdu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89012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eu leio  que fumar causa câncer de pulmão 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sé morreu de câncer de pulmã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ei Ger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osso inferir que José era um fum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AB88-F2CB-421C-9126-43D8C46CB6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56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tegorias de Raciocínio: analog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3320" y="1844280"/>
            <a:ext cx="788976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ia-se na experiência de casos anteriores, dos quais há verdades conhecidas. Se o caso que está sendo analisado assemelha-se ao(s) caso(s) anterior(es), então supõe-se, sem certeza absoluta, que as mesmas verdades são verdadeiras também para esse cas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te do particular para o particular, não possui, do ponto de vista formal, uma força de prova, mas somente é verossímil ou prováv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613-6EAC-41C0-8254-0749B3C21D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tegorias de Raciocínio: analog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89012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so anterior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João ingeriu bebida alcoólica em demasia. João teve amné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so analisado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Maria ingeriu bebida alcoólica em demas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ferência por analogia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ria teve amné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540-14A0-40A9-9BF5-BCF1FCE0EC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ategorias de Raciocíni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96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hecimento novo baseado no raciocínio dedutivo é sempre verdade se as suposições são verdadeiras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onhecimento novo baseado em vários casos (indução) é geralmente verdadeiro desde que os sistemas estudados sejam bem comportados.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inferência baseada na abdução pode ser plausível mas deve carregar um fator de confiança para indicar a probabilidade de estar corr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E45-F37D-4ECE-B12D-C37E3A011D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5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 baseado em conhecimento (dedutivo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1644480"/>
            <a:ext cx="908280" cy="4953240"/>
          </a:xfrm>
          <a:custGeom>
            <a:avLst/>
            <a:gdLst>
              <a:gd name="textAreaLeft" fmla="*/ 44280 w 908280"/>
              <a:gd name="textAreaRight" fmla="*/ 864000 w 908280"/>
              <a:gd name="textAreaTop" fmla="*/ 44280 h 4953240"/>
              <a:gd name="textAreaBottom" fmla="*/ 4908960 h 4953240"/>
            </a:gdLst>
            <a:ahLst/>
            <a:rect l="textAreaLeft" t="textAreaTop" r="textAreaRight" b="textAreaBottom"/>
            <a:pathLst>
              <a:path w="21600" h="117756">
                <a:moveTo>
                  <a:pt x="3600" y="0"/>
                </a:moveTo>
                <a:arcTo wR="3600" hR="3600" stAng="16200000" swAng="-5400000"/>
                <a:lnTo>
                  <a:pt x="0" y="114156"/>
                </a:lnTo>
                <a:arcTo wR="3600" hR="3600" stAng="10800000" swAng="-5400000"/>
                <a:lnTo>
                  <a:pt x="18000" y="1177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73360" y="1720800"/>
            <a:ext cx="5886360" cy="4800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17760" y="2254320"/>
            <a:ext cx="1815840" cy="4572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n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17760" y="5530680"/>
            <a:ext cx="1815840" cy="4572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fetu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01920" y="3068640"/>
            <a:ext cx="1846440" cy="2157480"/>
          </a:xfrm>
          <a:prstGeom prst="can">
            <a:avLst>
              <a:gd name="adj" fmla="val 10564"/>
            </a:avLst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Bas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Especial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5" idx="3"/>
            <a:endCxn id="157" idx="1"/>
          </p:cNvCxnSpPr>
          <p:nvPr/>
        </p:nvCxnSpPr>
        <p:spPr>
          <a:xfrm>
            <a:off x="3347640" y="2482560"/>
            <a:ext cx="878760" cy="5720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7" idx="3"/>
            <a:endCxn id="156" idx="3"/>
          </p:cNvCxnSpPr>
          <p:nvPr/>
        </p:nvCxnSpPr>
        <p:spPr>
          <a:xfrm rot="5400000">
            <a:off x="3526560" y="5060520"/>
            <a:ext cx="519840" cy="8787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6362640" y="3168720"/>
            <a:ext cx="1816200" cy="2057400"/>
          </a:xfrm>
          <a:prstGeom prst="rect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Máquin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Inferê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Arial"/>
              </a:rPr>
              <a:t>Gené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148360" y="3701880"/>
            <a:ext cx="1201680" cy="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44560" y="3343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148360" y="4235400"/>
            <a:ext cx="120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5640" y="387684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48360" y="4768920"/>
            <a:ext cx="1201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48160" y="44100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92640" y="5302080"/>
            <a:ext cx="1981080" cy="990720"/>
          </a:xfrm>
          <a:prstGeom prst="wedgeRoundRectCallout">
            <a:avLst>
              <a:gd name="adj1" fmla="val -44712"/>
              <a:gd name="adj2" fmla="val -114101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presentação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quisição de Conheciment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78640" y="2254320"/>
            <a:ext cx="1371600" cy="609480"/>
          </a:xfrm>
          <a:prstGeom prst="wedgeRoundRectCallout">
            <a:avLst>
              <a:gd name="adj1" fmla="val -12500"/>
              <a:gd name="adj2" fmla="val 160157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aciocínio Automá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CB2D-D3CF-42EA-B6B9-F6E0178F5D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280" y="1285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mo adquirir conheciment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850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pren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árias técnica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ndizagem Simb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es Neu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oritmos Gen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plicitar: engenharia de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árias técnica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ção em lógica, sistemas de produção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94C-5A5F-4A7B-AC8A-23B167935B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468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iclo de vida dos sistemas baseados em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755640" y="1773360"/>
            <a:ext cx="8217360" cy="4795560"/>
            <a:chOff x="755640" y="1773360"/>
            <a:chExt cx="8217360" cy="4795560"/>
          </a:xfrm>
        </p:grpSpPr>
        <p:sp>
          <p:nvSpPr>
            <p:cNvPr id="173" name=""/>
            <p:cNvSpPr/>
            <p:nvPr/>
          </p:nvSpPr>
          <p:spPr>
            <a:xfrm>
              <a:off x="922320" y="1773360"/>
              <a:ext cx="21812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</a:rPr>
                <a:t>Nível de Conheciment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35080" y="3373560"/>
              <a:ext cx="184608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</a:rPr>
                <a:t>Nível Lógic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11680" y="2759040"/>
              <a:ext cx="538200" cy="320760"/>
            </a:xfrm>
            <a:prstGeom prst="downArrow">
              <a:avLst>
                <a:gd name="adj1" fmla="val 50000"/>
                <a:gd name="adj2" fmla="val 2503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81520" y="4054320"/>
              <a:ext cx="471600" cy="320760"/>
            </a:xfrm>
            <a:prstGeom prst="downArrow">
              <a:avLst>
                <a:gd name="adj1" fmla="val 50000"/>
                <a:gd name="adj2" fmla="val 2503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81520" y="5334120"/>
              <a:ext cx="471600" cy="320400"/>
            </a:xfrm>
            <a:prstGeom prst="downArrow">
              <a:avLst>
                <a:gd name="adj1" fmla="val 50000"/>
                <a:gd name="adj2" fmla="val 2503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5640" y="4363920"/>
              <a:ext cx="229248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000000"/>
                  </a:solidFill>
                  <a:latin typeface="Arial"/>
                </a:rPr>
                <a:t>Nível de Implementaçã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03920" y="5300640"/>
              <a:ext cx="522360" cy="432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B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88000" y="4797360"/>
              <a:ext cx="476280" cy="379440"/>
            </a:xfrm>
            <a:custGeom>
              <a:avLst/>
              <a:gdLst/>
              <a:ahLst/>
              <a:rect l="l" t="t" r="r" b="b"/>
              <a:pathLst>
                <a:path w="325" h="239">
                  <a:moveTo>
                    <a:pt x="233" y="238"/>
                  </a:moveTo>
                  <a:lnTo>
                    <a:pt x="324" y="168"/>
                  </a:lnTo>
                  <a:lnTo>
                    <a:pt x="283" y="168"/>
                  </a:lnTo>
                  <a:lnTo>
                    <a:pt x="283" y="139"/>
                  </a:lnTo>
                  <a:lnTo>
                    <a:pt x="274" y="87"/>
                  </a:lnTo>
                  <a:lnTo>
                    <a:pt x="258" y="64"/>
                  </a:lnTo>
                  <a:lnTo>
                    <a:pt x="241" y="43"/>
                  </a:lnTo>
                  <a:lnTo>
                    <a:pt x="225" y="26"/>
                  </a:lnTo>
                  <a:lnTo>
                    <a:pt x="200" y="15"/>
                  </a:lnTo>
                  <a:lnTo>
                    <a:pt x="175" y="6"/>
                  </a:lnTo>
                  <a:lnTo>
                    <a:pt x="150" y="3"/>
                  </a:lnTo>
                  <a:lnTo>
                    <a:pt x="9" y="0"/>
                  </a:lnTo>
                  <a:lnTo>
                    <a:pt x="0" y="69"/>
                  </a:lnTo>
                  <a:lnTo>
                    <a:pt x="141" y="73"/>
                  </a:lnTo>
                  <a:lnTo>
                    <a:pt x="158" y="78"/>
                  </a:lnTo>
                  <a:lnTo>
                    <a:pt x="175" y="93"/>
                  </a:lnTo>
                  <a:lnTo>
                    <a:pt x="183" y="114"/>
                  </a:lnTo>
                  <a:lnTo>
                    <a:pt x="183" y="137"/>
                  </a:lnTo>
                  <a:lnTo>
                    <a:pt x="183" y="165"/>
                  </a:lnTo>
                  <a:lnTo>
                    <a:pt x="141" y="165"/>
                  </a:lnTo>
                  <a:lnTo>
                    <a:pt x="233" y="238"/>
                  </a:lnTo>
                </a:path>
              </a:pathLst>
            </a:custGeom>
            <a:solidFill>
              <a:srgbClr val="ffcc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179880" y="2224080"/>
              <a:ext cx="336240" cy="3811680"/>
              <a:chOff x="3179880" y="2224080"/>
              <a:chExt cx="336240" cy="3811680"/>
            </a:xfrm>
          </p:grpSpPr>
          <p:sp>
            <p:nvSpPr>
              <p:cNvPr id="182" name=""/>
              <p:cNvSpPr/>
              <p:nvPr/>
            </p:nvSpPr>
            <p:spPr>
              <a:xfrm>
                <a:off x="3181320" y="6033960"/>
                <a:ext cx="330480" cy="18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85640" y="2224080"/>
                <a:ext cx="330480" cy="1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179880" y="2225520"/>
                <a:ext cx="0" cy="3808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4042800" y="2073240"/>
              <a:ext cx="1858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Times New Roman"/>
                </a:rPr>
                <a:t>AQUISI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53360" y="3292560"/>
              <a:ext cx="2602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Times New Roman"/>
                </a:rPr>
                <a:t>FORM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29520" y="4587840"/>
              <a:ext cx="2856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Times New Roman"/>
                </a:rPr>
                <a:t>IMPLEMENT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54080" y="5883120"/>
              <a:ext cx="2432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Times New Roman"/>
                </a:rPr>
                <a:t>REFIN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56160" y="1844640"/>
              <a:ext cx="2814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56160" y="3139920"/>
              <a:ext cx="2814480" cy="83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56160" y="4435560"/>
              <a:ext cx="2814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56160" y="5730840"/>
              <a:ext cx="2814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58920" y="2084400"/>
              <a:ext cx="22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linguagem na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02560" y="3068640"/>
              <a:ext cx="2165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linguagem de </a:t>
              </a:r>
              <a:br>
                <a:rPr sz="2000"/>
              </a:b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representaçã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conhecim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35560" y="4435560"/>
              <a:ext cx="183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linguagens 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program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AA4F-091D-4056-AC08-A1FD7A10A39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9560" y="182844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Estudo do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rend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ato que produz um comportamento diferente a um estímulo externo devido a excitações recebidas no passado e é, de uma certa forma, sinônimo de aquisição de conhecimen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 se aprendizado pode ser considerado como parte do estudo do conhecimento, o que é conheciment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heci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é o que faz com que seja possível o encadeamento e desenvolvimento da intelig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12F3-13F1-4730-9521-3EBB57F300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848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Conheciment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[Russel  and Norvig 1995] é um conjunto integrado de fatos e relações que quando devidamente interpretado, produz um desempenho eficiente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s Sistemas Baseados em Conhecimento há uma separação clara entre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heciment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 </a:t>
            </a:r>
            <a:r>
              <a:rPr b="1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ciocínio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ou seja, o controle do programa não se mistura com a especificação do conhecimento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6019920"/>
            <a:ext cx="72392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aciocíni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ejamento e estratég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BC2-E063-4382-9AFC-EA0673FD3A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971280" y="1557000"/>
            <a:ext cx="817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conhecimento que devem ser analis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volum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ui diversos aspectos, características e detalhes. A cada momento, novo conhecimento é gerad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 difícil caracter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sabemos explicar com formalismo como,quando e de que forma o conhecimento foi adquirido, como também temos dificuldade de explicá-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 constante mud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aperfeiçoado sistematicamente, crescendo e se modificando permanente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individual e ú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indivíduo interpreta seu conhecimento de forma ún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18D-D8D4-4AB1-A41A-9F598183F0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42560" y="191592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que um sistema computacional possa utilizar aspectos do conhecimento existe a necessidade de estruturação daquilo que será empregado pelo sist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a estruturação é conhecida pelo nome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presentação do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C874-2701-43D4-86F2-C8AB2475E5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71640" y="155700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aracterísticas Representação do Conheci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neraliz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ários pontos de vista do mesmo conhecimento concebem uma representação de modo que possa ser atribuído a diversas situações e interpret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presentação passível de atualização/corr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onhecimento é dinâmico, portanto, existe a necessidade permanente de atualização e ajustes do me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obu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tal forma que seja possível a sua utilização mesmo não abordando todas as situações possíveis, ou seja, mesmo sendo incompleta e impreci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reensí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reensível ao ser humano e possível a sua interpret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D5E-6BA8-4A71-99B6-20592B2765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42920" y="177300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Estudo do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quisição do conhecimento ou aprendizado, tenta responder às seguintes questõ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introduzir conhecimento na máquin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tratar consistência e redundância?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manifestação inteligente pressupõ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quisiçã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mazenamento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erência do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20A3-3F40-4544-B1AD-D289CA0942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042920" y="1844640"/>
            <a:ext cx="7921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se discute representação do conhecimento, se lida com dois tipos diferentes de entidad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Fa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Verdades em algum mundo relevante. Essas são as coisas que queremos represent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presentação de fa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com algum formalismo escolhido. Essas são as coisas que efetivamente seremos capazes de manip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590-D5AE-4E89-8662-404D6A806F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Alberto Lima</cp:lastModifiedBy>
  <dcterms:modified xsi:type="dcterms:W3CDTF">2008-11-17T10:40:28Z</dcterms:modified>
  <cp:revision>607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