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19F2-3B80-4144-B380-5D0613ECF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3FF2-045B-4970-BFC2-E3A26F40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7A63-784E-43B1-A626-7F1A5AE6F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50D1-9544-4EA5-9DC0-A300D00CD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6D6C41-A708-4FBB-AE8B-3A1C3C26E1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52DB8-B7CA-4A3A-86F4-2F140F9C07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3976B-297E-4995-964C-2F7657B911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F840FE-031A-4ADF-B67C-2C75BC52C0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83E625-B372-45D3-8D39-23E7F75221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4CA47-5608-4483-94BA-1C86B2CB4C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047F1-B24E-4F5F-93AE-7E270C0023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D80A-4C64-4CE7-B363-509B3353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4E13C-C0BB-43A5-86A5-15C8B80826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71702-647F-4C18-B084-9CFF1D3962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1A8B1-56F3-450D-9EED-78F652FDA3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D3C06-D810-4A55-9694-765A2E2571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1F45D-64B4-46AF-A4EA-75A208D3EE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E1F1-DF03-4BBD-8DF9-6C52480A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6EED-61DA-4DB8-B7DC-7597BDA4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A71B-4796-4168-957E-FE423D96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23F8-0529-4737-9EFB-CFA82445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8B0C-D7DD-4A34-845E-BC42B15C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8B6B-57A5-4A9E-8E28-53C0F208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9B82-06CD-4E7E-B7A4-2CB82031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-27000"/>
          <a:ext cx="90000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90000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4EFD-684E-49D4-B7E8-9959A4EDA59A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34920" y="6165720"/>
            <a:ext cx="720720" cy="620640"/>
            <a:chOff x="34920" y="6165720"/>
            <a:chExt cx="720720" cy="620640"/>
          </a:xfrm>
        </p:grpSpPr>
        <p:sp>
          <p:nvSpPr>
            <p:cNvPr id="9" name=""/>
            <p:cNvSpPr/>
            <p:nvPr/>
          </p:nvSpPr>
          <p:spPr>
            <a:xfrm>
              <a:off x="3492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2580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6948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2832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 flipV="1">
              <a:off x="7020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-27000"/>
          <a:ext cx="235584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235584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8F53-65E9-4994-9CF4-DA6800081287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692360" y="6337080"/>
            <a:ext cx="576000" cy="476640"/>
            <a:chOff x="1692360" y="6337080"/>
            <a:chExt cx="576000" cy="476640"/>
          </a:xfrm>
        </p:grpSpPr>
        <p:sp>
          <p:nvSpPr>
            <p:cNvPr id="58" name=""/>
            <p:cNvSpPr/>
            <p:nvPr/>
          </p:nvSpPr>
          <p:spPr>
            <a:xfrm>
              <a:off x="1692360" y="6718680"/>
              <a:ext cx="57600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24920" y="648828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1719360" y="633672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6720" y="6495480"/>
              <a:ext cx="31428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1720800" y="634428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700000" y="2179440"/>
            <a:ext cx="60483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Resolução de Problemas    (Parte V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-3083400" y="3307320"/>
            <a:ext cx="64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Figura: Capa do Livro Hamburger, H., Richards, D. </a:t>
            </a:r>
            <a:r>
              <a:rPr b="1" i="1" lang="pt-BR" sz="800" spc="-1" strike="noStrike">
                <a:solidFill>
                  <a:srgbClr val="000000"/>
                </a:solidFill>
                <a:latin typeface="Verdana"/>
              </a:rPr>
              <a:t>Logic and Language Models for Computer Science</a:t>
            </a: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, Prentice H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stratégias ótim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ada uma árvore de jogo, a estratégia ótima pode ser determinada a partir do valor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inimax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 cada n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valor minimax (para MAX) é a utilidade de MAX para cada estado,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assumindo que MIN escolhe os estados mais vantajos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ara ele mesmo (i.e. os estado com menor valor utilidade para MAX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BF25-C31D-4F0E-9BBA-DF28DDAD66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inimax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1172160" y="4923000"/>
            <a:ext cx="751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açã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é a escolha ótima para MAX, porque leva ao suc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 mais alto valor minima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371600" y="1700280"/>
            <a:ext cx="7010280" cy="2959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258920" y="5805360"/>
            <a:ext cx="74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melhor jogada para um jogo determinístico assumindo o melhor opon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7BB8-AD60-4491-B878-6FFCA12C4C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oda </a:t>
            </a:r>
            <a:r>
              <a:rPr b="1" lang="pt-BR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pt-BR" sz="3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usca minimax: n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 estados do jogo é exponencial em relação ao n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 movimento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a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lcular a decisão correta sem examinar todos os nós da árvore;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torna o mesmo que minimax, porém sem percorrer todos os es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sa técnica requer a manutenção de dois valores limites, um representando o limite inferior que um nó maximizante poderá receber em última instância (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lf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, e outro representando o limite superior de valor que um nó minimizante poderá ter (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et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86C8-D186-45B4-9DC9-A02F61F960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oda </a:t>
            </a:r>
            <a:r>
              <a:rPr b="1" lang="pt-BR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pt-BR" sz="3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8229600" cy="376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C5CA-682E-4BD8-8227-3ACAEB47B6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oda </a:t>
            </a:r>
            <a:r>
              <a:rPr b="1" lang="pt-BR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pt-BR" sz="3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8229600" cy="376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389C-9046-4CE0-9181-A80AD2AB16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oda </a:t>
            </a:r>
            <a:r>
              <a:rPr b="1" lang="pt-BR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pt-BR" sz="3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8229600" cy="376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2D78-6659-40A1-994E-1129589E9F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oda </a:t>
            </a:r>
            <a:r>
              <a:rPr b="1" lang="pt-BR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pt-BR" sz="3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8229600" cy="376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1A38-9219-48DB-AA0A-B5960BE086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oda </a:t>
            </a:r>
            <a:r>
              <a:rPr b="1" lang="pt-BR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pt-BR" sz="3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8229600" cy="377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5581-3E22-44AC-8D95-74FC875EDC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Jogos não determinís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lemento aleatório proveniente de jogo de dados, sorteio de carta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determinismo é inerente em domínios re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estudo de algoritmos para jogos com elemento aleatório é um passo em direção a métodos aplicados no mundo re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92A3-1C17-49C4-8174-B8E636C7C5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Jogos não determinís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árvore de um jogo não determinístico deve incluir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ós de acas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além de nós minim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mificações que levam a cada nó de acaso denotam “jogadas de dados possíveis” (a probabilidade de cada mudança de estado não determinístic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CE5B-AE48-4257-81FD-45D33C2176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1989000"/>
            <a:ext cx="763272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solução de Problemas por meio de bus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usca Competi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5914-6FE8-4124-89F5-4C976912F0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Jog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00000" y="1628280"/>
            <a:ext cx="8064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Jogo de Damas: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Chinook, que funciona em PCs comuns e utiliza busca alfa-beta, encerrou o reinado de 40 anos como campeão mundial de Marion Tinsley em 1994. Usa um banco de dados pré-calculado de todas as posições (444 bilhões) com oito ou menos peças no tabuleiro para tornar seu fim de jogo infalív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Xadrez: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Deep Blue derrotou o campeão mundial Garry Kasparov em uma competição de seis partidas em 1997. A máquina vencedora era um computador paralelo com 30 processadores IBM RS/6000 e 480 processadores VLSI que buscava 126 milhões de nós/segundo, em média. O coração da máquina é uma busca alfa-beta de aprofundamento iterativo padrão com uma tabela de transposição que chegou a alcançar profundidade de 40 jogad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A134-494C-4739-A552-2B8EC2993F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Jog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7921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jogos que envolvem adversários são um pouco diferentes dos vistos até agora (Xadrez, Damas, …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jogador não tem que se preocupar apenas em chegar ao objetivo final, mas em evitar que algum oponente chegue antes dele, ou seja, vença o jog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jogador deve se antecipar à jogada do seu adversário para poder fazer a s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oponente é “imprevisível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ar em consideração todos os movimentos possíveis de oponen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e de t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ar uma decisão, mesmo que não seja ót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F262-6BBF-4AC4-A090-18A1A16514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Decisões ótimas em jog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6000" y="17730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icialmente jogos com dois jogador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’ e ‘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’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jogo pode ser definido como uma árvore de bus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ado in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unção sucessor (-&gt; movimento, esta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ste de térm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unção utilidade: dá um valor numérico para os estados termi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6E89-65C4-4888-9DE4-9155E672E8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Decisões ótimas em jog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7280" y="1699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é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ciar na posição corrente e usar o gerador de movimentos para gerar o conjunto de possíveis posições sucesso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licar a função de avaliação a estas posições e simplesmente escolher a melh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ar os efeitos da jogada do adversário e maximizar o efeito da própria jog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FC04-FED3-47A8-A69E-EEF18B7175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Decisões ótimas em jog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im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m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é um método para minimizar a perda máxima possív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e ser considerado como a maximização do ganho mínimo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xim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e-se estender o conceito para jogos mais complexos e para tomada de decisão na presença de incertez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2D9E-CFA2-403D-819F-F96636131A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Decisões ótimas em jog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a versão simples do algoritmo minimax lida com jogos como o jogo da velha, no qual cada jogador pode ganhar, perder ou empat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o jogador A pode vencer com um movimento, seu melhor movimento é o movimento para a vitór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o jogador B identifica que um movimento levará a uma situação em que o adversário pode ganhar em um movimento, enquanto outro movimento levará a uma situação de empate, então a melhor jogada do jogador B é a que leva para o empa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ós algumas rodadas é fácil identificar qual é o melhor movimen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8DA1-F6E8-4CA9-ACA1-3A67DC32C4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Decisões ótimas em jog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71640" y="17730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algoritm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im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juda a encontrar a melhor jogada ao caminhar pelas opções válidas a partir do fim do jog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da passo assume-se que o jogador A está tentand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ximiz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chances de A ganhar, enquanto na próxima rodada o jogador B está tentand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imiz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chances de isso acontecer (ao maximizar as chances de que ele próprio ganh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D6AF-DCF2-479F-B7FB-33D328AB4C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Árvore de jogo (2 jogadores)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258920" y="6237360"/>
            <a:ext cx="648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o ponto de vista de max, valores altos de utilidade são b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858000" cy="472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B7D5-B94E-494D-BB41-25AAA0BAAE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8-02-06T08:37:40Z</dcterms:modified>
  <cp:revision>568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