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757-E049-4EF7-AB2A-E4B10DD3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E48-F41C-4BDC-A3EC-52DBA422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D68-BF61-4991-A803-3C4A78D2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883-2A4A-44F3-B0D3-6D7A81C6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3CCBB-1DA5-48EE-9C7E-67090FA5E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C638F-1740-42B0-855E-D51C587610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F619D-C1A6-4EE6-9B87-A735558282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4C7C9-2783-492D-A055-BD6B84DCED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702FE-3023-453C-A343-D4F4405789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01CFB-938E-4378-ADF4-71DC929EB5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C37B6-E490-4B6E-9F19-CEC41F235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BE6-3385-4CCA-B8EF-EB335C74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68418-F080-4417-8C9A-4C8FAE39E8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479CD-EA56-4F52-BD98-9AB086BAE1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1DB1A-9EA2-4042-99D7-EB35E9C4B6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0C652-E36A-4C93-A78A-5C0DA3149A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37633-0E95-401B-BE98-8995216CCA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7C1-824C-4E83-9091-B7DE8A78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4EE-2FA3-4302-B9BE-41F05557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20B-FAB6-40F0-AFEF-805996B5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6AA-EF07-4ADF-A739-D2A3639C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A6D-64FE-4B8F-9C4C-0932433A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77A-87A2-495A-A664-979613DF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29F-EC6D-4E58-AF25-94A50187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B699-7252-44EF-A316-1805425C3C0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98A9-7A7A-49C7-9E9E-F868D21110D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lsin.unisantos.br/lvcon/experimento?id=3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484000" y="2179440"/>
            <a:ext cx="6480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(Parte V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formações Adi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280" y="810720"/>
            <a:ext cx="77151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5148360" y="2637000"/>
            <a:ext cx="3382920" cy="50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637000"/>
            <a:ext cx="3744720" cy="50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1773360"/>
            <a:ext cx="7850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332000" y="2655720"/>
            <a:ext cx="7271280" cy="3581280"/>
            <a:chOff x="1332000" y="2655720"/>
            <a:chExt cx="7271280" cy="3581280"/>
          </a:xfrm>
        </p:grpSpPr>
        <p:grpSp>
          <p:nvGrpSpPr>
            <p:cNvPr id="197" name=""/>
            <p:cNvGrpSpPr/>
            <p:nvPr/>
          </p:nvGrpSpPr>
          <p:grpSpPr>
            <a:xfrm>
              <a:off x="1332000" y="2655720"/>
              <a:ext cx="3812040" cy="492480"/>
              <a:chOff x="1332000" y="2655720"/>
              <a:chExt cx="3812040" cy="492480"/>
            </a:xfrm>
          </p:grpSpPr>
          <p:sp>
            <p:nvSpPr>
              <p:cNvPr id="198" name=""/>
              <p:cNvSpPr/>
              <p:nvPr/>
            </p:nvSpPr>
            <p:spPr>
              <a:xfrm>
                <a:off x="1425960" y="2655720"/>
                <a:ext cx="36244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inguagem natur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32000" y="2655720"/>
                <a:ext cx="381204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144400" y="2655720"/>
              <a:ext cx="3458880" cy="492480"/>
              <a:chOff x="5144400" y="2655720"/>
              <a:chExt cx="3458880" cy="492480"/>
            </a:xfrm>
          </p:grpSpPr>
          <p:sp>
            <p:nvSpPr>
              <p:cNvPr id="201" name=""/>
              <p:cNvSpPr/>
              <p:nvPr/>
            </p:nvSpPr>
            <p:spPr>
              <a:xfrm>
                <a:off x="5238360" y="2655720"/>
                <a:ext cx="32709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144400" y="2655720"/>
                <a:ext cx="345888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332000" y="3148200"/>
              <a:ext cx="3812040" cy="625320"/>
              <a:chOff x="1332000" y="3148200"/>
              <a:chExt cx="3812040" cy="625320"/>
            </a:xfrm>
          </p:grpSpPr>
          <p:sp>
            <p:nvSpPr>
              <p:cNvPr id="204" name=""/>
              <p:cNvSpPr/>
              <p:nvPr/>
            </p:nvSpPr>
            <p:spPr>
              <a:xfrm>
                <a:off x="1425960" y="3148200"/>
                <a:ext cx="362448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romossom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32000" y="3148200"/>
                <a:ext cx="381204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144400" y="3148200"/>
              <a:ext cx="3458880" cy="625320"/>
              <a:chOff x="5144400" y="3148200"/>
              <a:chExt cx="3458880" cy="625320"/>
            </a:xfrm>
          </p:grpSpPr>
          <p:sp>
            <p:nvSpPr>
              <p:cNvPr id="207" name=""/>
              <p:cNvSpPr/>
              <p:nvPr/>
            </p:nvSpPr>
            <p:spPr>
              <a:xfrm>
                <a:off x="5238360" y="3148200"/>
                <a:ext cx="327096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divíduo,string, cromossomo, árvo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44400" y="3148200"/>
                <a:ext cx="345888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332000" y="3773520"/>
              <a:ext cx="3812040" cy="492840"/>
              <a:chOff x="1332000" y="3773520"/>
              <a:chExt cx="3812040" cy="492840"/>
            </a:xfrm>
          </p:grpSpPr>
          <p:sp>
            <p:nvSpPr>
              <p:cNvPr id="210" name=""/>
              <p:cNvSpPr/>
              <p:nvPr/>
            </p:nvSpPr>
            <p:spPr>
              <a:xfrm>
                <a:off x="1425960" y="3773520"/>
                <a:ext cx="36244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e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32000" y="3773520"/>
                <a:ext cx="3812040" cy="49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144400" y="3773520"/>
              <a:ext cx="3458880" cy="492840"/>
              <a:chOff x="5144400" y="3773520"/>
              <a:chExt cx="3458880" cy="492840"/>
            </a:xfrm>
          </p:grpSpPr>
          <p:sp>
            <p:nvSpPr>
              <p:cNvPr id="213" name=""/>
              <p:cNvSpPr/>
              <p:nvPr/>
            </p:nvSpPr>
            <p:spPr>
              <a:xfrm>
                <a:off x="5238360" y="3773520"/>
                <a:ext cx="32709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aracterístic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44400" y="3773520"/>
                <a:ext cx="3458880" cy="49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332000" y="4266360"/>
              <a:ext cx="3812040" cy="492480"/>
              <a:chOff x="1332000" y="4266360"/>
              <a:chExt cx="3812040" cy="492480"/>
            </a:xfrm>
          </p:grpSpPr>
          <p:sp>
            <p:nvSpPr>
              <p:cNvPr id="216" name=""/>
              <p:cNvSpPr/>
              <p:nvPr/>
            </p:nvSpPr>
            <p:spPr>
              <a:xfrm>
                <a:off x="1425960" y="4266360"/>
                <a:ext cx="36244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lel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32000" y="4266360"/>
                <a:ext cx="381204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144400" y="4266360"/>
              <a:ext cx="3458880" cy="492480"/>
              <a:chOff x="5144400" y="4266360"/>
              <a:chExt cx="3458880" cy="492480"/>
            </a:xfrm>
          </p:grpSpPr>
          <p:sp>
            <p:nvSpPr>
              <p:cNvPr id="219" name=""/>
              <p:cNvSpPr/>
              <p:nvPr/>
            </p:nvSpPr>
            <p:spPr>
              <a:xfrm>
                <a:off x="5238360" y="4266360"/>
                <a:ext cx="32709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44400" y="4266360"/>
                <a:ext cx="345888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332000" y="4759200"/>
              <a:ext cx="3812040" cy="492840"/>
              <a:chOff x="1332000" y="4759200"/>
              <a:chExt cx="3812040" cy="492840"/>
            </a:xfrm>
          </p:grpSpPr>
          <p:sp>
            <p:nvSpPr>
              <p:cNvPr id="222" name=""/>
              <p:cNvSpPr/>
              <p:nvPr/>
            </p:nvSpPr>
            <p:spPr>
              <a:xfrm>
                <a:off x="1425960" y="4759200"/>
                <a:ext cx="36244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ocu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32000" y="4759200"/>
                <a:ext cx="3812040" cy="49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144400" y="4759200"/>
              <a:ext cx="3458880" cy="492840"/>
              <a:chOff x="5144400" y="4759200"/>
              <a:chExt cx="3458880" cy="492840"/>
            </a:xfrm>
          </p:grpSpPr>
          <p:sp>
            <p:nvSpPr>
              <p:cNvPr id="225" name=""/>
              <p:cNvSpPr/>
              <p:nvPr/>
            </p:nvSpPr>
            <p:spPr>
              <a:xfrm>
                <a:off x="5238360" y="4759200"/>
                <a:ext cx="32709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osiçã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44400" y="4759200"/>
                <a:ext cx="3458880" cy="49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332000" y="5252040"/>
              <a:ext cx="3812040" cy="492480"/>
              <a:chOff x="1332000" y="5252040"/>
              <a:chExt cx="3812040" cy="492480"/>
            </a:xfrm>
          </p:grpSpPr>
          <p:sp>
            <p:nvSpPr>
              <p:cNvPr id="228" name=""/>
              <p:cNvSpPr/>
              <p:nvPr/>
            </p:nvSpPr>
            <p:spPr>
              <a:xfrm>
                <a:off x="1425960" y="5252040"/>
                <a:ext cx="36244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enóti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32000" y="5252040"/>
                <a:ext cx="381204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144400" y="5252040"/>
              <a:ext cx="3458880" cy="492480"/>
              <a:chOff x="5144400" y="5252040"/>
              <a:chExt cx="3458880" cy="492480"/>
            </a:xfrm>
          </p:grpSpPr>
          <p:sp>
            <p:nvSpPr>
              <p:cNvPr id="231" name=""/>
              <p:cNvSpPr/>
              <p:nvPr/>
            </p:nvSpPr>
            <p:spPr>
              <a:xfrm>
                <a:off x="5238360" y="5252040"/>
                <a:ext cx="32709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strutu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44400" y="5252040"/>
                <a:ext cx="345888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332000" y="5744520"/>
              <a:ext cx="3812040" cy="492480"/>
              <a:chOff x="1332000" y="5744520"/>
              <a:chExt cx="3812040" cy="492480"/>
            </a:xfrm>
          </p:grpSpPr>
          <p:sp>
            <p:nvSpPr>
              <p:cNvPr id="234" name=""/>
              <p:cNvSpPr/>
              <p:nvPr/>
            </p:nvSpPr>
            <p:spPr>
              <a:xfrm>
                <a:off x="1425960" y="5744520"/>
                <a:ext cx="36244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enóti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32000" y="5744520"/>
                <a:ext cx="381204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144400" y="5744520"/>
              <a:ext cx="3458880" cy="492480"/>
              <a:chOff x="5144400" y="5744520"/>
              <a:chExt cx="3458880" cy="492480"/>
            </a:xfrm>
          </p:grpSpPr>
          <p:sp>
            <p:nvSpPr>
              <p:cNvPr id="237" name=""/>
              <p:cNvSpPr/>
              <p:nvPr/>
            </p:nvSpPr>
            <p:spPr>
              <a:xfrm>
                <a:off x="5238360" y="5744520"/>
                <a:ext cx="32709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junto de parâmetr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4400" y="5744520"/>
                <a:ext cx="3458880" cy="492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916-7AA2-4C2E-84E9-444153D26C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15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dificação bin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 mais comum devido a sua simpli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bits – 0 o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: A = 1 0 1 1 0 0 1 0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: B = 1 1 1 1 1 1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blema da moch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dada uma lista de coisas com preços e tamanhos. É fornecido o valor da capacidade da mochila. Escolha as coisas de forma a maximizar o valor daquilo que cabe dentro da mochila, sem ultrapassar sua capac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dificaçã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bit é usado para dizer se a coisa correspondente está ou não na moch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E10-FBAB-493C-859E-D99EDBAD7F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921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dificação por per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usado em problemas de orden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números que representa uma posição numa seqü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 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 5  3  2  6  4  7  9  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 B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 5  6  7  2  3  1  4  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blema do caixeiro viaj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dadas cidades e as distâncias entre elas. O caixeiro viajante tem que visitar todas elas, sem viajar mais do que o necessário. A solução do problema consiste em encontrar a seqüência de cidades em que as viagens devem ser feitas de forma que a distância percorrida seja a mínima pos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fic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s cromossomos descrevem a ordem em que o caixeiro irá visitar as c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9CB-8978-4F50-8337-491C83AA3F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dificação po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o em problemas nos quais valores mais complicados são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seqüência de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A: 1.2324 5.3243 0.4556 2.3293 2.45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B: ABDJEIFJDHDIERJFDLDFLFEG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C: (back), (back), (right), (forward), (le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ada uma estrutura, encontrar pesos para uma rede ne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dada uma rede neural com arquitetura definida. Encontre os pesos entre os neurônios da rede de forma a obter a resposta desejada da r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difi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lores reais num cromossomo representam pesos em uma rede ne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FF5-94C1-4551-9249-D88176B567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unção de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a maneira utilizada pelos AG para determinar a qualidade de um indivíduo como solução do problema  em quest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uma nota dada ao indivíduo na resolução do probl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á usada para a escolha dos indivíduos pelo módulo de seleção de pais, sendo a forma de diferenciar entre as boas e as más soluções para um proble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da a generalidade dos AG, a função de avaliação, em muitos casos, é a única ligação verdadeira do programa com o problema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5CF-2B7C-4AD5-AA51-5C47464D8F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unção de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mbém chamada de função de custo (função de aptid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 então um valor numérico que reflete quão bons os parâmetros representados no cromossomo resolvem o probl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a todos os valores armazenados no cromossomo (os parâmetros) e retorna um valor numérico, cujo significado é uma métrica da qualidade da solução obtida usando-se aqueles parâmet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função de avaliação deve ser tal que se o cromossomo </a:t>
            </a:r>
            <a:r>
              <a:rPr b="1" lang="pt-BR" sz="2000" spc="-1" strike="noStrike">
                <a:solidFill>
                  <a:srgbClr val="cc9900"/>
                </a:solidFill>
                <a:latin typeface="Courier New"/>
                <a:ea typeface="Courier New"/>
              </a:rPr>
              <a:t>c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epresenta uma solução melhor do que o cromossomo </a:t>
            </a:r>
            <a:r>
              <a:rPr b="1" lang="pt-BR" sz="2000" spc="-1" strike="noStrike">
                <a:solidFill>
                  <a:srgbClr val="cc9900"/>
                </a:solidFill>
                <a:latin typeface="Courier New"/>
                <a:ea typeface="Courier New"/>
              </a:rPr>
              <a:t>c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então a avaliação de </a:t>
            </a:r>
            <a:r>
              <a:rPr b="1" lang="pt-BR" sz="2000" spc="-1" strike="noStrike">
                <a:solidFill>
                  <a:srgbClr val="cc9900"/>
                </a:solidFill>
                <a:latin typeface="Courier New"/>
                <a:ea typeface="Courier New"/>
              </a:rPr>
              <a:t>c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ve ser maior do que a avaliação de </a:t>
            </a:r>
            <a:r>
              <a:rPr b="1" lang="pt-BR" sz="2000" spc="-1" strike="noStrike">
                <a:solidFill>
                  <a:srgbClr val="cc9900"/>
                </a:solidFill>
                <a:latin typeface="Courier New"/>
                <a:ea typeface="Courier New"/>
              </a:rPr>
              <a:t>c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287-86E8-4826-AE05-1221E6435C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leção dos P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método de seleção de pais deve simular o mecanismo de seleção natu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is mais capazes geram mais filh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is menos aptos também podem gerar descend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mos que privilegiar os indivíduos com função de avaliação alta, sem desprezar completamente aqueles indivíduos com função de avaliação extremamente baix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é indivíduos com péssima avaliação podem ter características genéticas que sejam favoráveis à criação de um indivíduo ótimo. Estas características podem não estar presentes em nenhum outro cromossom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29A-E117-4988-A597-C3A8C8071D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leção dos P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simples e muito adotado: método da roleta viciada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iamos uma roleta (virtual) na qual cada cromossomo recebe um pedaço proporcional à sua avaliação (a soma dos pedaços não pode superar 100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damos a role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 selecionado será o indivíduo sobre o qual ela para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9FE-DC62-4405-8ED7-BB644F69BF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eleção de P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16000" y="2276640"/>
            <a:ext cx="2818440" cy="3752280"/>
            <a:chOff x="1116000" y="2276640"/>
            <a:chExt cx="2818440" cy="3752280"/>
          </a:xfrm>
        </p:grpSpPr>
        <p:grpSp>
          <p:nvGrpSpPr>
            <p:cNvPr id="256" name=""/>
            <p:cNvGrpSpPr/>
            <p:nvPr/>
          </p:nvGrpSpPr>
          <p:grpSpPr>
            <a:xfrm>
              <a:off x="1116000" y="2276640"/>
              <a:ext cx="1393560" cy="624960"/>
              <a:chOff x="1116000" y="2276640"/>
              <a:chExt cx="1393560" cy="624960"/>
            </a:xfrm>
          </p:grpSpPr>
          <p:sp>
            <p:nvSpPr>
              <p:cNvPr id="257" name=""/>
              <p:cNvSpPr/>
              <p:nvPr/>
            </p:nvSpPr>
            <p:spPr>
              <a:xfrm>
                <a:off x="1218960" y="2276640"/>
                <a:ext cx="11876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divídu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16000" y="2276640"/>
                <a:ext cx="139356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509920" y="2276640"/>
              <a:ext cx="1424520" cy="624960"/>
              <a:chOff x="2509920" y="2276640"/>
              <a:chExt cx="1424520" cy="624960"/>
            </a:xfrm>
          </p:grpSpPr>
          <p:sp>
            <p:nvSpPr>
              <p:cNvPr id="260" name=""/>
              <p:cNvSpPr/>
              <p:nvPr/>
            </p:nvSpPr>
            <p:spPr>
              <a:xfrm>
                <a:off x="2612160" y="2276640"/>
                <a:ext cx="1218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valiaçã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509920" y="2276640"/>
                <a:ext cx="142452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116000" y="2901600"/>
              <a:ext cx="1393560" cy="625320"/>
              <a:chOff x="1116000" y="2901600"/>
              <a:chExt cx="1393560" cy="625320"/>
            </a:xfrm>
          </p:grpSpPr>
          <p:sp>
            <p:nvSpPr>
              <p:cNvPr id="263" name=""/>
              <p:cNvSpPr/>
              <p:nvPr/>
            </p:nvSpPr>
            <p:spPr>
              <a:xfrm>
                <a:off x="1218960" y="2901600"/>
                <a:ext cx="11876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0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16000" y="2901600"/>
                <a:ext cx="13935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509920" y="2901600"/>
              <a:ext cx="1424520" cy="625320"/>
              <a:chOff x="2509920" y="2901600"/>
              <a:chExt cx="1424520" cy="625320"/>
            </a:xfrm>
          </p:grpSpPr>
          <p:sp>
            <p:nvSpPr>
              <p:cNvPr id="266" name=""/>
              <p:cNvSpPr/>
              <p:nvPr/>
            </p:nvSpPr>
            <p:spPr>
              <a:xfrm>
                <a:off x="2612160" y="2901600"/>
                <a:ext cx="121896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09920" y="2901600"/>
                <a:ext cx="1424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116000" y="3527280"/>
              <a:ext cx="1393560" cy="624960"/>
              <a:chOff x="1116000" y="3527280"/>
              <a:chExt cx="1393560" cy="624960"/>
            </a:xfrm>
          </p:grpSpPr>
          <p:sp>
            <p:nvSpPr>
              <p:cNvPr id="269" name=""/>
              <p:cNvSpPr/>
              <p:nvPr/>
            </p:nvSpPr>
            <p:spPr>
              <a:xfrm>
                <a:off x="1218960" y="3527280"/>
                <a:ext cx="11876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0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16000" y="3527280"/>
                <a:ext cx="139356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509920" y="3527280"/>
              <a:ext cx="1424520" cy="624960"/>
              <a:chOff x="2509920" y="3527280"/>
              <a:chExt cx="1424520" cy="62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2612160" y="3527280"/>
                <a:ext cx="1218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09920" y="3527280"/>
                <a:ext cx="142452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116000" y="4152600"/>
              <a:ext cx="1393560" cy="625320"/>
              <a:chOff x="1116000" y="4152600"/>
              <a:chExt cx="1393560" cy="625320"/>
            </a:xfrm>
          </p:grpSpPr>
          <p:sp>
            <p:nvSpPr>
              <p:cNvPr id="275" name=""/>
              <p:cNvSpPr/>
              <p:nvPr/>
            </p:nvSpPr>
            <p:spPr>
              <a:xfrm>
                <a:off x="1218960" y="4152600"/>
                <a:ext cx="11876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16000" y="4152600"/>
                <a:ext cx="13935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509920" y="4152600"/>
              <a:ext cx="1424520" cy="625320"/>
              <a:chOff x="2509920" y="4152600"/>
              <a:chExt cx="1424520" cy="625320"/>
            </a:xfrm>
          </p:grpSpPr>
          <p:sp>
            <p:nvSpPr>
              <p:cNvPr id="278" name=""/>
              <p:cNvSpPr/>
              <p:nvPr/>
            </p:nvSpPr>
            <p:spPr>
              <a:xfrm>
                <a:off x="2612160" y="4152600"/>
                <a:ext cx="121896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09920" y="4152600"/>
                <a:ext cx="1424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116000" y="4778280"/>
              <a:ext cx="1393560" cy="624960"/>
              <a:chOff x="1116000" y="4778280"/>
              <a:chExt cx="1393560" cy="624960"/>
            </a:xfrm>
          </p:grpSpPr>
          <p:sp>
            <p:nvSpPr>
              <p:cNvPr id="281" name=""/>
              <p:cNvSpPr/>
              <p:nvPr/>
            </p:nvSpPr>
            <p:spPr>
              <a:xfrm>
                <a:off x="1218960" y="4778280"/>
                <a:ext cx="118764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1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16000" y="4778280"/>
                <a:ext cx="139356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509920" y="4778280"/>
              <a:ext cx="1424520" cy="624960"/>
              <a:chOff x="2509920" y="4778280"/>
              <a:chExt cx="1424520" cy="62496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2160" y="4778280"/>
                <a:ext cx="12189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09920" y="4778280"/>
                <a:ext cx="1424520" cy="624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116000" y="5403600"/>
              <a:ext cx="1393560" cy="625320"/>
              <a:chOff x="1116000" y="5403600"/>
              <a:chExt cx="1393560" cy="625320"/>
            </a:xfrm>
          </p:grpSpPr>
          <p:sp>
            <p:nvSpPr>
              <p:cNvPr id="287" name=""/>
              <p:cNvSpPr/>
              <p:nvPr/>
            </p:nvSpPr>
            <p:spPr>
              <a:xfrm>
                <a:off x="1218960" y="5403600"/>
                <a:ext cx="11876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16000" y="5403600"/>
                <a:ext cx="139356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09920" y="5403600"/>
              <a:ext cx="1424520" cy="625320"/>
              <a:chOff x="2509920" y="5403600"/>
              <a:chExt cx="1424520" cy="625320"/>
            </a:xfrm>
          </p:grpSpPr>
          <p:sp>
            <p:nvSpPr>
              <p:cNvPr id="290" name=""/>
              <p:cNvSpPr/>
              <p:nvPr/>
            </p:nvSpPr>
            <p:spPr>
              <a:xfrm>
                <a:off x="2612160" y="5403600"/>
                <a:ext cx="121896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09920" y="5403600"/>
                <a:ext cx="1424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5219640" y="2133720"/>
            <a:ext cx="3594600" cy="3921120"/>
            <a:chOff x="5219640" y="2133720"/>
            <a:chExt cx="3594600" cy="3921120"/>
          </a:xfrm>
        </p:grpSpPr>
        <p:grpSp>
          <p:nvGrpSpPr>
            <p:cNvPr id="293" name=""/>
            <p:cNvGrpSpPr/>
            <p:nvPr/>
          </p:nvGrpSpPr>
          <p:grpSpPr>
            <a:xfrm>
              <a:off x="5219640" y="2133720"/>
              <a:ext cx="1955520" cy="793800"/>
              <a:chOff x="5219640" y="2133720"/>
              <a:chExt cx="1955520" cy="793800"/>
            </a:xfrm>
          </p:grpSpPr>
          <p:sp>
            <p:nvSpPr>
              <p:cNvPr id="294" name=""/>
              <p:cNvSpPr/>
              <p:nvPr/>
            </p:nvSpPr>
            <p:spPr>
              <a:xfrm>
                <a:off x="5338080" y="2133720"/>
                <a:ext cx="171792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edaço da roleta (%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19640" y="2133720"/>
                <a:ext cx="195552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175520" y="2133720"/>
              <a:ext cx="1638720" cy="793800"/>
              <a:chOff x="7175520" y="2133720"/>
              <a:chExt cx="1638720" cy="793800"/>
            </a:xfrm>
          </p:grpSpPr>
          <p:sp>
            <p:nvSpPr>
              <p:cNvPr id="297" name=""/>
              <p:cNvSpPr/>
              <p:nvPr/>
            </p:nvSpPr>
            <p:spPr>
              <a:xfrm>
                <a:off x="7293960" y="2133720"/>
                <a:ext cx="1401480" cy="7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edaço da roleta (º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75520" y="2133720"/>
                <a:ext cx="1638720" cy="793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5219640" y="2927520"/>
              <a:ext cx="1955520" cy="625320"/>
              <a:chOff x="5219640" y="2927520"/>
              <a:chExt cx="1955520" cy="625320"/>
            </a:xfrm>
          </p:grpSpPr>
          <p:sp>
            <p:nvSpPr>
              <p:cNvPr id="300" name=""/>
              <p:cNvSpPr/>
              <p:nvPr/>
            </p:nvSpPr>
            <p:spPr>
              <a:xfrm>
                <a:off x="5338080" y="2927520"/>
                <a:ext cx="17179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6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19640" y="2927520"/>
                <a:ext cx="1955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175520" y="2927520"/>
              <a:ext cx="1638720" cy="625320"/>
              <a:chOff x="7175520" y="2927520"/>
              <a:chExt cx="1638720" cy="62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7293960" y="2927520"/>
                <a:ext cx="140148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.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175520" y="2927520"/>
                <a:ext cx="16387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219640" y="3552840"/>
              <a:ext cx="1955520" cy="625680"/>
              <a:chOff x="5219640" y="3552840"/>
              <a:chExt cx="1955520" cy="625680"/>
            </a:xfrm>
          </p:grpSpPr>
          <p:sp>
            <p:nvSpPr>
              <p:cNvPr id="306" name=""/>
              <p:cNvSpPr/>
              <p:nvPr/>
            </p:nvSpPr>
            <p:spPr>
              <a:xfrm>
                <a:off x="5338080" y="3552840"/>
                <a:ext cx="17179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.5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19640" y="3552840"/>
                <a:ext cx="1955520" cy="62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175520" y="3552840"/>
              <a:ext cx="1638720" cy="625680"/>
              <a:chOff x="7175520" y="3552840"/>
              <a:chExt cx="1638720" cy="625680"/>
            </a:xfrm>
          </p:grpSpPr>
          <p:sp>
            <p:nvSpPr>
              <p:cNvPr id="309" name=""/>
              <p:cNvSpPr/>
              <p:nvPr/>
            </p:nvSpPr>
            <p:spPr>
              <a:xfrm>
                <a:off x="7293960" y="3552840"/>
                <a:ext cx="140148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2.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75520" y="3552840"/>
                <a:ext cx="1638720" cy="62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219640" y="4178520"/>
              <a:ext cx="1955520" cy="625320"/>
              <a:chOff x="5219640" y="4178520"/>
              <a:chExt cx="1955520" cy="625320"/>
            </a:xfrm>
          </p:grpSpPr>
          <p:sp>
            <p:nvSpPr>
              <p:cNvPr id="312" name=""/>
              <p:cNvSpPr/>
              <p:nvPr/>
            </p:nvSpPr>
            <p:spPr>
              <a:xfrm>
                <a:off x="5338080" y="4178520"/>
                <a:ext cx="17179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5.8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19640" y="4178520"/>
                <a:ext cx="1955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7175520" y="4178520"/>
              <a:ext cx="1638720" cy="625320"/>
              <a:chOff x="7175520" y="4178520"/>
              <a:chExt cx="1638720" cy="625320"/>
            </a:xfrm>
          </p:grpSpPr>
          <p:sp>
            <p:nvSpPr>
              <p:cNvPr id="315" name=""/>
              <p:cNvSpPr/>
              <p:nvPr/>
            </p:nvSpPr>
            <p:spPr>
              <a:xfrm>
                <a:off x="7293960" y="4178520"/>
                <a:ext cx="140148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2.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175520" y="4178520"/>
                <a:ext cx="16387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5219640" y="4803840"/>
              <a:ext cx="1955520" cy="625680"/>
              <a:chOff x="5219640" y="4803840"/>
              <a:chExt cx="1955520" cy="625680"/>
            </a:xfrm>
          </p:grpSpPr>
          <p:sp>
            <p:nvSpPr>
              <p:cNvPr id="318" name=""/>
              <p:cNvSpPr/>
              <p:nvPr/>
            </p:nvSpPr>
            <p:spPr>
              <a:xfrm>
                <a:off x="5338080" y="4803840"/>
                <a:ext cx="17179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8.0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19640" y="4803840"/>
                <a:ext cx="1955520" cy="62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175520" y="4803840"/>
              <a:ext cx="1638720" cy="625680"/>
              <a:chOff x="7175520" y="4803840"/>
              <a:chExt cx="1638720" cy="625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293960" y="4803840"/>
                <a:ext cx="140148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9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175520" y="4803840"/>
                <a:ext cx="1638720" cy="62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5219640" y="5429520"/>
              <a:ext cx="1955520" cy="625320"/>
              <a:chOff x="5219640" y="5429520"/>
              <a:chExt cx="1955520" cy="625320"/>
            </a:xfrm>
          </p:grpSpPr>
          <p:sp>
            <p:nvSpPr>
              <p:cNvPr id="324" name=""/>
              <p:cNvSpPr/>
              <p:nvPr/>
            </p:nvSpPr>
            <p:spPr>
              <a:xfrm>
                <a:off x="5338080" y="5429520"/>
                <a:ext cx="171792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0.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219640" y="5429520"/>
                <a:ext cx="19555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175520" y="5429520"/>
              <a:ext cx="1638720" cy="625320"/>
              <a:chOff x="7175520" y="5429520"/>
              <a:chExt cx="1638720" cy="625320"/>
            </a:xfrm>
          </p:grpSpPr>
          <p:sp>
            <p:nvSpPr>
              <p:cNvPr id="327" name=""/>
              <p:cNvSpPr/>
              <p:nvPr/>
            </p:nvSpPr>
            <p:spPr>
              <a:xfrm>
                <a:off x="7293960" y="5429520"/>
                <a:ext cx="140148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60.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75520" y="5429520"/>
                <a:ext cx="1638720" cy="625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4140360" y="371628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3B3-31F2-4451-B305-A462078183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eleção dos P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(cont.) – Graficamente, 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Figura4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5029200" cy="36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BDD-DD99-4B55-93E8-4FCBB0F8A1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ões – Algoritmos de Busca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goritmos Gené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307-1D1E-4C82-966F-A21F0CFFED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es de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Crossover e 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remos trabalhar agora com a versão mais simples dos operadores gené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sta versão, eles atuam em conjunto, como se fossem um só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E1A-0B03-4868-BA19-6FB629193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mos começar com o operador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ossov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ais simples, chamado de operador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ossov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 um pont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pois de selecionados dois pais pelo módulo de seleção de pais, um ponto de corte é selecion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ponto de corte constitui uma posição entre dois genes de um cromosso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da indivídu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enes cont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-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ontos de cor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5DD-9606-4B4B-8287-C2F777F249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3583800" y="2995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30520" y="3506760"/>
            <a:ext cx="635040" cy="779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3506760"/>
            <a:ext cx="635040" cy="779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3506760"/>
            <a:ext cx="635040" cy="779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35640" y="3506760"/>
            <a:ext cx="635040" cy="779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38480" y="4414680"/>
            <a:ext cx="254160" cy="516240"/>
          </a:xfrm>
          <a:prstGeom prst="upArrow">
            <a:avLst>
              <a:gd name="adj1" fmla="val 50000"/>
              <a:gd name="adj2" fmla="val 5077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73520" y="4414680"/>
            <a:ext cx="254160" cy="516240"/>
          </a:xfrm>
          <a:prstGeom prst="upArrow">
            <a:avLst>
              <a:gd name="adj1" fmla="val 50000"/>
              <a:gd name="adj2" fmla="val 5077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08560" y="4414680"/>
            <a:ext cx="254160" cy="516240"/>
          </a:xfrm>
          <a:prstGeom prst="upArrow">
            <a:avLst>
              <a:gd name="adj1" fmla="val 50000"/>
              <a:gd name="adj2" fmla="val 5077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70680" y="3506760"/>
            <a:ext cx="635040" cy="779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943600" y="4414680"/>
            <a:ext cx="254160" cy="516240"/>
          </a:xfrm>
          <a:prstGeom prst="upArrow">
            <a:avLst>
              <a:gd name="adj1" fmla="val 50000"/>
              <a:gd name="adj2" fmla="val 5077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03440" y="3378240"/>
            <a:ext cx="889200" cy="103644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55000" y="495792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ntos de Cor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86640" y="4935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02600" y="4935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56360" y="495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91400" y="495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5B4-33BD-48B8-B32D-0E8170CCAC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pois de sorteado o ponto de corte, separa-se os pais em duas partes: uma à esquerda do ponto de corte e outra à dire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importante notar que: não necessariamente estas duas partes têm o mesmo tamanh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meiro fil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osto através da concatenação da parte esquerda do primeiro pai com a parte direita do segundo p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gundo fil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osto através da concatenação das partes que sobraram (a metade esquerda do segundo pai com a metade à direita do primeiro pa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287-55CC-44F8-9925-A9AFA0DB45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Operador de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ross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operação deve ser realizada sobre os cromossomos dos pais para a criação de desc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om1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010 | 00100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om2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011 | 110000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lho 1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010 | 110000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lho 2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1011 | 0010011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C97-7ED1-4A00-9725-0ECABD8EF1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77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53360" y="6381720"/>
            <a:ext cx="5766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http://www.icmc.usp.br/~andre/research/genetic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16000" y="2349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o 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5257800" cy="1728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042920" y="4708800"/>
            <a:ext cx="7705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 exemplo de crossover de um po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dois indivíduos são escolh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um ponto (4) de crossover é escolh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 são recombinadas as características, gerando dois novos indivídu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688-9BE1-40DF-AF90-F6EE41BB3A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56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 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pois de compostos os filhos, entra em ação o operador de mut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e opera da seguinte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 tem associada uma probabilidade extremamente baixa (da ordem de 0,5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rtea-se um número entre 0 e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ele for menor do que a probabilidade pré-determinada então o operador atua sobre o gene em questão, alterando-lhe o valor aleatori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pete-se então o processo para todos os gens componentes dos dois filho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886-6134-4D19-9448-42DC88B973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 de 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ivo da mutação é evitar que as soluções na população fiquem apenas num mínim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lho1 an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10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100001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lho2 an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10110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01101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lho1 depo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10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1100001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lho2 depo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10110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01101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3311640" cy="11145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37360" y="6308640"/>
            <a:ext cx="5766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http://www.icmc.usp.br/~andre/research/genetic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20720" y="5229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o ex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AD2-EA26-4658-8416-6B7A76B92A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71640" y="3212640"/>
            <a:ext cx="201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es em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97520" y="14367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06320" y="1467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64000" y="2063880"/>
            <a:ext cx="2826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6600" y="2063880"/>
            <a:ext cx="28404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30640" y="2063880"/>
            <a:ext cx="2826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3240" y="2063880"/>
            <a:ext cx="28404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97280" y="2063880"/>
            <a:ext cx="2826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75920" y="18464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Pai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564000" y="28256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6600" y="2825640"/>
            <a:ext cx="2840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30640" y="28256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13240" y="2825640"/>
            <a:ext cx="2840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97280" y="28256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81320" y="321300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Pai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19720" y="2271600"/>
            <a:ext cx="1133640" cy="725760"/>
          </a:xfrm>
          <a:prstGeom prst="rightArrow">
            <a:avLst>
              <a:gd name="adj1" fmla="val 50000"/>
              <a:gd name="adj2" fmla="val 3905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Selecionamos 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ponto  de c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67480" y="2063880"/>
            <a:ext cx="2826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080" y="2063880"/>
            <a:ext cx="28404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34120" y="2063880"/>
            <a:ext cx="2826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16720" y="2063880"/>
            <a:ext cx="28440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701120" y="2063880"/>
            <a:ext cx="282240" cy="3632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11160" y="184644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Pai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67480" y="28256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0080" y="2825640"/>
            <a:ext cx="2840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34120" y="28256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416720" y="2825640"/>
            <a:ext cx="2844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01120" y="2825640"/>
            <a:ext cx="2822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05400" y="321300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Pai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134120" y="1908000"/>
            <a:ext cx="0" cy="1513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11760" y="3602160"/>
            <a:ext cx="1371600" cy="96840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Depois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operador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cross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67480" y="5781600"/>
            <a:ext cx="282600" cy="36216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0080" y="5781600"/>
            <a:ext cx="284040" cy="36216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34120" y="50180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416720" y="5018040"/>
            <a:ext cx="2844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701120" y="5018040"/>
            <a:ext cx="2822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8600" y="480060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Filho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67480" y="5024520"/>
            <a:ext cx="282600" cy="363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50080" y="5024520"/>
            <a:ext cx="284040" cy="363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34120" y="5781600"/>
            <a:ext cx="282600" cy="362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16720" y="5781600"/>
            <a:ext cx="284400" cy="362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701120" y="5781600"/>
            <a:ext cx="282240" cy="362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84000" y="616752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Filh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240160" y="5237280"/>
            <a:ext cx="1216080" cy="725400"/>
          </a:xfrm>
          <a:prstGeom prst="rightArrow">
            <a:avLst>
              <a:gd name="adj1" fmla="val 50000"/>
              <a:gd name="adj2" fmla="val 4191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Depois d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operador de mut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21240" y="5781600"/>
            <a:ext cx="282600" cy="36216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03840" y="5781600"/>
            <a:ext cx="284040" cy="36216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87880" y="50180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70480" y="5018040"/>
            <a:ext cx="28404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54520" y="5018040"/>
            <a:ext cx="282600" cy="36360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032360" y="480060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Filho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21240" y="5024520"/>
            <a:ext cx="282600" cy="363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03840" y="5024520"/>
            <a:ext cx="284040" cy="3636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87880" y="5781600"/>
            <a:ext cx="282600" cy="362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470480" y="5781600"/>
            <a:ext cx="284040" cy="362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37760" y="616752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Garamond"/>
              </a:rPr>
              <a:t>Filh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754520" y="5781600"/>
            <a:ext cx="282600" cy="362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97280" y="5721480"/>
            <a:ext cx="397080" cy="4842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26520" y="6132600"/>
            <a:ext cx="115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Gen alte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pela mu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35200" y="650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18680" y="649908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(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F39-FB0A-4775-B83E-A7B58E421F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ódulo da Po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ável pelo controle da popul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 simplicidade, população não pode cres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 que armazenemos a população em um vetor de tamanho constante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is têm que ser substituídos conforme os filhos vão nasc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de parecer estranho, visto que estamos acostumados a ver a população humana sempre cresce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retanto, simula bem ambientes de recursos limi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5BD-8DD4-4D2A-A050-10F6B0CB76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688360" cy="44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41B-EE16-4166-AC76-5A6619A54D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ódulo da Po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simples de obten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ada atuação do operador genético são criados dois filh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s vão sendo armazenados em um espaço auxiliar até que o número de filhos criado seja igual ao tamanho da popul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ste ponto o módulo de população entra em 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os pais são então descartados e os filhos copiados para cima de suas posições de memória, indo tornar-se os pais da nova geraçã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9B9-A2B7-44D4-95EF-10E7E6617E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pectos Pr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plementação prática de um AG requer atenção para várias quest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Escolha da Função de Avaliação/Aptid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Problemas de converg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Escolha da Técnica de Sele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Lacuna entre geraçõe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eneration ga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B1F-4AEC-43E1-A1BF-51BB7AAA7E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 Genético Aplicado ao Caixeiro Viaj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Uma população inicial é gerada aleatoriamente. Cada indivíduo da população é uma rota. Lembrando que as cidades não podem ser repet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Cada indivíduo é avaliado definindo se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itnes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valor de adequação) que é inversamente proporcional a distância total da ro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Um número aleatório de indivíduos (pode ser predefinido) é selecionado na ro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Alguns dos indivíduos selecionados passam por alterações, através dos operadores genético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mutaç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Uma nova população é gerada e repete-se os passos do 2 ao 5 até que um número pré-definido de gerações seja alcanç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5FC-DA55-4786-B8ED-38B85C41D6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simu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olução para o Problema do Caixeiro Viajante (PC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lsin.unisantos.br/lvcon/experimento?id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C47-A189-4DAF-9C5B-9E8DCE48A0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258920" y="1773360"/>
            <a:ext cx="7313400" cy="4896000"/>
            <a:chOff x="1258920" y="1773360"/>
            <a:chExt cx="7313400" cy="4896000"/>
          </a:xfrm>
        </p:grpSpPr>
        <p:sp>
          <p:nvSpPr>
            <p:cNvPr id="108" name=""/>
            <p:cNvSpPr/>
            <p:nvPr/>
          </p:nvSpPr>
          <p:spPr>
            <a:xfrm>
              <a:off x="2315880" y="2987640"/>
              <a:ext cx="18723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ção:  escolhemos 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íduos que participar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 processo reprodutó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8920" y="3619440"/>
              <a:ext cx="2571480" cy="889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47840" y="3635280"/>
              <a:ext cx="2374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aliação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licamos a funçã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aliação a cada um dos indivíduos desta geraç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052720" y="2540880"/>
              <a:ext cx="834840" cy="2156040"/>
              <a:chOff x="2052720" y="2540880"/>
              <a:chExt cx="834840" cy="2156040"/>
            </a:xfrm>
          </p:grpSpPr>
          <p:sp>
            <p:nvSpPr>
              <p:cNvPr id="112" name=""/>
              <p:cNvSpPr/>
              <p:nvPr/>
            </p:nvSpPr>
            <p:spPr>
              <a:xfrm>
                <a:off x="2052720" y="2540880"/>
                <a:ext cx="834840" cy="215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4"/>
                    </a:moveTo>
                    <a:arcTo wR="10800" hR="10800" stAng="-10794809" swAng="36694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4"/>
                    </a:moveTo>
                    <a:arcTo wR="10800" hR="10800" stAng="-10794809" swAng="3669489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60000" y="254304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227" h="194">
                    <a:moveTo>
                      <a:pt x="227" y="0"/>
                    </a:moveTo>
                    <a:lnTo>
                      <a:pt x="0" y="85"/>
                    </a:lnTo>
                    <a:lnTo>
                      <a:pt x="82" y="19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559040" y="2986200"/>
              <a:ext cx="2791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dores genéticos: Aplicamos 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dores de recombinação e mutaç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s indivíduos escolhidos para “pai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792600" y="2443320"/>
              <a:ext cx="934560" cy="174600"/>
              <a:chOff x="3792600" y="2443320"/>
              <a:chExt cx="934560" cy="174600"/>
            </a:xfrm>
          </p:grpSpPr>
          <p:sp>
            <p:nvSpPr>
              <p:cNvPr id="116" name=""/>
              <p:cNvSpPr/>
              <p:nvPr/>
            </p:nvSpPr>
            <p:spPr>
              <a:xfrm>
                <a:off x="3792600" y="2530080"/>
                <a:ext cx="700200" cy="1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15240" y="2443320"/>
                <a:ext cx="511920" cy="174600"/>
              </a:xfrm>
              <a:custGeom>
                <a:avLst/>
                <a:gdLst/>
                <a:ahLst/>
                <a:rect l="l" t="t" r="r" b="b"/>
                <a:pathLst>
                  <a:path w="373" h="135">
                    <a:moveTo>
                      <a:pt x="373" y="69"/>
                    </a:moveTo>
                    <a:lnTo>
                      <a:pt x="0" y="0"/>
                    </a:lnTo>
                    <a:lnTo>
                      <a:pt x="0" y="135"/>
                    </a:lnTo>
                    <a:lnTo>
                      <a:pt x="373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591000" y="4181400"/>
              <a:ext cx="2458800" cy="1630440"/>
            </a:xfrm>
            <a:custGeom>
              <a:avLst/>
              <a:gdLst/>
              <a:ahLst/>
              <a:rect l="l" t="t" r="r" b="b"/>
              <a:pathLst>
                <a:path w="1590" h="1050">
                  <a:moveTo>
                    <a:pt x="795" y="0"/>
                  </a:moveTo>
                  <a:lnTo>
                    <a:pt x="0" y="525"/>
                  </a:lnTo>
                  <a:lnTo>
                    <a:pt x="795" y="1050"/>
                  </a:lnTo>
                  <a:lnTo>
                    <a:pt x="1590" y="525"/>
                  </a:lnTo>
                  <a:lnTo>
                    <a:pt x="795" y="0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86720" y="4664160"/>
              <a:ext cx="15735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tisfizemos o critéri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 parada ? (por nº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ções ou por qua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dade das soluçõe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490120" y="3743280"/>
              <a:ext cx="2149920" cy="1247400"/>
              <a:chOff x="2490120" y="3743280"/>
              <a:chExt cx="2149920" cy="1247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490120" y="3743280"/>
                <a:ext cx="2149920" cy="124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12" y="21600"/>
                    </a:moveTo>
                    <a:arcTo wR="10800" hR="10800" stAng="5396252" swAng="40511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12" y="21600"/>
                    </a:moveTo>
                    <a:arcTo wR="10800" hR="10800" stAng="5396252" swAng="4051165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92280" y="4370400"/>
                <a:ext cx="203760" cy="371880"/>
              </a:xfrm>
              <a:custGeom>
                <a:avLst/>
                <a:gdLst/>
                <a:ahLst/>
                <a:rect l="l" t="t" r="r" b="b"/>
                <a:pathLst>
                  <a:path w="173" h="322">
                    <a:moveTo>
                      <a:pt x="0" y="0"/>
                    </a:moveTo>
                    <a:lnTo>
                      <a:pt x="76" y="322"/>
                    </a:lnTo>
                    <a:lnTo>
                      <a:pt x="173" y="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019320" y="4680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30680" y="6486480"/>
              <a:ext cx="25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713120" y="5819760"/>
              <a:ext cx="227160" cy="541440"/>
              <a:chOff x="4713120" y="5819760"/>
              <a:chExt cx="227160" cy="541440"/>
            </a:xfrm>
          </p:grpSpPr>
          <p:sp>
            <p:nvSpPr>
              <p:cNvPr id="126" name=""/>
              <p:cNvSpPr/>
              <p:nvPr/>
            </p:nvSpPr>
            <p:spPr>
              <a:xfrm>
                <a:off x="4830840" y="5819760"/>
                <a:ext cx="1080" cy="3322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13120" y="5915160"/>
                <a:ext cx="227160" cy="446040"/>
              </a:xfrm>
              <a:custGeom>
                <a:avLst/>
                <a:gdLst/>
                <a:ahLst/>
                <a:rect l="l" t="t" r="r" b="b"/>
                <a:pathLst>
                  <a:path w="166" h="393">
                    <a:moveTo>
                      <a:pt x="85" y="393"/>
                    </a:moveTo>
                    <a:lnTo>
                      <a:pt x="166" y="0"/>
                    </a:lnTo>
                    <a:lnTo>
                      <a:pt x="0" y="0"/>
                    </a:lnTo>
                    <a:lnTo>
                      <a:pt x="85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007960" y="5969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78280" y="3619440"/>
              <a:ext cx="2837160" cy="8510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75200" y="3683160"/>
              <a:ext cx="26971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ódulo de população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finimos a nova população a part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 geração existente e dos filh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858360" y="2540160"/>
              <a:ext cx="713520" cy="2154600"/>
              <a:chOff x="6858360" y="2540160"/>
              <a:chExt cx="713520" cy="2154600"/>
            </a:xfrm>
          </p:grpSpPr>
          <p:sp>
            <p:nvSpPr>
              <p:cNvPr id="132" name=""/>
              <p:cNvSpPr/>
              <p:nvPr/>
            </p:nvSpPr>
            <p:spPr>
              <a:xfrm>
                <a:off x="6858360" y="2540160"/>
                <a:ext cx="642960" cy="21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08" y="0"/>
                    </a:moveTo>
                    <a:arcTo wR="10800" hR="10800" stAng="-5429243" swAng="42836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08" y="0"/>
                    </a:moveTo>
                    <a:arcTo wR="10800" hR="10800" stAng="-5429243" swAng="4283664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384680" y="3256920"/>
                <a:ext cx="187200" cy="362160"/>
              </a:xfrm>
              <a:custGeom>
                <a:avLst/>
                <a:gdLst/>
                <a:ahLst/>
                <a:rect l="l" t="t" r="r" b="b"/>
                <a:pathLst>
                  <a:path w="136" h="244">
                    <a:moveTo>
                      <a:pt x="82" y="244"/>
                    </a:moveTo>
                    <a:lnTo>
                      <a:pt x="136" y="0"/>
                    </a:lnTo>
                    <a:lnTo>
                      <a:pt x="0" y="9"/>
                    </a:lnTo>
                    <a:lnTo>
                      <a:pt x="82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057720" y="4456080"/>
              <a:ext cx="963720" cy="612360"/>
              <a:chOff x="6057720" y="4456080"/>
              <a:chExt cx="963720" cy="612360"/>
            </a:xfrm>
          </p:grpSpPr>
          <p:sp>
            <p:nvSpPr>
              <p:cNvPr id="135" name=""/>
              <p:cNvSpPr/>
              <p:nvPr/>
            </p:nvSpPr>
            <p:spPr>
              <a:xfrm>
                <a:off x="6271920" y="4456080"/>
                <a:ext cx="749520" cy="578880"/>
              </a:xfrm>
              <a:custGeom>
                <a:avLst/>
                <a:gdLst/>
                <a:ahLst/>
                <a:rect l="l" t="t" r="r" b="b"/>
                <a:pathLst>
                  <a:path w="626" h="568">
                    <a:moveTo>
                      <a:pt x="0" y="568"/>
                    </a:moveTo>
                    <a:lnTo>
                      <a:pt x="46" y="557"/>
                    </a:lnTo>
                    <a:lnTo>
                      <a:pt x="93" y="537"/>
                    </a:lnTo>
                    <a:lnTo>
                      <a:pt x="142" y="515"/>
                    </a:lnTo>
                    <a:lnTo>
                      <a:pt x="192" y="484"/>
                    </a:lnTo>
                    <a:lnTo>
                      <a:pt x="243" y="448"/>
                    </a:lnTo>
                    <a:lnTo>
                      <a:pt x="295" y="412"/>
                    </a:lnTo>
                    <a:lnTo>
                      <a:pt x="339" y="368"/>
                    </a:lnTo>
                    <a:lnTo>
                      <a:pt x="391" y="320"/>
                    </a:lnTo>
                    <a:lnTo>
                      <a:pt x="438" y="267"/>
                    </a:lnTo>
                    <a:lnTo>
                      <a:pt x="485" y="210"/>
                    </a:lnTo>
                    <a:lnTo>
                      <a:pt x="533" y="152"/>
                    </a:lnTo>
                    <a:lnTo>
                      <a:pt x="574" y="89"/>
                    </a:lnTo>
                    <a:lnTo>
                      <a:pt x="613" y="25"/>
                    </a:lnTo>
                    <a:lnTo>
                      <a:pt x="6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7720" y="4929840"/>
                <a:ext cx="296640" cy="138600"/>
              </a:xfrm>
              <a:custGeom>
                <a:avLst/>
                <a:gdLst/>
                <a:ahLst/>
                <a:rect l="l" t="t" r="r" b="b"/>
                <a:pathLst>
                  <a:path w="248" h="136">
                    <a:moveTo>
                      <a:pt x="0" y="72"/>
                    </a:moveTo>
                    <a:lnTo>
                      <a:pt x="248" y="136"/>
                    </a:lnTo>
                    <a:lnTo>
                      <a:pt x="243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057000" y="5178600"/>
              <a:ext cx="10720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hos ger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brevivem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ão copi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bre seus pa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265880" y="4457880"/>
              <a:ext cx="185760" cy="1325160"/>
              <a:chOff x="7265880" y="4457880"/>
              <a:chExt cx="185760" cy="1325160"/>
            </a:xfrm>
          </p:grpSpPr>
          <p:sp>
            <p:nvSpPr>
              <p:cNvPr id="139" name=""/>
              <p:cNvSpPr/>
              <p:nvPr/>
            </p:nvSpPr>
            <p:spPr>
              <a:xfrm>
                <a:off x="7358760" y="4457880"/>
                <a:ext cx="1440" cy="11876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265880" y="5481000"/>
                <a:ext cx="185760" cy="302040"/>
              </a:xfrm>
              <a:custGeom>
                <a:avLst/>
                <a:gdLst/>
                <a:ahLst/>
                <a:rect l="l" t="t" r="r" b="b"/>
                <a:pathLst>
                  <a:path w="136" h="233">
                    <a:moveTo>
                      <a:pt x="68" y="23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68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7387560" y="4929120"/>
              <a:ext cx="1090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da a antig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ção de pa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721960" y="2088360"/>
              <a:ext cx="800280" cy="751320"/>
              <a:chOff x="2721960" y="2088360"/>
              <a:chExt cx="800280" cy="751320"/>
            </a:xfrm>
          </p:grpSpPr>
          <p:sp>
            <p:nvSpPr>
              <p:cNvPr id="143" name=""/>
              <p:cNvSpPr/>
              <p:nvPr/>
            </p:nvSpPr>
            <p:spPr>
              <a:xfrm>
                <a:off x="2725200" y="2088360"/>
                <a:ext cx="794160" cy="75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94" y="56"/>
                    </a:moveTo>
                    <a:arcTo wR="10800" hR="10800" stAng="-5051033" swAng="2964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94" y="56"/>
                    </a:moveTo>
                    <a:arcTo wR="10800" hR="10800" stAng="-5051033" swAng="296465"/>
                  </a:path>
                </a:pathLst>
              </a:custGeom>
              <a:solidFill>
                <a:srgbClr val="ff00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23400" y="2089080"/>
                <a:ext cx="797760" cy="75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6" y="190"/>
                    </a:moveTo>
                    <a:arcTo wR="10800" hR="10800" stAng="-4754568" swAng="31901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6" y="190"/>
                    </a:moveTo>
                    <a:arcTo wR="10800" hR="10800" stAng="-4754568" swAng="3190165"/>
                  </a:path>
                </a:pathLst>
              </a:custGeom>
              <a:solidFill>
                <a:srgbClr val="00ff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21960" y="2089080"/>
                <a:ext cx="800280" cy="750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01" y="6053"/>
                    </a:moveTo>
                    <a:arcTo wR="10800" hR="10800" stAng="-1564403" swAng="55237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01" y="6053"/>
                    </a:moveTo>
                    <a:arcTo wR="10800" hR="10800" stAng="-1564403" swAng="5523770"/>
                  </a:path>
                </a:pathLst>
              </a:custGeom>
              <a:solidFill>
                <a:srgbClr val="0000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22320" y="2089080"/>
                <a:ext cx="798840" cy="75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95" y="20665"/>
                    </a:moveTo>
                    <a:arcTo wR="10800" hR="10800" stAng="3959367" swAng="12589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95" y="20665"/>
                    </a:moveTo>
                    <a:arcTo wR="10800" hR="10800" stAng="3959367" swAng="12589600"/>
                  </a:path>
                </a:pathLst>
              </a:custGeom>
              <a:solidFill>
                <a:srgbClr val="ffff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011560" y="2143080"/>
              <a:ext cx="777960" cy="7333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5087880" y="2349360"/>
              <a:ext cx="566640" cy="109800"/>
              <a:chOff x="5087880" y="2349360"/>
              <a:chExt cx="566640" cy="109800"/>
            </a:xfrm>
          </p:grpSpPr>
          <p:sp>
            <p:nvSpPr>
              <p:cNvPr id="149" name=""/>
              <p:cNvSpPr/>
              <p:nvPr/>
            </p:nvSpPr>
            <p:spPr>
              <a:xfrm>
                <a:off x="5087880" y="2349360"/>
                <a:ext cx="11556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00560" y="234936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25920" y="2349360"/>
                <a:ext cx="11664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14680" y="234936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40400" y="2349360"/>
                <a:ext cx="1141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087880" y="2639880"/>
              <a:ext cx="566640" cy="111240"/>
              <a:chOff x="5087880" y="2639880"/>
              <a:chExt cx="566640" cy="111240"/>
            </a:xfrm>
          </p:grpSpPr>
          <p:sp>
            <p:nvSpPr>
              <p:cNvPr id="155" name=""/>
              <p:cNvSpPr/>
              <p:nvPr/>
            </p:nvSpPr>
            <p:spPr>
              <a:xfrm>
                <a:off x="5087880" y="2639880"/>
                <a:ext cx="11556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200560" y="2639880"/>
                <a:ext cx="11520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25920" y="2639880"/>
                <a:ext cx="11664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14680" y="2639880"/>
                <a:ext cx="11520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40400" y="2639880"/>
                <a:ext cx="11412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308560" y="2236680"/>
              <a:ext cx="1440" cy="631800"/>
            </a:xfrm>
            <a:prstGeom prst="line">
              <a:avLst/>
            </a:prstGeom>
            <a:ln w="73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27600" y="1773360"/>
              <a:ext cx="1668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ortes a sere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efetuados 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245280" y="2131920"/>
              <a:ext cx="774720" cy="730440"/>
              <a:chOff x="6245280" y="2131920"/>
              <a:chExt cx="774720" cy="730440"/>
            </a:xfrm>
          </p:grpSpPr>
          <p:sp>
            <p:nvSpPr>
              <p:cNvPr id="163" name=""/>
              <p:cNvSpPr/>
              <p:nvPr/>
            </p:nvSpPr>
            <p:spPr>
              <a:xfrm>
                <a:off x="6245280" y="2131920"/>
                <a:ext cx="774720" cy="730440"/>
              </a:xfrm>
              <a:prstGeom prst="rect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21960" y="2361600"/>
                <a:ext cx="11376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32120" y="236160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58560" y="2361600"/>
                <a:ext cx="11772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545880" y="2361600"/>
                <a:ext cx="11772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779520" y="2625840"/>
                <a:ext cx="11664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21960" y="2627640"/>
                <a:ext cx="11376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32120" y="2627640"/>
                <a:ext cx="11520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658560" y="2627640"/>
                <a:ext cx="1177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45880" y="2627640"/>
                <a:ext cx="1177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74120" y="2361600"/>
                <a:ext cx="11628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38520" y="2208240"/>
                <a:ext cx="32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Book Antiqua"/>
                  </a:rPr>
                  <a:t>Filho 1 :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8520" y="2502720"/>
                <a:ext cx="32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Book Antiqua"/>
                  </a:rPr>
                  <a:t>Filho 2 :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5897520" y="2436840"/>
              <a:ext cx="264960" cy="201600"/>
            </a:xfrm>
            <a:custGeom>
              <a:avLst/>
              <a:gdLst/>
              <a:ahLst/>
              <a:rect l="l" t="t" r="r" b="b"/>
              <a:pathLst>
                <a:path w="193" h="155">
                  <a:moveTo>
                    <a:pt x="97" y="0"/>
                  </a:moveTo>
                  <a:lnTo>
                    <a:pt x="97" y="39"/>
                  </a:lnTo>
                  <a:lnTo>
                    <a:pt x="0" y="39"/>
                  </a:lnTo>
                  <a:lnTo>
                    <a:pt x="0" y="117"/>
                  </a:lnTo>
                  <a:lnTo>
                    <a:pt x="97" y="117"/>
                  </a:lnTo>
                  <a:lnTo>
                    <a:pt x="97" y="155"/>
                  </a:lnTo>
                  <a:lnTo>
                    <a:pt x="193" y="78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19600" y="1809720"/>
              <a:ext cx="2442960" cy="114768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2680" y="2004840"/>
              <a:ext cx="1347840" cy="941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7170480" y="5800680"/>
              <a:ext cx="462240" cy="4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1108440" y="6407280"/>
            <a:ext cx="3016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http://rico_linden.tripod.com/G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6FA-0566-4DF8-8076-0871F6AF50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04480" y="17064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sboço do Algoritmo Gen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Início]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ação aleatória de uma população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romosso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Adaptação]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rificar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ão objetiv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ada cromossomo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População]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-se uma nova população pela repetição a segu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542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Seleção]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lecione um par de cromossomos da população de acordo com a adaptação de cada um (os mais bem adaptados  tem maior chance de serem escolhid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542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roduza dois descendentes (filhos) realizando cruzamento com os cromossomos dos pais. O ponto para a realização do cruzamento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 ser aleatór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542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Mutação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 uma certa probabilidade, o descendente  sofre mutação em cada posição no cromossom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542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Aceitação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loque os descendentes em uma nova população, juntamente com a melhor solução da geração vel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3A6-F0B0-4A98-8097-1306439140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sboço do Algoritmo Gen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Troca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ubstitua a população velha pela no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Teste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e a condição de finalização é satisfeita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 retorne a melhor solução da população atu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Adaptação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Laço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Volte ao pass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980-2B58-4F07-8B62-1B7E1E28C0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84428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 como na natureza, a informação deve ser codificada nos cromossomos (ou genom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produção, que no caso dos GA, é equivalente à reprodução sexuada, se encarregará de fazer com que a população evol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utação cria diversidade, mudando aleatoriamente gens dentro de indivídu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produção e a mutação são aplicadas 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divídu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lecionados dentro da popu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ECF-4237-42E2-B8A3-089A1637B2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34560" y="1706400"/>
            <a:ext cx="8101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estõe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criar cromossomos e qual tipo de codificação u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 primeira pergunta que deve ser feita ao resolver um problema com 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dificação dependerá fortemente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escolher os pais para a realização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geração de uma população a partir de duas soluções pode causar a perda da melhor solução. O que faz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810720"/>
            <a:ext cx="77151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8B1-F2E2-4E62-A3EB-4118AADE55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34560" y="1706400"/>
            <a:ext cx="8101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“Cromossomi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da pedaço indivisível desta representação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representação cromossomial é completamente arbitrá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interessante apenas que algumas regras gerais sejam segui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representação deve ser a mais simples possív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houver soluções proibidas ao problema, então elas não devem ter uma represen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o problema impuser condições de algum tipo, estas devem estar implícitas na represent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971280" y="810720"/>
            <a:ext cx="77151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674-FC4A-4D36-810D-D23C349FAE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14T10:11:23Z</dcterms:modified>
  <cp:revision>58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