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5A6-69E3-48B9-8763-14C59285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27A-E3F4-4625-99F6-2516C2C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223-1D3A-42BD-BDD9-CF0F01A2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258-ECDA-485F-88C5-F701DD54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C1E61-7F78-4FC3-BAB7-B3075E8C61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2A83B-C4C6-4287-AE95-AD00E4358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DBEAE-593B-44BF-A5FA-74F51B1840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07C9-1770-4A40-9D11-C729B454E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A1971-2336-4B91-AB71-047FBB48A3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6900A-35DB-4C08-9B59-B04C5DD1C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64885-1EB7-4ABC-BBF1-7F2DAAF98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58D-9392-4974-95BF-9130587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0C597-3DD0-4956-93A5-E12710DE1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F52FB-1B84-41FE-ACE7-A5D799E961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6A077-DA5E-4E2B-8358-60BFB81494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FFF83-3514-4666-9A77-7F689BF85E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F4EC4-2130-4E50-A99C-864B714E8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290-5357-48EE-9941-5B143759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251-CB5F-4E6C-837D-D7B9C7F4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801-8EF8-4A70-892F-43B6056D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A52-F366-45CE-BA48-5F2A653C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58B-4267-4DDA-9D4D-C45C42CD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AD5-B477-4C32-9665-CF9BA8D5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A13-68A1-472A-AD9F-0F45013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5FB6-3F69-4133-B561-499D0AC2CF6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A6B4-F129-403F-9B1D-3256869CB77C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6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sin.unisantos.br/lvcon/experimento?id=8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84000" y="2179440"/>
            <a:ext cx="6480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(Parte V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formaçõe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1557360"/>
            <a:ext cx="7921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em Feix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o controle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 ao invés de somente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eça com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gerados aleato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cada passo gera todos os sucessores d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lgum sucessor for o objetivo, ter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escolhe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lhores sucessores e repete a 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iferente da busca com reinício aleatório porque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compartilham informações entre 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s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ados podem rapidamente ficar concentrados em uma pequena região do espaço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colher ao acas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cessores melhores do que seus 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1164-D4E1-4FC5-B8FD-8F4FC5DA98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strações – Algoritmos de Busca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4CC-2665-4808-B192-5EBF4842A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 Subida da Montan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um método de busca (local) que utiliza um procedimento de melhora iterativ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terative improveme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atégia é aplicada a um único pont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olução candidata) no espaço de busca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F40-C8F5-498B-BBD5-4A5C10AC61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 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Padr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Descri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ize (aleatoriamente) 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região factível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iteração um nov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é selecionado aplicando-se uma pequena perturbação no ponto atual, ou seja, selecionando-se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que esteja na vizinhança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e novo ponto apresenta um melhor valor para a função de avaliação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novo ponto torna-se o ponto a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étodo é concluído quando nenhuma melhoria significativa é alcançada, um número fixo de iterações foi efetuado, ou um objetivo foi ating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140360" y="4365720"/>
            <a:ext cx="144360" cy="14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025-E165-4A7C-9AAC-2549070F6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Hill-Climb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bida pela Encosta mais Íng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It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ill-Climb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stocástico (Probabilístico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A94-9DF4-4EB2-B329-4F01268318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bém denominado Recozimento Simulad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“temperatura” fixa T, a probabilidade de ocupação de um estado pior que o atual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decrescendo suficientemente len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empre alcança o melhor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valores maiores de T, soluções ruins são permit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próximo de zero, a probabilidade de se escolher soluções ruins dimin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determina qual é a variação entre a solução corrente e a próxima solu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84720" y="3213000"/>
                <a:ext cx="6494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Δ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6E7-F839-4EAE-AC79-4A3D3C4E7C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uma o problema genérico de minimizar uma fun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ize (aleatoriamente)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região factível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iteração um novo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é selecionado aplicando-se uma pequena perturbação ao ponto atual, ou seja, selecionando-se um pont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que esteja na vizinhança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e a energia de cada uma destas configurações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, e verifique a variação na energia do sistema:           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5F8-B1EB-4F18-B965-3BF052586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484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≤ 0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torna-se o ponto atua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←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); senão, a probabilidade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' ser aceito como o ponto atual é dada por um caso particular da distribuição de Boltzmann-Gibbs, ou seja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exp(-Δ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étodo termina quando nenhuma melhoria significativa é alcançada, um número fixo de iterações foi efetuado, ou a temperatu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ingiu seu valor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arâmet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iniciado com um valor elevado e é lentamente reduzido durante o processo de bus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almente implementa-se um decréscimo geométrico par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eqüência de temperaturas e o número de rearranjos dos parâmetros até a chegada a um estado de equilíbrio a cada temperatura é denominad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qüê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recoziment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nnealing Schedul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BD61-859A-490D-B024-9625296AC1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ulated Annealing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(Têmpera Simu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simu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olução para o Problema do Caixeiro Viajante (PC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lsin.unisantos.br/lvcon/experimento?id=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F9E-4764-4BC7-B6DD-D61C0253CE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14T02:20:13Z</dcterms:modified>
  <cp:revision>58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