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D98-4DF1-4769-B3F1-4C2B23EC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755-78CF-47A5-B4FA-D0CA74FE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075-88C1-4090-8869-F2C43573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A08-AA50-41B5-B831-6DE0162E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3CD68-73F5-422D-BAF2-0A3E780468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48F10-18AD-40A6-ABD6-511B21B31D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2648E-61D3-4AEA-A3B9-B6F70A1908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E4A20-79E5-4A24-834A-047B87DBAC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C2745-22B3-402C-8799-210CF5E059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4262C-342C-450D-9A22-A3B56CD88B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848AD-FDBD-4F31-9CA1-4E8923D42E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DA3-8C6B-49B6-902E-BBE3E28C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1A8B7-F53D-41FD-A7FF-B9D0036EF4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5D7CE-9B35-4D65-B921-A6C556EB4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A6A16-069C-4A81-80DA-1685D5B00C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5C943-1203-4FF2-ADE9-FEDF3E8E81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0420F-E8EE-4979-9207-C532B48DE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6CA-73F1-4DA4-A171-9D56C59A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DD4-8DAB-4721-91DF-FBBE0FB3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88A-E69B-47F3-AEDC-C80EF774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5A9-B417-4E4F-99DA-D8605AA0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FEB-1A4F-48C3-9B60-248033FD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983-8657-4D54-8C74-6080994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F53-61D7-4375-A592-97DA80E2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BB53-ACD5-474E-B067-987834DFDBB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6523-7460-4CA6-8710-97B308D7CBE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lsin.unisantos.br/lvcon/experimento?id=3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55736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Têmpera Simu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algoritmo é semelhante à Subida da Encosta, porém oferece meios para se escapar de máximo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: “temperatura” - abaixa com o tempo de execução (com o tempo, fica igual ao Subida da Encos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, no início, movimentos “ruins” ocorrem com maior freqüência. Apesar de aumentar o tempo de busca, essa estratégia consegue escapar melhor dos máximo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6151680"/>
            <a:ext cx="7777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êmpe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Em metalurgia é o processo usado para temperar ou endurecer metais e vidro aquecendo-os a alta temperatura e depois esfriando-os gradua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10F-A4D7-460C-8B28-AFED82C4AA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1628640"/>
            <a:ext cx="7704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Têmpera Simu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 inicialmente de forma extensiva para resolver problemas de layout de VLSI no começo dos anos 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i amplamente aplicada ao escalonamento industrial e a outras tarefas de otimização em grande esc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DFA-4053-47ED-B324-E829DE729B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1628640"/>
            <a:ext cx="7705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6080" indent="-49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em Feix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ça com k estados gerados aleato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da passo, são gerados todos os sucessores de todos os k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dos sucessores for o objetivo, o algoritmo pára; caso contrário, escolhe os k melhores sucessores a partir da lista compl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NÃO corresponde à execução de k reinícios aleatórios em paralel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andom star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mente k estados são considerados como estados atuais na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5EA-E1B5-4D68-AA60-7CC41B8CD5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1773360"/>
            <a:ext cx="777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dos sucessores são gerados por meio da combinação de dois estados antecessores (pais), em vez de serem gerados pela modificação de um único es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“sucessores” (descendentes) de um “estado” (organismo) ocupam a próxima geração de acordo com o seu “valor” (adaptação ou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itnes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3C4-193F-4409-9E52-006831BE93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oritmos genét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AG) são um ramo dos algoritmos evolucioná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dem ser definidos como uma técnica de busca baseada numa metáfora do processo biológico de evolução natu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algoritmos genéticos são técnicas heurísticas de otimização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ão algoritmos de busca baseados nos mecanismos de seleção natural e genétic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C76-0B28-4C9B-B63A-6E217CCC2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1557360"/>
            <a:ext cx="7921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trabalhar com uma codificação do conjunto de parâmetros ou com os próprios parâ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balham com uma população e não com um único p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m informações de custo ou recompe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m regras de transição estocásticas e não determin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98C-AD4B-4174-8400-16315ACC17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1628640"/>
            <a:ext cx="7921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âmetros do problema são representados como genes em um cromosso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gene pode assumir valores específicos, sendo cada um destes valores chamados de alelo do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romossomo representa um indivíduo, sendo composto por uma configuração de al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osição de um gene num cromossomo corresponde a um locus gê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51D-7438-4AF7-B408-FCF96640BA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226200" cy="3394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95640" y="1916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25653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191628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558972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C20-0E24-49E4-BDEE-C5F01988E5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Bá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439" t="0" r="7764" b="0"/>
          <a:stretch/>
        </p:blipFill>
        <p:spPr>
          <a:xfrm>
            <a:off x="2050920" y="2276640"/>
            <a:ext cx="5689800" cy="4060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EF4-9ADF-4FF8-AD51-0FA6A8ACFF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484280"/>
            <a:ext cx="784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cion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icia com um conjunto de k estados gerados aleatoriamen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ama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pul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 cada estado (ou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divídu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é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do como uma cadeia sobre um alfabeto fini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divíduos são avaliados por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ã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itnes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funçã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valiação em A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divíduos selecionados geram novos indivíduos por meio de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uzamento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ut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ete avaliação/seleção/cruzamento-mutação até que u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víduo seja avaliado como adequado para sol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534-92F0-4397-A9A3-30D61A1AFB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s de Busca Local e Problemas de Otim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2C9-BC57-451A-B090-149BAC3FC2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434960" y="1628640"/>
            <a:ext cx="7313400" cy="4896000"/>
            <a:chOff x="1434960" y="1628640"/>
            <a:chExt cx="7313400" cy="4896000"/>
          </a:xfrm>
        </p:grpSpPr>
        <p:sp>
          <p:nvSpPr>
            <p:cNvPr id="169" name=""/>
            <p:cNvSpPr/>
            <p:nvPr/>
          </p:nvSpPr>
          <p:spPr>
            <a:xfrm>
              <a:off x="2491920" y="2842920"/>
              <a:ext cx="18723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leção:  escolhemos 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íduos que participar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processo reprodutó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34960" y="3474720"/>
              <a:ext cx="2571480" cy="88920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3880" y="3490560"/>
              <a:ext cx="2374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aliação 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licamos a função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aliação a cada um dos indivíduos desta geraç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28760" y="2396160"/>
              <a:ext cx="834840" cy="2156040"/>
              <a:chOff x="2228760" y="2396160"/>
              <a:chExt cx="834840" cy="21560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28760" y="2396160"/>
                <a:ext cx="834840" cy="215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4"/>
                    </a:moveTo>
                    <a:arcTo wR="10800" hR="10800" stAng="-10794809" swAng="36694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4"/>
                    </a:moveTo>
                    <a:arcTo wR="10800" hR="10800" stAng="-10794809" swAng="3669489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36040" y="2398320"/>
                <a:ext cx="312840" cy="320760"/>
              </a:xfrm>
              <a:custGeom>
                <a:avLst/>
                <a:gdLst/>
                <a:ahLst/>
                <a:rect l="l" t="t" r="r" b="b"/>
                <a:pathLst>
                  <a:path w="227" h="194">
                    <a:moveTo>
                      <a:pt x="227" y="0"/>
                    </a:moveTo>
                    <a:lnTo>
                      <a:pt x="0" y="85"/>
                    </a:lnTo>
                    <a:lnTo>
                      <a:pt x="82" y="19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4735080" y="2841480"/>
              <a:ext cx="2791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dores genéticos: Aplicamos 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dores de recombinação e mutaç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s indivíduos escolhidos para “pai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968640" y="2298600"/>
              <a:ext cx="934560" cy="174600"/>
              <a:chOff x="3968640" y="2298600"/>
              <a:chExt cx="934560" cy="174600"/>
            </a:xfrm>
          </p:grpSpPr>
          <p:sp>
            <p:nvSpPr>
              <p:cNvPr id="177" name=""/>
              <p:cNvSpPr/>
              <p:nvPr/>
            </p:nvSpPr>
            <p:spPr>
              <a:xfrm>
                <a:off x="3968640" y="2385360"/>
                <a:ext cx="70020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91280" y="2298600"/>
                <a:ext cx="511920" cy="174600"/>
              </a:xfrm>
              <a:custGeom>
                <a:avLst/>
                <a:gdLst/>
                <a:ahLst/>
                <a:rect l="l" t="t" r="r" b="b"/>
                <a:pathLst>
                  <a:path w="373" h="135">
                    <a:moveTo>
                      <a:pt x="373" y="69"/>
                    </a:moveTo>
                    <a:lnTo>
                      <a:pt x="0" y="0"/>
                    </a:lnTo>
                    <a:lnTo>
                      <a:pt x="0" y="135"/>
                    </a:lnTo>
                    <a:lnTo>
                      <a:pt x="373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767040" y="4036680"/>
              <a:ext cx="2458800" cy="1630440"/>
            </a:xfrm>
            <a:custGeom>
              <a:avLst/>
              <a:gdLst/>
              <a:ahLst/>
              <a:rect l="l" t="t" r="r" b="b"/>
              <a:pathLst>
                <a:path w="1590" h="1050">
                  <a:moveTo>
                    <a:pt x="795" y="0"/>
                  </a:moveTo>
                  <a:lnTo>
                    <a:pt x="0" y="525"/>
                  </a:lnTo>
                  <a:lnTo>
                    <a:pt x="795" y="1050"/>
                  </a:lnTo>
                  <a:lnTo>
                    <a:pt x="1590" y="525"/>
                  </a:lnTo>
                  <a:lnTo>
                    <a:pt x="795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2760" y="4519440"/>
              <a:ext cx="15735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tisfizemos o critéri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parada ? (por nº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ções ou por qua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dade das soluçõe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666160" y="3598560"/>
              <a:ext cx="2149920" cy="1247400"/>
              <a:chOff x="2666160" y="3598560"/>
              <a:chExt cx="2149920" cy="1247400"/>
            </a:xfrm>
          </p:grpSpPr>
          <p:sp>
            <p:nvSpPr>
              <p:cNvPr id="182" name=""/>
              <p:cNvSpPr/>
              <p:nvPr/>
            </p:nvSpPr>
            <p:spPr>
              <a:xfrm>
                <a:off x="2666160" y="3598560"/>
                <a:ext cx="2149920" cy="124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12" y="21600"/>
                    </a:moveTo>
                    <a:arcTo wR="10800" hR="10800" stAng="5396252" swAng="40511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12" y="21600"/>
                    </a:moveTo>
                    <a:arcTo wR="10800" hR="10800" stAng="5396252" swAng="4051165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68320" y="4225680"/>
                <a:ext cx="203760" cy="371880"/>
              </a:xfrm>
              <a:custGeom>
                <a:avLst/>
                <a:gdLst/>
                <a:ahLst/>
                <a:rect l="l" t="t" r="r" b="b"/>
                <a:pathLst>
                  <a:path w="173" h="322">
                    <a:moveTo>
                      <a:pt x="0" y="0"/>
                    </a:moveTo>
                    <a:lnTo>
                      <a:pt x="76" y="322"/>
                    </a:lnTo>
                    <a:lnTo>
                      <a:pt x="173" y="2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195360" y="453528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06720" y="6341760"/>
              <a:ext cx="25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889160" y="5675040"/>
              <a:ext cx="227160" cy="541440"/>
              <a:chOff x="4889160" y="5675040"/>
              <a:chExt cx="227160" cy="541440"/>
            </a:xfrm>
          </p:grpSpPr>
          <p:sp>
            <p:nvSpPr>
              <p:cNvPr id="187" name=""/>
              <p:cNvSpPr/>
              <p:nvPr/>
            </p:nvSpPr>
            <p:spPr>
              <a:xfrm>
                <a:off x="5006880" y="5675040"/>
                <a:ext cx="1080" cy="3322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89160" y="5770440"/>
                <a:ext cx="227160" cy="446040"/>
              </a:xfrm>
              <a:custGeom>
                <a:avLst/>
                <a:gdLst/>
                <a:ahLst/>
                <a:rect l="l" t="t" r="r" b="b"/>
                <a:pathLst>
                  <a:path w="166" h="393">
                    <a:moveTo>
                      <a:pt x="85" y="393"/>
                    </a:moveTo>
                    <a:lnTo>
                      <a:pt x="166" y="0"/>
                    </a:lnTo>
                    <a:lnTo>
                      <a:pt x="0" y="0"/>
                    </a:lnTo>
                    <a:lnTo>
                      <a:pt x="85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5184000" y="582444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54320" y="3474720"/>
              <a:ext cx="2837160" cy="85104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51240" y="3538440"/>
              <a:ext cx="26971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ódulo de população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finimos a nova população a part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 geração existente e dos fil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7034400" y="2395440"/>
              <a:ext cx="713520" cy="2154600"/>
              <a:chOff x="7034400" y="2395440"/>
              <a:chExt cx="713520" cy="2154600"/>
            </a:xfrm>
          </p:grpSpPr>
          <p:sp>
            <p:nvSpPr>
              <p:cNvPr id="193" name=""/>
              <p:cNvSpPr/>
              <p:nvPr/>
            </p:nvSpPr>
            <p:spPr>
              <a:xfrm>
                <a:off x="7034400" y="2395440"/>
                <a:ext cx="642960" cy="21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08" y="0"/>
                    </a:moveTo>
                    <a:arcTo wR="10800" hR="10800" stAng="-5429243" swAng="42836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08" y="0"/>
                    </a:moveTo>
                    <a:arcTo wR="10800" hR="10800" stAng="-5429243" swAng="4283664"/>
                  </a:path>
                </a:pathLst>
              </a:cu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60720" y="3112200"/>
                <a:ext cx="187200" cy="362160"/>
              </a:xfrm>
              <a:custGeom>
                <a:avLst/>
                <a:gdLst/>
                <a:ahLst/>
                <a:rect l="l" t="t" r="r" b="b"/>
                <a:pathLst>
                  <a:path w="136" h="244">
                    <a:moveTo>
                      <a:pt x="82" y="244"/>
                    </a:moveTo>
                    <a:lnTo>
                      <a:pt x="136" y="0"/>
                    </a:lnTo>
                    <a:lnTo>
                      <a:pt x="0" y="9"/>
                    </a:lnTo>
                    <a:lnTo>
                      <a:pt x="82" y="2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233760" y="4311360"/>
              <a:ext cx="963720" cy="612360"/>
              <a:chOff x="6233760" y="4311360"/>
              <a:chExt cx="963720" cy="612360"/>
            </a:xfrm>
          </p:grpSpPr>
          <p:sp>
            <p:nvSpPr>
              <p:cNvPr id="196" name=""/>
              <p:cNvSpPr/>
              <p:nvPr/>
            </p:nvSpPr>
            <p:spPr>
              <a:xfrm>
                <a:off x="6447960" y="4311360"/>
                <a:ext cx="749520" cy="578880"/>
              </a:xfrm>
              <a:custGeom>
                <a:avLst/>
                <a:gdLst/>
                <a:ahLst/>
                <a:rect l="l" t="t" r="r" b="b"/>
                <a:pathLst>
                  <a:path w="626" h="568">
                    <a:moveTo>
                      <a:pt x="0" y="568"/>
                    </a:moveTo>
                    <a:lnTo>
                      <a:pt x="46" y="557"/>
                    </a:lnTo>
                    <a:lnTo>
                      <a:pt x="93" y="537"/>
                    </a:lnTo>
                    <a:lnTo>
                      <a:pt x="142" y="515"/>
                    </a:lnTo>
                    <a:lnTo>
                      <a:pt x="192" y="484"/>
                    </a:lnTo>
                    <a:lnTo>
                      <a:pt x="243" y="448"/>
                    </a:lnTo>
                    <a:lnTo>
                      <a:pt x="295" y="412"/>
                    </a:lnTo>
                    <a:lnTo>
                      <a:pt x="339" y="368"/>
                    </a:lnTo>
                    <a:lnTo>
                      <a:pt x="391" y="320"/>
                    </a:lnTo>
                    <a:lnTo>
                      <a:pt x="438" y="267"/>
                    </a:lnTo>
                    <a:lnTo>
                      <a:pt x="485" y="210"/>
                    </a:lnTo>
                    <a:lnTo>
                      <a:pt x="533" y="152"/>
                    </a:lnTo>
                    <a:lnTo>
                      <a:pt x="574" y="89"/>
                    </a:lnTo>
                    <a:lnTo>
                      <a:pt x="613" y="25"/>
                    </a:lnTo>
                    <a:lnTo>
                      <a:pt x="62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33760" y="4785120"/>
                <a:ext cx="296640" cy="138600"/>
              </a:xfrm>
              <a:custGeom>
                <a:avLst/>
                <a:gdLst/>
                <a:ahLst/>
                <a:rect l="l" t="t" r="r" b="b"/>
                <a:pathLst>
                  <a:path w="248" h="136">
                    <a:moveTo>
                      <a:pt x="0" y="72"/>
                    </a:moveTo>
                    <a:lnTo>
                      <a:pt x="248" y="136"/>
                    </a:lnTo>
                    <a:lnTo>
                      <a:pt x="243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233040" y="5033880"/>
              <a:ext cx="10720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hos ger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brevivem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ão copi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bre seus pa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441920" y="4313160"/>
              <a:ext cx="185760" cy="1325160"/>
              <a:chOff x="7441920" y="4313160"/>
              <a:chExt cx="185760" cy="1325160"/>
            </a:xfrm>
          </p:grpSpPr>
          <p:sp>
            <p:nvSpPr>
              <p:cNvPr id="200" name=""/>
              <p:cNvSpPr/>
              <p:nvPr/>
            </p:nvSpPr>
            <p:spPr>
              <a:xfrm>
                <a:off x="7534800" y="4313160"/>
                <a:ext cx="1440" cy="11876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41920" y="5336280"/>
                <a:ext cx="185760" cy="302040"/>
              </a:xfrm>
              <a:custGeom>
                <a:avLst/>
                <a:gdLst/>
                <a:ahLst/>
                <a:rect l="l" t="t" r="r" b="b"/>
                <a:pathLst>
                  <a:path w="136" h="233">
                    <a:moveTo>
                      <a:pt x="68" y="233"/>
                    </a:moveTo>
                    <a:lnTo>
                      <a:pt x="136" y="0"/>
                    </a:lnTo>
                    <a:lnTo>
                      <a:pt x="0" y="0"/>
                    </a:lnTo>
                    <a:lnTo>
                      <a:pt x="68" y="2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563600" y="4784400"/>
              <a:ext cx="1090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da a antig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ação de pa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898000" y="1943640"/>
              <a:ext cx="800280" cy="751320"/>
              <a:chOff x="2898000" y="1943640"/>
              <a:chExt cx="800280" cy="751320"/>
            </a:xfrm>
          </p:grpSpPr>
          <p:sp>
            <p:nvSpPr>
              <p:cNvPr id="204" name=""/>
              <p:cNvSpPr/>
              <p:nvPr/>
            </p:nvSpPr>
            <p:spPr>
              <a:xfrm>
                <a:off x="2901240" y="1943640"/>
                <a:ext cx="794160" cy="75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94" y="56"/>
                    </a:moveTo>
                    <a:arcTo wR="10800" hR="10800" stAng="-5051033" swAng="2964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94" y="56"/>
                    </a:moveTo>
                    <a:arcTo wR="10800" hR="10800" stAng="-5051033" swAng="296465"/>
                  </a:path>
                </a:pathLst>
              </a:custGeom>
              <a:solidFill>
                <a:srgbClr val="ff00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99440" y="1944360"/>
                <a:ext cx="797760" cy="75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6" y="190"/>
                    </a:moveTo>
                    <a:arcTo wR="10800" hR="10800" stAng="-4754568" swAng="31901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6" y="190"/>
                    </a:moveTo>
                    <a:arcTo wR="10800" hR="10800" stAng="-4754568" swAng="3190165"/>
                  </a:path>
                </a:pathLst>
              </a:custGeom>
              <a:solidFill>
                <a:srgbClr val="00ff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98000" y="1944360"/>
                <a:ext cx="800280" cy="75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01" y="6053"/>
                    </a:moveTo>
                    <a:arcTo wR="10800" hR="10800" stAng="-1564403" swAng="55237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01" y="6053"/>
                    </a:moveTo>
                    <a:arcTo wR="10800" hR="10800" stAng="-1564403" swAng="5523770"/>
                  </a:path>
                </a:pathLst>
              </a:custGeom>
              <a:solidFill>
                <a:srgbClr val="0000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98360" y="1944360"/>
                <a:ext cx="798840" cy="75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95" y="20665"/>
                    </a:moveTo>
                    <a:arcTo wR="10800" hR="10800" stAng="3959367" swAng="125896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95" y="20665"/>
                    </a:moveTo>
                    <a:arcTo wR="10800" hR="10800" stAng="3959367" swAng="12589600"/>
                  </a:path>
                </a:pathLst>
              </a:custGeom>
              <a:solidFill>
                <a:srgbClr val="ffff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187600" y="1998360"/>
              <a:ext cx="777960" cy="7333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263920" y="2204640"/>
              <a:ext cx="566640" cy="109800"/>
              <a:chOff x="5263920" y="2204640"/>
              <a:chExt cx="566640" cy="109800"/>
            </a:xfrm>
          </p:grpSpPr>
          <p:sp>
            <p:nvSpPr>
              <p:cNvPr id="210" name=""/>
              <p:cNvSpPr/>
              <p:nvPr/>
            </p:nvSpPr>
            <p:spPr>
              <a:xfrm>
                <a:off x="5263920" y="2204640"/>
                <a:ext cx="11556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76600" y="220464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01960" y="2204640"/>
                <a:ext cx="11664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90720" y="220464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16440" y="2204640"/>
                <a:ext cx="1141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5263920" y="2495160"/>
              <a:ext cx="566640" cy="111240"/>
              <a:chOff x="5263920" y="2495160"/>
              <a:chExt cx="566640" cy="111240"/>
            </a:xfrm>
          </p:grpSpPr>
          <p:sp>
            <p:nvSpPr>
              <p:cNvPr id="216" name=""/>
              <p:cNvSpPr/>
              <p:nvPr/>
            </p:nvSpPr>
            <p:spPr>
              <a:xfrm>
                <a:off x="5263920" y="2495160"/>
                <a:ext cx="11556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76600" y="2495160"/>
                <a:ext cx="11520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01960" y="2495160"/>
                <a:ext cx="11664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90720" y="2495160"/>
                <a:ext cx="11520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16440" y="2495160"/>
                <a:ext cx="11412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484600" y="2091960"/>
              <a:ext cx="1440" cy="631800"/>
            </a:xfrm>
            <a:prstGeom prst="line">
              <a:avLst/>
            </a:prstGeom>
            <a:ln w="73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3640" y="1628640"/>
              <a:ext cx="1668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Cortes a sere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ook Antiqua"/>
                </a:rPr>
                <a:t>efetuados 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6421320" y="1987200"/>
              <a:ext cx="774720" cy="730440"/>
              <a:chOff x="6421320" y="1987200"/>
              <a:chExt cx="774720" cy="730440"/>
            </a:xfrm>
          </p:grpSpPr>
          <p:sp>
            <p:nvSpPr>
              <p:cNvPr id="224" name=""/>
              <p:cNvSpPr/>
              <p:nvPr/>
            </p:nvSpPr>
            <p:spPr>
              <a:xfrm>
                <a:off x="6421320" y="1987200"/>
                <a:ext cx="774720" cy="730440"/>
              </a:xfrm>
              <a:prstGeom prst="rect">
                <a:avLst/>
              </a:prstGeom>
              <a:noFill/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98000" y="2216880"/>
                <a:ext cx="11376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608160" y="2216880"/>
                <a:ext cx="11520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34600" y="2216880"/>
                <a:ext cx="11772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21920" y="2216880"/>
                <a:ext cx="11772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55560" y="2481120"/>
                <a:ext cx="116640" cy="11124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98000" y="2482920"/>
                <a:ext cx="11376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08160" y="2482920"/>
                <a:ext cx="11520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34600" y="2482920"/>
                <a:ext cx="1177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721920" y="2482920"/>
                <a:ext cx="117720" cy="109800"/>
              </a:xfrm>
              <a:prstGeom prst="rect">
                <a:avLst/>
              </a:prstGeom>
              <a:solidFill>
                <a:srgbClr val="618ffd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216880"/>
                <a:ext cx="116280" cy="109800"/>
              </a:xfrm>
              <a:prstGeom prst="rect">
                <a:avLst/>
              </a:prstGeom>
              <a:solidFill>
                <a:srgbClr val="00ae00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4560" y="206352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Book Antiqua"/>
                  </a:rPr>
                  <a:t>Filho 1 :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14560" y="2358000"/>
                <a:ext cx="320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Book Antiqua"/>
                  </a:rPr>
                  <a:t>Filho 2 :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6073560" y="2292120"/>
              <a:ext cx="264960" cy="20160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97" y="0"/>
                  </a:moveTo>
                  <a:lnTo>
                    <a:pt x="97" y="39"/>
                  </a:lnTo>
                  <a:lnTo>
                    <a:pt x="0" y="39"/>
                  </a:lnTo>
                  <a:lnTo>
                    <a:pt x="0" y="117"/>
                  </a:lnTo>
                  <a:lnTo>
                    <a:pt x="97" y="117"/>
                  </a:lnTo>
                  <a:lnTo>
                    <a:pt x="97" y="155"/>
                  </a:lnTo>
                  <a:lnTo>
                    <a:pt x="193" y="78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95640" y="1665000"/>
              <a:ext cx="2442960" cy="114768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28720" y="1860120"/>
              <a:ext cx="1347840" cy="9414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7346520" y="5655960"/>
              <a:ext cx="46224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1284840" y="6262560"/>
            <a:ext cx="3016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http://rico_linden.tripod.com/G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96D-2C40-431F-8A7C-0AB23093A6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49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Questõe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criar cromossomos e qual tipo de codificação u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primeira pergunta que deve ser feita ao resolver um problema com 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dificação dependerá fortemente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escolher os pais para a realização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rossov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geração de uma população a partir de duas soluções pode causar a perda da melhor solução. O que faz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3F0-5A05-4B88-918C-62B8198DC9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49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l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incípio básico do funcionamento dos AG é que um critério de seleção vai fazer com que, depois de muitas gerações, o conjunto inicial de indivíduos gere indivíduos mais ap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F38-C0E2-4FBB-9391-1444D39311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42920" y="1557360"/>
            <a:ext cx="7499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l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função objetivo como avaliação de aptid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ptidão pode ser vista como uma nota que mede o quão boa é a solução codificada por um indivíd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ada, normalmente, no valor da função-objetivo, específica para cada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de Sel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ne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stragem Universal Estoc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AC8-A29C-4377-8818-D9DEF4169F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de Seleção - R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idão usada para definir fa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leatório para selecionar cromoss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repetido até gerar 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íduos necess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492360" y="4110120"/>
            <a:ext cx="4751640" cy="23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287-A109-491D-B57F-7B4EFAB428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de Seleção - Torne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lha aleatória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í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função de aptidão para escolher o mel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repetido até gerar 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íduos necess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D5C-99A9-4C98-A0E8-484AFB0020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étodos de Seleção - Amostr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a roleta c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ulhas igualmente espaç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ta é girada uma únic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41E-98A2-4623-B921-7B90C5932D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mbinação (cruz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dois ou mais indivíduos (n:1):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(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...) =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neira com que é feito depende da representação dos indivídu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n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o flutu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3840" indent="-327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Comp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rescenta indivíduos à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ACB-B31A-484B-BA7E-CB4EBC4700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combinação (exempl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2708280"/>
            <a:ext cx="858960" cy="267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6320" y="2766960"/>
            <a:ext cx="1287360" cy="267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29080" y="38149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3800" y="381492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19040" y="3000240"/>
            <a:ext cx="2213280" cy="2089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897360" y="3000240"/>
            <a:ext cx="2151000" cy="2095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534000" y="3057480"/>
            <a:ext cx="2186280" cy="20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7BD-3B60-44F0-AC11-7D59878EB6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orre na relação de 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(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=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neira com que é feito depende da representação dos indivídu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n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o flutu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Comp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feta o tamanho da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0E3-2918-4DC7-BC01-2C9B316E7E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estud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nteresse consistia em, a partir de um estado inicial, buscar sistematicamente uma seqüência de ações que levem ao estado-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ão = caminho ao estado-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vários problemas, a própria descrição de estado contém toda informação relevante para a solução e o caminho ao estado-objetivo não interes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: problema das 8 rainhas, projeto de circuitos integrados, escalonamento, problemas de roteamento, de otimização de redes de telecomunicação, etc.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roblemas de otim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0A1-E054-4AF4-B61A-E1A2EFC5CA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utação (exempl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403280" y="2637000"/>
            <a:ext cx="7049880" cy="3330360"/>
            <a:chOff x="1403280" y="2637000"/>
            <a:chExt cx="7049880" cy="333036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1403280" y="2637000"/>
              <a:ext cx="3228480" cy="33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5090040" y="2637000"/>
              <a:ext cx="3363120" cy="33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"/>
            <p:cNvGrpSpPr/>
            <p:nvPr/>
          </p:nvGrpSpPr>
          <p:grpSpPr>
            <a:xfrm>
              <a:off x="3946320" y="4109400"/>
              <a:ext cx="4384800" cy="1781280"/>
              <a:chOff x="3946320" y="4109400"/>
              <a:chExt cx="4384800" cy="1781280"/>
            </a:xfrm>
          </p:grpSpPr>
          <p:sp>
            <p:nvSpPr>
              <p:cNvPr id="274" name=""/>
              <p:cNvSpPr/>
              <p:nvPr/>
            </p:nvSpPr>
            <p:spPr>
              <a:xfrm>
                <a:off x="4645440" y="4109400"/>
                <a:ext cx="4442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46320" y="4845600"/>
                <a:ext cx="699120" cy="67536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00" y="5215320"/>
                <a:ext cx="699120" cy="67536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151-CF29-4EDF-AAC5-570D820D25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186920" y="177300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z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zamento de pais para gerar dois fil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to Ú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s Po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8BD-F550-485B-A561-877A45860F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zamento – Pon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3744720" cy="2922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rcRect l="3500" t="0" r="6532" b="15098"/>
          <a:stretch/>
        </p:blipFill>
        <p:spPr>
          <a:xfrm>
            <a:off x="5110200" y="1484280"/>
            <a:ext cx="4033800" cy="10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B18-8F1C-4B39-B2C2-9F19E94B58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zamento – Dois Po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5688000" cy="271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6D4-A510-4C94-8A81-A9BA02170E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zamento – Multipo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6408720" cy="307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D4D-5864-436E-BBA6-887AE7C8D3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e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dança aleatória de 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 d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tivamente inferior a de cruz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2808360" cy="12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CC1-B26F-4E1C-93E6-D55EF3188F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15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: Codificação Biná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 mais comum devido a sua simpli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bits – 0 o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: A = 1 0 1 1 0 0 1 0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: B = 1 1 1 1 1 1 0 0 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blema da moch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ada uma lista de coisas com preços e tamanhos. É fornecido o valor da capacidade da mochila. Escolha as coisas de forma a maximizar o valor daquilo que cabe dentro da mochila, sem ultrapassar sua capac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çã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bit é usado para dizer se a coisa correspondente está ou não na moch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A43-52B8-4FAD-A898-2311799802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921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: Codificação por per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usado em problemas de orden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números que representa uma posição numa seqü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 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 5  3  2  6  4  7  9  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m B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  5  6  7  2  3  1  4  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blema do caixeiro viaj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dadas cidades e as distâncias entre elas. O caixeiro viajante tem que visitar todas elas, sem viajar mais do que o necessário. A solução do problema consiste em encontrar a seqüência de cidades em que as viagens devem ser feitas de forma que a distância percorrida seja a mínima possí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fic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s cromossomos descrevem a ordem em que o caixeiro irá visitar as c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715-67FB-4C0A-8A23-F92346A74C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042560" y="1557360"/>
            <a:ext cx="7715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: Codificação po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em problemas nos quais valores mais complicados são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romossomo é uma seqüência de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A: 1.2324 5.3243 0.4556 2.3293 2.45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B: ABDJEIFJDHDIERJFDLDFLFEG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om C: (back), (back), (right), (forward), (le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de u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ada uma estrutura, encontrar pesos para uma rede ne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blema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ada uma rede neural com arquitetura definida. Encontre os pesos entre os neurônios da rede de forma a obter a resposta desejada da r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alores reais num cromossomo representam pesos em uma rede ne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000-A8BB-444B-A028-C1E18901AF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: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unção de 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a maneira utilizada pelos AG para determinar a qualidade de um indivíduo como solução do problema  em quest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 uma nota dada ao indivíduo na resolução do probl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da a generalidade dos AG, a função de avaliação, em muitos casos, é a única ligação verdadeira do programa com o problem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CDD-2749-48E1-BB9A-25F1C9C4B2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Local (ou de melhoria itera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 em um único estado e move-se para a vizinhança deste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éia: começar com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tado inicia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configuração completa, solução aceitável), e melhorá-lo itera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a pouquíssima memóri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reqüentemente, pode encontrar soluções razoáveis em grandes ou infinitos espaços (contínuos) de estados para os quais os algoritmos sistemáticos são inadequ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9EC-8F85-4484-B0E9-B49774C6A6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7280" y="1844640"/>
            <a:ext cx="76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âmetr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anho da popu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 de cruz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 de m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alo de g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ual de renovação da pop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19D-E1FE-4E03-9F04-A8AF7DE205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87280" y="1844640"/>
            <a:ext cx="76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âmetr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ério de pa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g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ência da função de aptidão na pop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melhoria da aptidão do melhor indivíduo após um número de g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2C5-08E6-424F-B17C-B5485184CF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87280" y="1844640"/>
            <a:ext cx="76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e um AG para encontrar o ponto máximo da fu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jeito às seguintes restr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00720" y="2319480"/>
            <a:ext cx="1584000" cy="717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948360" y="2997360"/>
            <a:ext cx="1511280" cy="8665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987640" y="3808440"/>
            <a:ext cx="3168720" cy="30495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F14-BCF3-41E3-A238-7B63E77735E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042920" y="1700280"/>
            <a:ext cx="7634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omossomos binários com 5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= 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1 = 11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tid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problema a aptidão pode ser a própria função obje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Aptidão(00011) = f(3)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E53-428F-4AAC-95E7-D51712EB2B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42920" y="5300640"/>
            <a:ext cx="76345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5373720"/>
            <a:ext cx="67690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pulação inicial é aleatória (mas quando possível, o conhecimento da aplicação pode ser utilizado para definir população inici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476360" y="1916280"/>
            <a:ext cx="6337440" cy="2706480"/>
            <a:chOff x="1476360" y="1916280"/>
            <a:chExt cx="6337440" cy="270648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rcRect l="0" t="2574" r="0" b="0"/>
            <a:stretch/>
          </p:blipFill>
          <p:spPr>
            <a:xfrm>
              <a:off x="1476360" y="1916280"/>
              <a:ext cx="6337440" cy="27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979640" y="3860640"/>
              <a:ext cx="273528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robabilidade de sele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roporcional à aptid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57D-50E5-42D6-9BEA-788832D71BD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042920" y="5300640"/>
            <a:ext cx="76345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480000" cy="3263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FD3-5CC4-4BD9-84ED-592C601687A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42920" y="5300640"/>
            <a:ext cx="76345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7129440" cy="33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A30-2162-43CD-8B93-639BAA0AD2C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42920" y="5300640"/>
            <a:ext cx="76345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616720" cy="27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40F-0ED5-4320-8F61-7D4293A9464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1600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i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lemento que tenha maior aptidão do que outro tem também maior probabilidade de ser selecio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da impede que seja selecionado o pior, perdendo-se assim talvez o melhor elemento da população, que poderia levar a uma convergência mais ráp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tentar minimizar este possível problema, elitismo pode ser adicionado à sel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centual de indivíduos com melhor aptidão é mantido na nova g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52D-7C8E-4CEE-BBA8-12B829BCC7C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0" r="7620" b="0"/>
          <a:stretch/>
        </p:blipFill>
        <p:spPr>
          <a:xfrm>
            <a:off x="1476360" y="2205000"/>
            <a:ext cx="6985080" cy="31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83C-CDBF-4506-BCC2-4F7E228FA5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42920" y="1989000"/>
            <a:ext cx="7932960" cy="4369680"/>
            <a:chOff x="1042920" y="1989000"/>
            <a:chExt cx="7932960" cy="4369680"/>
          </a:xfrm>
        </p:grpSpPr>
        <p:grpSp>
          <p:nvGrpSpPr>
            <p:cNvPr id="111" name=""/>
            <p:cNvGrpSpPr/>
            <p:nvPr/>
          </p:nvGrpSpPr>
          <p:grpSpPr>
            <a:xfrm>
              <a:off x="1042920" y="1989000"/>
              <a:ext cx="7932960" cy="4329360"/>
              <a:chOff x="1042920" y="1989000"/>
              <a:chExt cx="7932960" cy="432936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06600" y="2421000"/>
                <a:ext cx="7313400" cy="356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532720" y="5950080"/>
                <a:ext cx="44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42920" y="2276640"/>
                <a:ext cx="59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f(x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64000" y="1989000"/>
                <a:ext cx="277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Máximo glob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44880" y="3338640"/>
                <a:ext cx="107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Planíci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87840" y="3459240"/>
                <a:ext cx="1576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Máximo loc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7200" y="3789360"/>
                <a:ext cx="159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ahoma"/>
                  </a:rPr>
                  <a:t>Máximo local (plano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49600" y="3700440"/>
                <a:ext cx="189000" cy="3016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784680" y="2435400"/>
                <a:ext cx="504720" cy="422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802120" y="3821040"/>
                <a:ext cx="252360" cy="181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125840" y="4481640"/>
                <a:ext cx="505080" cy="3013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859280" y="4746600"/>
              <a:ext cx="216000" cy="1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075280" y="4508640"/>
              <a:ext cx="360360" cy="288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92360" y="602136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Verdana"/>
                </a:rPr>
                <a:t>estado corr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03640" y="494172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A3D-413F-4AA1-9722-337C5DBA20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042920" y="1773360"/>
            <a:ext cx="7921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pectos Pr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plementação prática de um AG requer atenção para várias quest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Escolha da Função de Avaliação/Aptid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Problemas de conver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Escolha da Técnica de Sel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Lacuna entre geraçõe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eneration g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BF6-8F14-486D-AF19-DFF46391E42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71640" y="177336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 são técnicas probabilísticas, e não técnicas determiníst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iciando um AG com a mesma população inicial e o mesmo conjunto de parâmetros é possível encontrar soluções diferentes a cada vez que se executa o program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3320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B1A-7B6C-4BED-B9A9-DD45FEA2E8F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42560" y="2349360"/>
            <a:ext cx="77151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combinação eleva a qualidade da busca, pois oferece uma maior diversidade para a população de indivídu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3F7-A072-4E9C-8B4C-F3EF228A18F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não são métodos de "hill climbing", logo  não ficarão estagnados simplesmente pelo fato de terem encontrado um máximo lo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s se parecem com a evolução natural, que só porque encontrou um indivíduo que é instantaneamente o melhor de um certo grupo não deixa de “procurar” outros indivíduos ainda melh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evolução natural isto também decorre proveniente de circunstâncias que mudam de um momento para ou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D0D-3E5B-4D8F-B413-12DB7D7BD37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lgoritmos Gené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1187280" y="1557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im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olução para o Problema do Caixeiro Viajante (PC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lsin.unisantos.br/lvcon/experimento?id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E67-4A92-42AC-AEC5-30418117B57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55736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ipos de Busca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ll-Climb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ida pela Encosta mais Íngrime (ou Busca Local Gulo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ó faz modificações que melhoram o estado a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imulated Anneal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êmpera Simu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fazer modificações que pioram o estado no momento, para possivelmente melhorá-lo no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Busca em feix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ém k estados em vez de um ú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s Genéticos (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busca subida pela encosta, estocástica, na qual uma grande população de estados é mantida e novos estados são gerados por mutação e/ou cruz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A03-2532-44D2-BFE5-E05D94022C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55736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lgoritmo procura o pico onde nenhum vizinho tem valor mais al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7280" y="3357720"/>
            <a:ext cx="7493040" cy="3022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61040" y="5416560"/>
            <a:ext cx="215640" cy="21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48320" y="5056200"/>
            <a:ext cx="358560" cy="28728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9040" y="4768920"/>
            <a:ext cx="215640" cy="21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76C-DAD2-41D0-AD90-C7DA3A631B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155736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amina antecipadamente valores de estados além dos vizinhos imediatos do estado cor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lgoritm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ntém uma árvore de bus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uarda apenas o estado atual e sua 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simplesmente um ciclo que move o estado (solução) na direção crescente da função de avaliação (muda o estado para o melhor vizinh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mo tentar alcançar o cume do Monte Everest em meio a um nevoeiro denso durante uma crise de amné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119-D60B-4BCC-B7E1-62F99D148E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773360"/>
            <a:ext cx="8172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de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 tipos de problemas que podem ser acarre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Máximos loc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Planícies (platô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Encostas e picos (“coste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3280" y="4869000"/>
            <a:ext cx="7129440" cy="15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611-E85B-4C79-8E48-DF1B28962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10-23T09:54:46Z</dcterms:modified>
  <cp:revision>56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