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647-7D4B-4C7A-9309-27C74502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A96-8AD4-4585-806A-AADA60B6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B31-33C0-46AF-A908-2CAE222D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127-3F55-4C63-B613-E53B6C47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C5F91-F675-4FD8-921A-3402BD1626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946E8-4A99-42A0-8074-222167E2AF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CFD6E-DE3B-49EF-9E4F-70669A0E9D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9B877-5D18-4EED-9FE7-8F24E71148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EB7C3-A8D2-4451-819F-3A645455D5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05D23-E036-4673-98BC-0797BEF1D0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16BE7-2798-4E0E-9D25-D029F8562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90E-23E2-403C-9625-2A919A77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A88CA-B146-49B4-9CA3-E1533E88FD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5EC4B-FC09-4C04-8998-C176938C2C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B294F-0545-4C09-970D-1C2F342B72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E99B7-CEBA-4567-B04B-5A18986CE9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78916-51B7-4BA9-9318-4F884FDB4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0E4-2D11-49B2-8364-2680701E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DBD-8265-4155-9267-4078AC5A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84B-AF7A-46AE-9644-181620FA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8B7-6FC3-44E6-BAAC-76D8DDC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381-4E7A-43A7-ACE7-D7642B23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4B1-B753-495C-BE05-5EF1C4D6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AA3-ACA0-43C0-8648-05B8B63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30E8-85E9-421A-86C1-B71F3D92997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0064-1A87-4195-9AC4-5F76FD449B6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77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coloração de m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≠ B; A ≠ C; A ≠ E; B ≠ E; B ≠ F; C ≠ E; C ≠ F; D ≠ F; E ≠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43280" y="3860640"/>
            <a:ext cx="4103640" cy="2289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95000" y="623736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lucionar usando busca em profundidade limitada com l=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FEF-1633-4A03-BF64-C75F87F0C4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715160" cy="4530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6276960"/>
            <a:ext cx="65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olucionar usando busca em profundidade limitada com l=6 e verificação prévia combinada com propagação de restri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1628640"/>
            <a:ext cx="1513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een = 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 =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lue =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3BD-2895-48B1-B345-A702A60998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4221000"/>
            <a:ext cx="3168720" cy="2210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4535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Verdana"/>
              </a:rPr>
              <a:t>Constraint Satisfaction Problems (CSP)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205000"/>
            <a:ext cx="42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≠ B; A ≠ C; A ≠ E;     B ≠ E; B ≠ F; C ≠ E; C ≠ F; D ≠ F;   E ≠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557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coloração de m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71640" y="122040"/>
            <a:ext cx="3637080" cy="45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ulação passo a pass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= green (falha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=green (falha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 green (falha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 red (falha c/ B e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=green (falha c/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=red (falha c/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= blue (falha c/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green (falha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 red (falha c/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92360" y="4221000"/>
            <a:ext cx="3153600" cy="2169720"/>
            <a:chOff x="1692360" y="4221000"/>
            <a:chExt cx="3153600" cy="2169720"/>
          </a:xfrm>
        </p:grpSpPr>
        <p:sp>
          <p:nvSpPr>
            <p:cNvPr id="134" name=""/>
            <p:cNvSpPr/>
            <p:nvPr/>
          </p:nvSpPr>
          <p:spPr>
            <a:xfrm>
              <a:off x="3718080" y="5443560"/>
              <a:ext cx="109836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5120" y="5183280"/>
              <a:ext cx="2060280" cy="118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4295880"/>
              <a:ext cx="993960" cy="96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19480" y="4221000"/>
              <a:ext cx="852480" cy="107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67000" y="4960800"/>
              <a:ext cx="1243080" cy="89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92360" y="4665600"/>
              <a:ext cx="1279440" cy="73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91200" y="433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9800" y="425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1120" y="474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45640" y="5931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86080" y="5492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3120" y="5931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11600" y="5440320"/>
              <a:ext cx="1095480" cy="9223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5180040"/>
              <a:ext cx="2052360" cy="118260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5400" y="4294080"/>
              <a:ext cx="990360" cy="96048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14800" y="4221000"/>
              <a:ext cx="849240" cy="1070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5200" y="4959360"/>
              <a:ext cx="1238400" cy="88596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92360" y="4664160"/>
              <a:ext cx="1274760" cy="739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8320" y="433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53320" y="425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9680" y="474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35920" y="5925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57720" y="537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11320" y="5925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A22-BDB8-4D7B-9AAA-533058103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2953080" cy="2159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561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poderia começar p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d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fazer outra forma de seleção de valores no domíni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2565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=Db...=Df={red, green, blu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≠ B; A ≠ C; A ≠ E; B ≠ 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≠ F; C ≠ E; C ≠ F; D ≠ F; E ≠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76360" y="4221000"/>
            <a:ext cx="3095640" cy="2190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84720" y="2637000"/>
            <a:ext cx="273708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 ??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??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?? Back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 ?? Backtra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6CC-613D-404D-8048-A9E46269A5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cktracking não bast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 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dianta mexer na 7a. rainha para poder posicionar a úl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blema é mais em cima...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tem que ser de mais de um p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ificação prévi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forward chec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ag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C32-6171-4984-A027-6CEB869C4F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rificação prévi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é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lhar para frente para detectar situações insolú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cada atribuição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imina do domíni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s variáveis não instanciadas os valores incompatíveis com as atribuições feitas até ag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domínio torna-se vazio, retrocede imedia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bem mais eficien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ED5-501D-4879-B308-52A64448D1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3311640" cy="2216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4608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=Db...=Df={red,green,bl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≠ B; A ≠ C; A ≠ E;     B ≠ E; B ≠ F; C ≠ E; C ≠ F; D ≠ F;   E ≠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0200" y="1557360"/>
            <a:ext cx="3841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emplo: coloração de m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27520" y="1600200"/>
            <a:ext cx="340848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sso a passo..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, C,  E ={green,blue} (variáveis c/ restrições c/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D, F ={red,green,blue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gree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E = {blue}, F = {red, blue}  (variáveis c/ restrições c/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C ={green,blue},              D ={red,green,blue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E ={blue}, F = {red, blue} (restrições c/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=&gt; D = {red,green,blu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red, E=blue, F=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acktracking F e 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green, E=blue, F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87280" y="4149720"/>
            <a:ext cx="3242160" cy="2178000"/>
            <a:chOff x="1187280" y="4149720"/>
            <a:chExt cx="3242160" cy="2178000"/>
          </a:xfrm>
        </p:grpSpPr>
        <p:sp>
          <p:nvSpPr>
            <p:cNvPr id="174" name=""/>
            <p:cNvSpPr/>
            <p:nvPr/>
          </p:nvSpPr>
          <p:spPr>
            <a:xfrm>
              <a:off x="3273120" y="5378400"/>
              <a:ext cx="1132920" cy="93024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7240" y="5116680"/>
              <a:ext cx="2120760" cy="11919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55520" y="4223520"/>
              <a:ext cx="1023480" cy="9684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60120" y="4149720"/>
              <a:ext cx="877680" cy="107964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82440" y="4893480"/>
              <a:ext cx="1279800" cy="8946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87280" y="4596120"/>
              <a:ext cx="1317600" cy="74520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5640" y="4261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06920" y="4187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63600" y="4677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29120" y="5868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542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080" y="5868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337-0FE6-4A79-8C56-097FFD3BE4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pagação de restrições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traint propagation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seqüência da verificação prév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valor é eliminado, isto é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pagad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outros valores que dele dependem, podendo torná-los inconsistentes e eliminados també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mo uma onda que se propaga: as escolhas ficam cada vez mais restri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536-CDE6-4C23-96C9-09BD95C6D1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47640" y="4149720"/>
            <a:ext cx="3240360" cy="22892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4680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: coloração de map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≠ B; A ≠ C; A ≠ E;       B ≠ E; B ≠ F; C ≠ E; C ≠ F; D ≠ F;    E ≠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349360"/>
            <a:ext cx="316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ulando passo a pass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 g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,C,E={r,b}, D,F={g,r,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re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={r,b}, D={g,r,b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{b}, F={g,b} 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={r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={g}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{r,b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 re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={r,b}, E={b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={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=re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={b}, F={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 retrocess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47640" y="4149720"/>
            <a:ext cx="3456000" cy="23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E7F-E126-47F0-8666-C067648F25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eurística par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nta reduzir o fator de expansão do espaço de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nde pode entrar uma heuríst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denando a escolha d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stanc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denando a escolha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lor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er associado a uma vari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stem 3 heurísticas para ist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ariável mais restritiv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riável envolvida no maior número de restrições é prefe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ariável mais restringi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riável que pode assumir menos valores é prefe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alor menos restri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lor que deixa mais liberdade para futuras escol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590-EBC8-45F2-80E4-B4E05DB7FE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D23-D2D8-4D27-9C5A-EFA61401A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03280" y="4356000"/>
            <a:ext cx="3024360" cy="22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637000"/>
            <a:ext cx="424800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≠ B; A ≠ C; A ≠ E;      B ≠ E; B ≠ F; C ≠ E; C ≠ F; D ≠ 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≠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628640"/>
            <a:ext cx="7850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loração de mapas: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ariável mais restritiv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variável envolvida no maior número de restriç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2565360"/>
            <a:ext cx="309564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as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E, F, ...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as: F, ...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A, B,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B,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 BACKTRACK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01720" y="6308640"/>
            <a:ext cx="274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m ordem de prior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03280" y="4365720"/>
            <a:ext cx="3037320" cy="2178000"/>
            <a:chOff x="1403280" y="4365720"/>
            <a:chExt cx="3037320" cy="2178000"/>
          </a:xfrm>
        </p:grpSpPr>
        <p:sp>
          <p:nvSpPr>
            <p:cNvPr id="202" name=""/>
            <p:cNvSpPr/>
            <p:nvPr/>
          </p:nvSpPr>
          <p:spPr>
            <a:xfrm>
              <a:off x="3349080" y="5594400"/>
              <a:ext cx="1054800" cy="93024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8480" y="5332680"/>
              <a:ext cx="1978200" cy="11919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18600" y="4439520"/>
              <a:ext cx="955800" cy="9684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71720" y="4365720"/>
              <a:ext cx="816840" cy="10796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3080" y="5109480"/>
              <a:ext cx="1192320" cy="894600"/>
            </a:xfrm>
            <a:prstGeom prst="rect">
              <a:avLst/>
            </a:prstGeom>
            <a:solidFill>
              <a:srgbClr val="09e65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03280" y="4812120"/>
              <a:ext cx="1229040" cy="7452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62880" y="447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00880" y="4403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61240" y="4893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40280" y="6084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61720" y="564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03520" y="6084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CD5-500F-4241-8A82-A3B333B025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3168720" cy="2289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148428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loração de mapas: variável mais restring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variável que pode assumir menos val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2565360"/>
            <a:ext cx="309708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as: t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as: B, C, E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E, F, ..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=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C, F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ndidatos: F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=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 = blue ou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 BACKTRACK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403280" y="2924280"/>
            <a:ext cx="3188160" cy="2229840"/>
            <a:chOff x="1403280" y="2924280"/>
            <a:chExt cx="3188160" cy="2229840"/>
          </a:xfrm>
        </p:grpSpPr>
        <p:sp>
          <p:nvSpPr>
            <p:cNvPr id="219" name=""/>
            <p:cNvSpPr/>
            <p:nvPr/>
          </p:nvSpPr>
          <p:spPr>
            <a:xfrm>
              <a:off x="3451680" y="4189320"/>
              <a:ext cx="1110960" cy="95760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19280" y="3920040"/>
              <a:ext cx="2082960" cy="12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56400" y="3000240"/>
              <a:ext cx="1006200" cy="99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9480" y="2924280"/>
              <a:ext cx="860040" cy="11113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87640" y="3690000"/>
              <a:ext cx="1255320" cy="9208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03280" y="3384000"/>
              <a:ext cx="1293840" cy="766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560" y="303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91600" y="2963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5280" y="3466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1120" y="469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05280" y="4240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8720" y="46944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3BA-CFC3-4C20-AE79-D497A53423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148428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loração de mapas: valor menos res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valor que deixa mais liber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256536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riávei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,B,C,D,E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míni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=Db...=Df={green,red,blu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≠ B; A ≠ C; A ≠ E; B ≠ E; B ≠ F; C ≠ E; C ≠ F; D ≠ F; E ≠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4724280"/>
            <a:ext cx="3744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eçando 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=???  re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melhor do qu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292720" y="3645000"/>
            <a:ext cx="3200400" cy="2186640"/>
            <a:chOff x="5292720" y="3645000"/>
            <a:chExt cx="3200400" cy="2186640"/>
          </a:xfrm>
        </p:grpSpPr>
        <p:sp>
          <p:nvSpPr>
            <p:cNvPr id="236" name=""/>
            <p:cNvSpPr/>
            <p:nvPr/>
          </p:nvSpPr>
          <p:spPr>
            <a:xfrm>
              <a:off x="7349400" y="4880160"/>
              <a:ext cx="1117800" cy="9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09440" y="4616640"/>
              <a:ext cx="2093400" cy="119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9080" y="3719160"/>
              <a:ext cx="1011240" cy="9734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46120" y="3645000"/>
              <a:ext cx="864360" cy="10850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78520" y="4392360"/>
              <a:ext cx="1262880" cy="89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2720" y="4093560"/>
              <a:ext cx="1300320" cy="74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07040" y="375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88240" y="3683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66160" y="4173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92800" y="53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00120" y="4929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18880" y="5371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67F-D963-4323-B079-6857F465C9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SP iterativ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634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0920" indent="-340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SP pode ser resolvido iterativ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) instancia aleatoriamente todas variá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) aplica operadores para trocar os valores e então diminuir número de restrições não satisfeitas  (min-confli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Heurística de repa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07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ara inconsist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n-conflict resolve 8 rainhas em menos de 50 passos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D38-19C0-45E5-9902-9BF1E6BC07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71280" y="2708280"/>
            <a:ext cx="187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183360" y="833400"/>
            <a:ext cx="2724120" cy="2476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16360" y="871560"/>
            <a:ext cx="2714400" cy="247644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4286880" y="260280"/>
            <a:ext cx="2300760" cy="793800"/>
            <a:chOff x="4286880" y="260280"/>
            <a:chExt cx="2300760" cy="793800"/>
          </a:xfrm>
        </p:grpSpPr>
        <p:sp>
          <p:nvSpPr>
            <p:cNvPr id="254" name=""/>
            <p:cNvSpPr/>
            <p:nvPr/>
          </p:nvSpPr>
          <p:spPr>
            <a:xfrm>
              <a:off x="4286880" y="260280"/>
              <a:ext cx="230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ffcc00"/>
                  </a:solidFill>
                  <a:latin typeface="Arial"/>
                </a:rPr>
                <a:t>Número de ata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08640" y="5205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78280" y="1747800"/>
            <a:ext cx="1752480" cy="1600200"/>
            <a:chOff x="3878280" y="1747800"/>
            <a:chExt cx="1752480" cy="1600200"/>
          </a:xfrm>
        </p:grpSpPr>
        <p:sp>
          <p:nvSpPr>
            <p:cNvPr id="257" name=""/>
            <p:cNvSpPr/>
            <p:nvPr/>
          </p:nvSpPr>
          <p:spPr>
            <a:xfrm>
              <a:off x="3878280" y="1747800"/>
              <a:ext cx="533160" cy="4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73560" y="28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35480" y="2129040"/>
              <a:ext cx="91440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764480" y="1366920"/>
            <a:ext cx="1143000" cy="457200"/>
            <a:chOff x="7764480" y="1366920"/>
            <a:chExt cx="1143000" cy="457200"/>
          </a:xfrm>
        </p:grpSpPr>
        <p:sp>
          <p:nvSpPr>
            <p:cNvPr id="261" name=""/>
            <p:cNvSpPr/>
            <p:nvPr/>
          </p:nvSpPr>
          <p:spPr>
            <a:xfrm>
              <a:off x="8450280" y="1366920"/>
              <a:ext cx="457200" cy="4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21680" y="1595520"/>
              <a:ext cx="2286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4480" y="1366920"/>
              <a:ext cx="457200" cy="4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884320" y="3967200"/>
            <a:ext cx="2695680" cy="24861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364000" y="620640"/>
            <a:ext cx="0" cy="216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E12-0371-47BC-9027-A0B65626A8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rande importância prática, sobretudo em tarefa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, projet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dament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que várias soluções existem e é mais fácil dizer o que não se qu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C83-EEAD-4159-93DE-C053A4B9DE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Problema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problema que impõe propriedades estruturais adicionais à solução a ser enco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uma demanda mais refinada do que na busca clás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-se um conjunto de variáveis que podem assumir valores dentro de um dado domí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-se um conjunto de restrições que especificam propriedades da solução - valores que essas variáve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de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um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C83-77B5-476F-8308-A6D9294BB6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orm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s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idos pelos valores possíveis das variáv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tado inicial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nhuma variável instanciada ain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peradores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ribuem valores (instanciação) às variáv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ma variável por v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Arial"/>
              </a:rPr>
              <a:t>Teste de términ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rificar se todas as variáveis estão instanciadas obedecendo às restrições do probl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olução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junto dos valores das variáveis instanci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 de caminho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úmero de passos de atribui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605-5B0D-4728-AF62-0244CED2CE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junto de valores que a variável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assumir é chama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míni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domínio pode se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ret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fabricantes de uma peça do carro) ou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ínu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eso das peças do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o à aridade, as restrições podem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árias (sobre uma única variá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nárias (sobre duas variáve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-á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o à natureza, as restrições podem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bsoluta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não podem ser viol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ferenciai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devem ser satisfeitas quando possí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9C4-794E-4D7A-AD4F-59E707FBD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9280" y="1850760"/>
            <a:ext cx="78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a solução deve ser uma atribuição completa e, portanto, aparece na profund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árvore de busca se estende até a profund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ssas razões, os algoritmos de busca em profundidade são populares para C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aminho pelo qual uma solução é alcançada é irreleva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088-7FF7-427D-AD68-42A7173A1E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7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 das 8-ra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variáve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localização das rainhas (coluna, lin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val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ossíveis posições do tabul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trição biná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uas rainhas não podem estar na mesma coluna, linha ou diag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olu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lores para os quais a restrição é satisf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243036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A07-5EBE-4BCD-9E9A-926463C3B3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7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cega com Retrocesso par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inicial: variáveis sem atrib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 operador: instanci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de parada: todas variáveis instanciadas sem viol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ois de realizar uma atribuição, verifica se restrições não são viol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haja violação, retroc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BE0-701F-44DF-A63B-F2754C6CC4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6327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36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cega com Retrocesso para C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em profundidade limitada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l = número de variáve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 de expansão: ∑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Di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ste de parada é decomposto em um conjunto de restrições sobre as 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858-0728-4900-9B16-8F81FE252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8-06-09T12:25:35Z</dcterms:modified>
  <cp:revision>53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