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BBA-3BEA-44F7-AB93-C688F5A1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43E-1749-4C61-85D0-627D15F4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0C1-6226-4D06-BD02-406043B5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FAF-5D9B-4FCE-9E79-E161AF73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882A-6EFC-4089-B234-CD7FCDB788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5DF3B-5ACD-401B-B655-EFE02233D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A9AB-7B20-4D82-8E17-2CAA1F7173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F24CF-09EA-47F5-9988-A543CC8293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A0760-50C6-4133-9A13-57EFA3EF95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E7DB3-A3B0-41C5-B424-4C17785E2F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8FA40-FC3E-4112-9177-F564C9BF7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96C-44DF-4988-BEC7-AED4CFF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ECE6F-758A-48C5-B240-9D91FC2F9A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07FA5-48D8-47E8-818D-0F232EF8DA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2F35D-669B-4F2E-B748-E5273A955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11E99-110A-4DC9-88C5-6FDF47B52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70E78-BC90-4EE5-909C-358C7EBC2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49A-939D-4B38-97A5-FC66917D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5A3-467A-44D8-AB58-C0D0CBEC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FF9-26B7-4BA3-8D58-01EA65E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27F-DEB2-4971-8884-F5A1142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27D-CB96-4A3E-B570-87238AB1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8C9-3DA8-4FDC-BF70-E0739A1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3C6-6886-4EE9-A73A-F0726E1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BC24-E1B6-4E00-B6C0-02BC17536B2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314A-86E0-4AA0-9650-8CCBE5BEB33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sempre melhor utilizar uma função heurística com valores mais altos, desde que ela sej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 que o tempo para computá-la não seja muito gran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 qu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espaço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xemplo anterior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in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sso pode ser traduzido na for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heurística 2 é melhor que a heurística 1, pois terá um menor fator de ramificação. Desde que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ão superestimem o cust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76360" y="4052880"/>
                <a:ext cx="5041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omina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558-D130-4708-B7FD-93CEBF8BEC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o existam muitas funções heurísticas para o mesmo problema, e nenhuma delas domine as outras, usa-se um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eurística compost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,…,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2A1-B3FD-43F2-826C-E75C2D849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 de estratégias genéricas para definir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Relaxar o problema (versão simplificad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Usar informação estatís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) Identificar os atributos relevantes do problema e usar aprendiz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269-FB05-4B38-9DC2-AB5DD16E60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gos simples, como o jogo-dos-8, são veículos ideais para explorar o projeto e o comportamento de algoritmos de busca heurística por várias raz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2708280"/>
            <a:ext cx="7921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spaços de busca são grandes o suficiente para requererem poda heurís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ioria dos jogos é suficientemente complexa para sugerir uma rica variedade de avaliações heurísticas para comparação e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jogos geralmente não envolvem questões representacionais comple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todos os nós do espaço de estados têm uma representação comum, pode-se aplicar uma heurística única para todo o espaço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333-E0EC-43E1-BEB7-11965561D9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921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mais realistas complicam bastante a implementação e a análise da busca heurística, requerendo heurísticas múltip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ntendimento ganho de jogos simples pode ser generalizado para problemas como aqueles encontrados em sistemas especialistas, planejamento, controle inteligente e aprendizado. Porém, uma heurística simples não pode ser aplicada a todos os estados nestes domín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B40-FADB-4557-829A-E5E4E7D4DE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sca Heur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escolher uma boa função heurístic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573-F849-4D21-9BC7-7490DBF571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77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o escolher uma boa função heurística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pende de cada problema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ve se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superestimar o custo real d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jogo dos 8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número pode mover-se de A para B se A é adjacente a B e B está va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sca exausti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ução média em 22 p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tor de ramificação médio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stados poss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9!/2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ando os estados repe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48360" y="5013360"/>
          <a:ext cx="1368720" cy="1366920"/>
        </p:xfrm>
        <a:graphic>
          <a:graphicData uri="http://schemas.openxmlformats.org/drawingml/2006/table">
            <a:tbl>
              <a:tblPr/>
              <a:tblGrid>
                <a:gridCol w="456480"/>
                <a:gridCol w="455040"/>
                <a:gridCol w="45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775-B2F9-4DC6-B4CF-A9A699DAB5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903480"/>
            <a:ext cx="824364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umas heurísticas possíve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elementos em posições er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soma das distâncias de cada elemento à posição final - objetiv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ity block dist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nhattan dist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6609" r="0" b="1828"/>
          <a:stretch/>
        </p:blipFill>
        <p:spPr>
          <a:xfrm>
            <a:off x="1692360" y="1557360"/>
            <a:ext cx="4895640" cy="230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24360" y="4869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=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77320" y="6165720"/>
            <a:ext cx="4082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= 3+1+2+2+2+3+3+2=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1628640"/>
            <a:ext cx="21607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Distância de Manhattan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: distância pombalina, distância de quarteirões ou distância de táxi. Recebeu o nome pois define a menor distância possível que um carro é capaz de percorrer numa malha urbana reticulada ortogonal, como se encontram em zonas como Manhattan ou a Baixa Pomba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186-040E-4142-99F4-A815A96EEA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paço de estados gerado é menor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goritmo acha mais rapidamente a sol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5545080" cy="23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A20-C64E-4F79-B22A-02BE90C91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28083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aço de estados gerado 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ara cada estado está indicado entre parênteses o valor da função heuríst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42920" y="4076640"/>
            <a:ext cx="2231640" cy="1482840"/>
            <a:chOff x="1042920" y="4076640"/>
            <a:chExt cx="2231640" cy="1482840"/>
          </a:xfrm>
        </p:grpSpPr>
        <p:sp>
          <p:nvSpPr>
            <p:cNvPr id="120" name=""/>
            <p:cNvSpPr/>
            <p:nvPr/>
          </p:nvSpPr>
          <p:spPr>
            <a:xfrm>
              <a:off x="1042920" y="408312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In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0920" y="4076640"/>
              <a:ext cx="122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8560" y="479592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  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39640" y="479592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8   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780000" y="0"/>
            <a:ext cx="5364000" cy="6858000"/>
            <a:chOff x="3780000" y="0"/>
            <a:chExt cx="5364000" cy="6858000"/>
          </a:xfrm>
        </p:grpSpPr>
        <p:sp>
          <p:nvSpPr>
            <p:cNvPr id="125" name=""/>
            <p:cNvSpPr/>
            <p:nvPr/>
          </p:nvSpPr>
          <p:spPr>
            <a:xfrm>
              <a:off x="4859280" y="0"/>
              <a:ext cx="42847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16720" y="144360"/>
              <a:ext cx="1079640" cy="667080"/>
              <a:chOff x="6516720" y="144360"/>
              <a:chExt cx="1079640" cy="667080"/>
            </a:xfrm>
          </p:grpSpPr>
          <p:sp>
            <p:nvSpPr>
              <p:cNvPr id="127" name=""/>
              <p:cNvSpPr/>
              <p:nvPr/>
            </p:nvSpPr>
            <p:spPr>
              <a:xfrm>
                <a:off x="6516720" y="14436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6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  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91640" y="30168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956720" y="1427040"/>
              <a:ext cx="1078920" cy="667080"/>
              <a:chOff x="7956720" y="1427040"/>
              <a:chExt cx="1078920" cy="667080"/>
            </a:xfrm>
          </p:grpSpPr>
          <p:sp>
            <p:nvSpPr>
              <p:cNvPr id="130" name=""/>
              <p:cNvSpPr/>
              <p:nvPr/>
            </p:nvSpPr>
            <p:spPr>
              <a:xfrm>
                <a:off x="7956720" y="142704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6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531280" y="158436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516720" y="1427040"/>
              <a:ext cx="1079640" cy="667080"/>
              <a:chOff x="6516720" y="1427040"/>
              <a:chExt cx="1079640" cy="667080"/>
            </a:xfrm>
          </p:grpSpPr>
          <p:sp>
            <p:nvSpPr>
              <p:cNvPr id="133" name=""/>
              <p:cNvSpPr/>
              <p:nvPr/>
            </p:nvSpPr>
            <p:spPr>
              <a:xfrm>
                <a:off x="6516720" y="142704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  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91640" y="158436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003640" y="1427040"/>
              <a:ext cx="1079640" cy="667080"/>
              <a:chOff x="5003640" y="1427040"/>
              <a:chExt cx="1079640" cy="667080"/>
            </a:xfrm>
          </p:grpSpPr>
          <p:sp>
            <p:nvSpPr>
              <p:cNvPr id="136" name=""/>
              <p:cNvSpPr/>
              <p:nvPr/>
            </p:nvSpPr>
            <p:spPr>
              <a:xfrm>
                <a:off x="5003640" y="142704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6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78560" y="158436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5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5364000" y="86508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4000" y="86508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04000" y="865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56720" y="2722680"/>
              <a:ext cx="1078920" cy="667080"/>
              <a:chOff x="7956720" y="2722680"/>
              <a:chExt cx="1078920" cy="667080"/>
            </a:xfrm>
          </p:grpSpPr>
          <p:sp>
            <p:nvSpPr>
              <p:cNvPr id="142" name=""/>
              <p:cNvSpPr/>
              <p:nvPr/>
            </p:nvSpPr>
            <p:spPr>
              <a:xfrm>
                <a:off x="7956720" y="272268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531280" y="288000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516720" y="2722680"/>
              <a:ext cx="1079640" cy="667080"/>
              <a:chOff x="6516720" y="2722680"/>
              <a:chExt cx="1079640" cy="667080"/>
            </a:xfrm>
          </p:grpSpPr>
          <p:sp>
            <p:nvSpPr>
              <p:cNvPr id="145" name=""/>
              <p:cNvSpPr/>
              <p:nvPr/>
            </p:nvSpPr>
            <p:spPr>
              <a:xfrm>
                <a:off x="6516720" y="272268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  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91640" y="288000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03640" y="2722680"/>
              <a:ext cx="1079640" cy="667080"/>
              <a:chOff x="5003640" y="2722680"/>
              <a:chExt cx="1079640" cy="667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003640" y="272268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78560" y="288000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5364000" y="216072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04000" y="216072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4000" y="2160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076720" y="4019400"/>
              <a:ext cx="1079640" cy="667080"/>
              <a:chOff x="5076720" y="4019400"/>
              <a:chExt cx="1079640" cy="667080"/>
            </a:xfrm>
          </p:grpSpPr>
          <p:sp>
            <p:nvSpPr>
              <p:cNvPr id="154" name=""/>
              <p:cNvSpPr/>
              <p:nvPr/>
            </p:nvSpPr>
            <p:spPr>
              <a:xfrm>
                <a:off x="5076720" y="401940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51640" y="417672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780000" y="4019400"/>
              <a:ext cx="1078920" cy="667080"/>
              <a:chOff x="3780000" y="4019400"/>
              <a:chExt cx="1078920" cy="66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80000" y="401940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54560" y="417672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4140000" y="3457440"/>
              <a:ext cx="12236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4000" y="34574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813800" y="3946680"/>
              <a:ext cx="1078920" cy="667080"/>
              <a:chOff x="7813800" y="3946680"/>
              <a:chExt cx="1078920" cy="667080"/>
            </a:xfrm>
          </p:grpSpPr>
          <p:sp>
            <p:nvSpPr>
              <p:cNvPr id="162" name=""/>
              <p:cNvSpPr/>
              <p:nvPr/>
            </p:nvSpPr>
            <p:spPr>
              <a:xfrm>
                <a:off x="7813800" y="394668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88360" y="410364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516720" y="3946680"/>
              <a:ext cx="1079640" cy="667080"/>
              <a:chOff x="6516720" y="3946680"/>
              <a:chExt cx="1079640" cy="667080"/>
            </a:xfrm>
          </p:grpSpPr>
          <p:sp>
            <p:nvSpPr>
              <p:cNvPr id="165" name=""/>
              <p:cNvSpPr/>
              <p:nvPr/>
            </p:nvSpPr>
            <p:spPr>
              <a:xfrm>
                <a:off x="6516720" y="394668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91640" y="410364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2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875640" y="3457440"/>
              <a:ext cx="12254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75640" y="34574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516720" y="4956120"/>
              <a:ext cx="1079640" cy="667080"/>
              <a:chOff x="6516720" y="4956120"/>
              <a:chExt cx="1079640" cy="667080"/>
            </a:xfrm>
          </p:grpSpPr>
          <p:sp>
            <p:nvSpPr>
              <p:cNvPr id="170" name=""/>
              <p:cNvSpPr/>
              <p:nvPr/>
            </p:nvSpPr>
            <p:spPr>
              <a:xfrm>
                <a:off x="6516720" y="495612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091640" y="511344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1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867280" y="596412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8   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15280" y="61214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093080" y="5964120"/>
              <a:ext cx="1078920" cy="667080"/>
              <a:chOff x="7093080" y="5964120"/>
              <a:chExt cx="1078920" cy="667080"/>
            </a:xfrm>
          </p:grpSpPr>
          <p:sp>
            <p:nvSpPr>
              <p:cNvPr id="175" name=""/>
              <p:cNvSpPr/>
              <p:nvPr/>
            </p:nvSpPr>
            <p:spPr>
              <a:xfrm>
                <a:off x="7093080" y="596412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67640" y="612144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2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6300720" y="5675400"/>
              <a:ext cx="503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04000" y="5675400"/>
              <a:ext cx="5047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04000" y="460836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7280" y="5905440"/>
              <a:ext cx="649440" cy="763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71640" y="6168960"/>
            <a:ext cx="4105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ste exemplo não são considerados os nós que aparecem por mais de uma vez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C87-CDD9-42B1-9644-414180340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6000" y="1844280"/>
            <a:ext cx="251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aço de estados gerado 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332000" y="3573360"/>
            <a:ext cx="2231640" cy="1482840"/>
            <a:chOff x="1332000" y="3573360"/>
            <a:chExt cx="2231640" cy="1482840"/>
          </a:xfrm>
        </p:grpSpPr>
        <p:sp>
          <p:nvSpPr>
            <p:cNvPr id="185" name=""/>
            <p:cNvSpPr/>
            <p:nvPr/>
          </p:nvSpPr>
          <p:spPr>
            <a:xfrm>
              <a:off x="1332000" y="357984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In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40000" y="3573360"/>
              <a:ext cx="122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47640" y="429264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  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28720" y="429264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8   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500720" y="0"/>
            <a:ext cx="4284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57800" y="144360"/>
            <a:ext cx="1079640" cy="667080"/>
            <a:chOff x="6157800" y="144360"/>
            <a:chExt cx="1079640" cy="667080"/>
          </a:xfrm>
        </p:grpSpPr>
        <p:sp>
          <p:nvSpPr>
            <p:cNvPr id="191" name=""/>
            <p:cNvSpPr/>
            <p:nvPr/>
          </p:nvSpPr>
          <p:spPr>
            <a:xfrm>
              <a:off x="6157800" y="14436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  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32720" y="30168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597800" y="1427040"/>
            <a:ext cx="1079640" cy="667080"/>
            <a:chOff x="7597800" y="1427040"/>
            <a:chExt cx="1079640" cy="667080"/>
          </a:xfrm>
        </p:grpSpPr>
        <p:sp>
          <p:nvSpPr>
            <p:cNvPr id="194" name=""/>
            <p:cNvSpPr/>
            <p:nvPr/>
          </p:nvSpPr>
          <p:spPr>
            <a:xfrm>
              <a:off x="7597800" y="142704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72720" y="158436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57800" y="1427040"/>
            <a:ext cx="1079640" cy="667080"/>
            <a:chOff x="6157800" y="1427040"/>
            <a:chExt cx="1079640" cy="667080"/>
          </a:xfrm>
        </p:grpSpPr>
        <p:sp>
          <p:nvSpPr>
            <p:cNvPr id="197" name=""/>
            <p:cNvSpPr/>
            <p:nvPr/>
          </p:nvSpPr>
          <p:spPr>
            <a:xfrm>
              <a:off x="6157800" y="142704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  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32720" y="158436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5080" y="1427040"/>
            <a:ext cx="1078920" cy="667080"/>
            <a:chOff x="4645080" y="1427040"/>
            <a:chExt cx="1078920" cy="667080"/>
          </a:xfrm>
        </p:grpSpPr>
        <p:sp>
          <p:nvSpPr>
            <p:cNvPr id="200" name=""/>
            <p:cNvSpPr/>
            <p:nvPr/>
          </p:nvSpPr>
          <p:spPr>
            <a:xfrm>
              <a:off x="4645080" y="1427040"/>
              <a:ext cx="64764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9640" y="1584360"/>
              <a:ext cx="504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5005080" y="865080"/>
            <a:ext cx="143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5080" y="86508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5080" y="865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597800" y="2722680"/>
            <a:ext cx="1079640" cy="667080"/>
            <a:chOff x="7597800" y="2722680"/>
            <a:chExt cx="1079640" cy="667080"/>
          </a:xfrm>
        </p:grpSpPr>
        <p:sp>
          <p:nvSpPr>
            <p:cNvPr id="206" name=""/>
            <p:cNvSpPr/>
            <p:nvPr/>
          </p:nvSpPr>
          <p:spPr>
            <a:xfrm>
              <a:off x="7597800" y="2722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72720" y="288000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57800" y="2722680"/>
            <a:ext cx="1079640" cy="667080"/>
            <a:chOff x="6157800" y="2722680"/>
            <a:chExt cx="1079640" cy="667080"/>
          </a:xfrm>
        </p:grpSpPr>
        <p:sp>
          <p:nvSpPr>
            <p:cNvPr id="209" name=""/>
            <p:cNvSpPr/>
            <p:nvPr/>
          </p:nvSpPr>
          <p:spPr>
            <a:xfrm>
              <a:off x="6157800" y="2722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  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2720" y="288000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645080" y="2722680"/>
            <a:ext cx="1078920" cy="667080"/>
            <a:chOff x="4645080" y="2722680"/>
            <a:chExt cx="1078920" cy="667080"/>
          </a:xfrm>
        </p:grpSpPr>
        <p:sp>
          <p:nvSpPr>
            <p:cNvPr id="212" name=""/>
            <p:cNvSpPr/>
            <p:nvPr/>
          </p:nvSpPr>
          <p:spPr>
            <a:xfrm>
              <a:off x="4645080" y="2722680"/>
              <a:ext cx="64764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19640" y="2880000"/>
              <a:ext cx="504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flipH="1">
            <a:off x="5005080" y="2160720"/>
            <a:ext cx="143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216072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5080" y="2160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454880" y="3946680"/>
            <a:ext cx="1079640" cy="667080"/>
            <a:chOff x="7454880" y="3946680"/>
            <a:chExt cx="1079640" cy="667080"/>
          </a:xfrm>
        </p:grpSpPr>
        <p:sp>
          <p:nvSpPr>
            <p:cNvPr id="218" name=""/>
            <p:cNvSpPr/>
            <p:nvPr/>
          </p:nvSpPr>
          <p:spPr>
            <a:xfrm>
              <a:off x="7454880" y="3946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29800" y="41036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57800" y="3946680"/>
            <a:ext cx="1079640" cy="667080"/>
            <a:chOff x="6157800" y="3946680"/>
            <a:chExt cx="1079640" cy="667080"/>
          </a:xfrm>
        </p:grpSpPr>
        <p:sp>
          <p:nvSpPr>
            <p:cNvPr id="221" name=""/>
            <p:cNvSpPr/>
            <p:nvPr/>
          </p:nvSpPr>
          <p:spPr>
            <a:xfrm>
              <a:off x="6157800" y="3946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2720" y="41036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516720" y="3457440"/>
            <a:ext cx="1225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3457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157800" y="4956120"/>
            <a:ext cx="1079640" cy="667080"/>
            <a:chOff x="6157800" y="4956120"/>
            <a:chExt cx="1079640" cy="667080"/>
          </a:xfrm>
        </p:grpSpPr>
        <p:sp>
          <p:nvSpPr>
            <p:cNvPr id="226" name=""/>
            <p:cNvSpPr/>
            <p:nvPr/>
          </p:nvSpPr>
          <p:spPr>
            <a:xfrm>
              <a:off x="6157800" y="495612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32720" y="51134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508720" y="5964120"/>
            <a:ext cx="647640" cy="6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8  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7 6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6121440"/>
            <a:ext cx="504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Verdana"/>
              </a:rPr>
              <a:t>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734160" y="5964120"/>
            <a:ext cx="1079640" cy="667080"/>
            <a:chOff x="6734160" y="5964120"/>
            <a:chExt cx="1079640" cy="667080"/>
          </a:xfrm>
        </p:grpSpPr>
        <p:sp>
          <p:nvSpPr>
            <p:cNvPr id="231" name=""/>
            <p:cNvSpPr/>
            <p:nvPr/>
          </p:nvSpPr>
          <p:spPr>
            <a:xfrm>
              <a:off x="6734160" y="596412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09080" y="61214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5941800" y="5675400"/>
            <a:ext cx="50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5080" y="567540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5080" y="4608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5905440"/>
            <a:ext cx="649080" cy="76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53B-149C-4539-B4B3-01D3D234E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feito da exatidão da heurística sobre o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 função heurístic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da através do fator de expansão efetiv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de ramificação efetiva)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ator de expansão de uma árvore uniforme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+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ós e nível de profundida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+1 = 1 + b* + (b*)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+ ... + (b*)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 = total de nós gerados pelo A* para um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 = profundidade da solu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de-se empiricamente a qualidade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artir do conjunto de valores experimentai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boa função heurística terá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o próximo de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4B3-2D1D-4B8D-8574-65EB8F2AB3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1280" y="1527120"/>
            <a:ext cx="8064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paração entre os custos da busca e entre os fatores de expansão (ramificação) efetivo para os algoritmos BUSCA-POR-APROFUNDAMENTO-ITERATIVO e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A média dos dados é calculada sobre 100 instâncias de quebra-cabeça de 8 peças para diversos comprimentos de sol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12000" cy="3708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42920" y="6021360"/>
            <a:ext cx="79218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boa função heurística    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ito próximo d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melhor que 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para qualquer nó, 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)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6597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6237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54B-D827-41E8-8176-EE22E30DBD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7-03T17:24:46Z</dcterms:modified>
  <cp:revision>49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