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8FEE-0F44-4248-8AD9-9E5A959B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A8E-D27E-413F-A501-89A56D72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D65-3725-4102-8D69-D45E1D9E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C2B-7E6B-4571-AAFE-855BE313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AFF73-F77A-4D84-9EB3-EB1118AFE7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92F51-D76E-4ECB-9932-F89B0AB4C1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16032-1740-41B9-802A-73EC3E990F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52F62-F23F-40EE-B8D2-FDA8E52D48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B65AB-896C-4058-8C24-EF2B39BF12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EF493-22A2-4177-9153-741D33DC7B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D3804-52C8-4910-BE77-707E5D35B9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4386-CABA-4CA7-ABC8-70E0BFFD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B6E72-0B43-4109-92C2-BE2779432E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17A34-0EEF-43C0-A998-DAE519E006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13BFD-886D-445B-B663-066C774308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3FA3B-06E2-40E7-A0AA-23F54315BA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718D6-72DE-4F52-A779-9419EA7D77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0EC-45C8-4F47-A68B-F8EF851D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90E1-CE23-4F12-9748-6B00977E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A8E4-2C6D-4106-A9D2-A5D1345A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3717-F667-48E2-899D-B40AAEB1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A64-2003-45C4-A00D-73D8F54B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4AEB-2EB6-474E-9FAA-D0FF7F6C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AA00-2D39-4DBC-B986-A9F5E96D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9D83-2164-4ABB-B145-699C96A56E69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0D78-519E-49A9-9737-ACBF50277554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   (Parte III - Adic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5905440" cy="5024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usca Heurística (Exercício) ..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2521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) Busca gul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E054-44FE-4F6F-8439-1B81CF8655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6443640" cy="5283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usca Heurística (Exercício) ..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2521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) Busca A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CF98-9293-4474-8F58-1704D3D910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usca Heurística (Exercício) ..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7561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se pode observ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olução obtida pelo A* é de melhor qualid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vendedor teria que percorrer 1300 Km, ao invés dos 1450 Km da solução encontrada pela busca gulo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resultado justifica-se porque o A* considera na sua função de custo (f) não só o valor heurístico (h) mas também o custo do caminho até então percorrido (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D67B-AAAF-48F8-ADF9-202876D8F2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usca Heurística (Exercício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7561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serva-se também que o número de nós expandidos pela busca gulosa foi bastante inferior, ou seja, este tipo de busca foi mais eficiente em termos espaciais e tempor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so porque a busca gulosa apenas se preocupou em caminhar em direção a uma solução, não considerando o esforço já realizado (g) para garantir um solução ótima - comportamento que evitou vários retrocessos e a conseqüente expansão de mais nó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E4D-3D46-4EC7-8AC5-70A2D3B407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201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rcícios - Bus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14C9-6079-44D0-9667-F659D20D04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777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 1: Qual o tipo de busca apresentado na fig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42920" y="2997360"/>
            <a:ext cx="7705800" cy="172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492-04C6-40A6-9565-5A77662C57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8101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 2: Qual o tipo de busca apresentado na fig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68360" y="2001960"/>
            <a:ext cx="5543640" cy="46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A0B-BC5B-4E74-9F6A-4F29FBBA8B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95640" y="1822320"/>
            <a:ext cx="5903640" cy="50356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777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 3: Qual o tipo de busca apresentado na fig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E126-2851-4681-B9A6-5610835D04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777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 4: Qual o tipo de busca apresentado na fig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79640" y="2058840"/>
            <a:ext cx="612144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9BB-26CA-4B33-B954-2601941C89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66960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7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 5: Qual o tipo de busca mais eficiente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em Largura ou Busca em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undidade? Justifique a sua respo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D8B4-25DD-4D8E-921A-DC64BDF86D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usca Heurística (Exercício) ..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3600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vendedor quer visitar as seguintes localidades do mapa, representadas por letras do alfabeto, sem repetir a visita e sem voltar ao local de ori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4248360" cy="417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15E-AFAA-4B12-B767-F05C991EF1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usca Heurística (Exercício) ..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va este problema utilizando o “algoritmo do melhor primeiro”, começando e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tilize a seguinte heuríst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 número de quilômetros a percorrer é igual ao comprimento médio dos caminhos (200km), vezes o número de localidades que faltam percorrer. Em caso de empate entre dois nós, escolha aquele que esteja alfabeticamente primei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) Usar busca gul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) Usar busca A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) Compare esses dois métodos de busca, tendo em vista, os resultados obt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F70-D8CC-466D-B1F6-1837C18334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7-03T17:00:12Z</dcterms:modified>
  <cp:revision>466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