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60A-A658-4322-980B-636FB1E1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A09-6E8C-439A-AAF7-C807C64A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EC8-D997-42EA-A446-D5F1FFDC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1A4-39A8-4466-B5FE-3582A09C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A7F8-5C2E-4011-9696-8DF8098C0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4DD8-3EE7-448B-972F-0AB8CF695A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A3409-E563-403F-9F27-2B4650245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7AF9-1F3E-4F0F-A52C-4B6AA4622B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F69B-C720-4195-9197-F4B0BA004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12490-3593-4C4D-9AD4-D63CCD2639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FD945-ECF5-4289-8819-493BF22CE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2C6-CDE0-4444-B478-4017BC5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D7621-5BC5-4EDB-A337-074915ED4A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A7CB-3D2F-406F-966A-035E36809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2F181-647A-40D8-8652-C7C2097C0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F364B-9A27-4715-8E46-B7D6F3B35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13D01-1C12-4F4F-869C-A9BBB1BAD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FD6-84EB-41D3-9B5E-04E33BE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EF7-5C22-4D32-A9C8-6389F1B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7EE-829D-485F-B98A-52264C5B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540-1FC2-4152-8A3B-39D2953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07F-AE58-4BDB-B04B-4C68287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9A2-62E9-43CC-A9B4-C1FA63C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879-7262-4D3B-B068-E888962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C3C3-A394-4205-835A-C083BDE217B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F0E-3306-4C42-9505-5FFB60ACF17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s.unm.edu/~luger/ai-final/" TargetMode="External"/><Relationship Id="rId2" Type="http://schemas.openxmlformats.org/officeDocument/2006/relationships/hyperlink" Target="http://www.cs.unm.edu/~luger/ai-final/" TargetMode="External"/><Relationship Id="rId3" Type="http://schemas.openxmlformats.org/officeDocument/2006/relationships/hyperlink" Target="http://www.cs.unm.edu/~luger/ai-final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 uma busca sistemática em cada filho de um nó até encontra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caminho para se chegar ao nó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sando busca em profundidade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 = { B, F, C, E, J, K, D, G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84360" y="3357720"/>
            <a:ext cx="4403880" cy="3184200"/>
            <a:chOff x="2484360" y="3357720"/>
            <a:chExt cx="4403880" cy="3184200"/>
          </a:xfrm>
        </p:grpSpPr>
        <p:graphicFrame>
          <p:nvGraphicFramePr>
            <p:cNvPr id="123" name=""/>
            <p:cNvGraphicFramePr/>
            <p:nvPr/>
          </p:nvGraphicFramePr>
          <p:xfrm>
            <a:off x="2484360" y="3357720"/>
            <a:ext cx="4403880" cy="318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3357720"/>
                      <a:ext cx="4403880" cy="31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354636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400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00360" y="4581360"/>
              <a:ext cx="183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5640" y="5300640"/>
              <a:ext cx="289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0000" y="450864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7236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5516640"/>
              <a:ext cx="18432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56000" y="472428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56000" y="393372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720" y="5516640"/>
              <a:ext cx="1839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AA1-2463-43EA-8FC0-2D590E5B7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e uma solução, mas a busca pode ser muito demo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uitas ramificações diferentes podem ter que ser consideradas até o nível mais profundo antes de uma solução ser at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0E5-E908-40B0-B3D5-B691D477E1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773360"/>
            <a:ext cx="7345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Todos os nós de profundidad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Todos os nós de profundidade 2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A16-9396-4EA7-8104-2886B6F5F9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ós em cada nível da árvore são completamente examinados antes de se mover para o próximo n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busca em largura sempre encontrará o menor caminho entre o estado inicial e o estado-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nor caminho é o caminho com o menor número de passos (não confundir com o caminho de menor cus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217-2E40-44C2-AB7A-923C7FBC7D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 uma busca sistemática examinando primeiro os módulos próximos à ra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aminho para encontrar o nó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usando a Busca em Largura: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 = { B, F, D, A, C, E, G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84360" y="3357720"/>
            <a:ext cx="4403880" cy="3184200"/>
            <a:chOff x="2484360" y="3357720"/>
            <a:chExt cx="4403880" cy="3184200"/>
          </a:xfrm>
        </p:grpSpPr>
        <p:graphicFrame>
          <p:nvGraphicFramePr>
            <p:cNvPr id="146" name=""/>
            <p:cNvGraphicFramePr/>
            <p:nvPr/>
          </p:nvGraphicFramePr>
          <p:xfrm>
            <a:off x="2484360" y="3357720"/>
            <a:ext cx="4403880" cy="318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3357720"/>
                      <a:ext cx="4403880" cy="31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54636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4000" y="371016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00360" y="4581360"/>
              <a:ext cx="183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5640" y="5300640"/>
              <a:ext cx="289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80000" y="4508640"/>
              <a:ext cx="1843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2360" y="4508640"/>
              <a:ext cx="1839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7640" y="5516640"/>
              <a:ext cx="18432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472428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6000" y="3933720"/>
              <a:ext cx="1843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5516640"/>
              <a:ext cx="1839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697-900F-4FE8-B6DC-685AB3A54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térios importantes na análise de um algoritmo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te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algoritmo oferece a garantia de encontrar uma solução quando ela existi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timiz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estratégia encontra a solução ótima (tem o menor custo de caminho entre todas as soluçõ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xidade de tem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Quanto tempo ele leva para encontrar uma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lexidade de espaç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Quanto de memória é necessário para executar a bus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77C-5420-4F74-9D53-73E388E96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92360" y="1700280"/>
          <a:ext cx="6095880" cy="2879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é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ca em Larg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ca em Profund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tim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+1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ç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+1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b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42920" y="4941720"/>
            <a:ext cx="785016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fator de ramificação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profundidade da solução mais "rasa"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profundidade máxima da árvore de busca;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limite de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notações sobrescritas: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completa se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é finito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completa se o custo do passo é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≥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positivo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ótima se os custos dos passos são todos idênticos; 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- se ambos os sentidos utilizam busca em extens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104-92E7-44F9-90DE-56DC703B4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plosão combinato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o número de alternativas a serem exploradas é tão grande que o problema de complexidade torna-se crí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 cada nó no espaço de estados t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cessores, então o número de caminhos de compriment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partir do nó inicial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ssumindo que não há cicl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caminhos candidatos à solução é exponencial com relação ao seu compr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estratégias de busca em profundidade e em largura não fazem nada para combater esta complexidade: todos os caminhos candidatos são tratados como igualmente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CCD-0597-4D8C-846C-0873055D76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buscas em profundidade e em largura não precisam ser realizadas em uma ordem específic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e tratando de memória utilizada, na busca em profundidade é preciso armazenar todos os filhos não visitados de cada nó entre nó atual e nó ini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busca em largura, antes de examinar nó a uma profund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é necessário examinar e armazenar todos os nodos a uma profundida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8FC-0A7E-4733-9F64-4FE50A61AB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utiliza menos memór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ao tempo, a busca em profundidade é geralmente mais ráp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s de busca cega não examinam a árvore de forma ótima, o que poderia minimizar o tempo gasto para resolver 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667-C060-4669-910F-325C6412E9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Busca de Sol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5FC-3347-4B87-8BBC-840F8CBE5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serv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buscas em largura e profundidade não fazem uso de nenhum conhecimento para encontrar sua solução, fazendo uma busca exaustiva dentro do seu espaço. Para contornar este problema, pode-se usar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todos heuríst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8F6-EDED-4E8B-9C83-EA770D2713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monstr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809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Luger, G. F.,  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Artificial Intelligence: Structures and Strategies for Complex Problem Solving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, 5 Ed.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 (= 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readth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(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pth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1D8-2850-4652-9818-1A6C9D1BE9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00280"/>
            <a:ext cx="74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todo 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um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Árvo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bus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plícita – gerada pelo estado inicial e pela função suces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raf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bus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ubstituindo a árvore de busca) – o mesmo estado pode ser alcançado a partir de vários camin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26F-2421-4036-BC49-A19E703C7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paço de Estados do Proble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blema pode ser visto como uma tripla: 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stados in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conjunto de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stado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para o problema é uma seqüência finita de operações que permite sair de um elemento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chegar a um elemento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9E0-BA81-4DBC-8A92-BEB11D05D1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paço de Estados do Proble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85076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sistema de resolução de problemas compor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de estruturas de dados organizada em um graf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de operadores caracterizados por suas condições de aplicação e sua 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strutura de controle implementando a estratégia de re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97E-76D1-4707-85F6-9B46AFDDB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de Bus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36720" y="1557360"/>
            <a:ext cx="80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bordagens de busca básicas num espaço de es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Ceg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em informação/Não inform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tem informação sobre qual sucessor é mais promissor para atingi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Heurístic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usca Com Informação/Inform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informação (estimativa) de qual sucessor é mais promissor para atingir a 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busca cega com algum guia ou orientaçã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das as estratégias de busca se distinguem pela ordem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 que os nós são expa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F4C-AA7F-47E5-8ED0-72576901E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de Busca Ceg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1916280"/>
            <a:ext cx="6912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cc"/>
                </a:solidFill>
                <a:uFillTx/>
                <a:latin typeface="Arial"/>
              </a:rPr>
              <a:t>Busca em Lar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de Custo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cc"/>
                </a:solidFill>
                <a:uFillTx/>
                <a:latin typeface="Arial"/>
              </a:rPr>
              <a:t>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 com Aprofundamento I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ndo Estados Rep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com Conhecimento In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B97-029D-4B42-A9B9-2250E0E3F6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844640"/>
            <a:ext cx="7705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Primeiro nó de profundidad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Primeiro nó de profundidade 2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D93-A12A-4E4A-8FC7-A343B2B22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499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 na raiz e avança para baixo em níveis cada vez mais profun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perador é aplicado a um nó para gerar o próximo nó mais profundo na seqü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continua até que uma solução é encontrada ou um retrocesso é forçado ao atingir-se um nó terminal que não é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F29-B25F-4272-AC74-AEAA17E63B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6-26T16:41:06Z</dcterms:modified>
  <cp:revision>41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