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411D-905A-42FF-9DAD-B77E39C1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4783-E96B-4AFF-8ED9-5817F84F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C7BB-8108-45F0-B756-FFAFF402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762-9EFD-46C5-8557-1FFC7DB4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9A512-8F03-492D-A5F0-6812F429B2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CA973-2756-4755-A23C-2C3B1764F2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B2988-45A0-461C-B299-B26140B604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2F230-9180-416C-9A65-F030398E6D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F5A04-DE8C-4C8D-B652-54BFCB4F9E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57881-A10A-495E-869E-CF6492F25E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F7BF7-2736-438A-8A15-62C51F6F2D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885D-9DB3-4AC7-86BD-87BA62DB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8ADFB-86D2-418D-A28C-40BFB7027A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975D8-3D1B-43AD-9AF4-605045513C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CC7E2-7FA3-44E6-A2A9-00C7956A27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8123E-C20C-42F0-A040-EC2F22C72E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EC8D6-C046-4C9C-BD9E-021A5A6945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70D1-2174-4947-815E-F415CAE4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7F4-3228-48D7-A89A-E2812303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424-B254-476C-AF5C-BC4E5973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9A1-C20D-4F0C-93C6-84B92491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09E-32E3-4DE4-AC42-07FE5489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E5F5-C733-4714-8AE1-CBE733B9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05D-28DC-42AA-911F-D5C2F7D7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F7A8-D731-4798-A1C1-916CAC9B3B08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AA9F-2391-4520-8137-1D94A4AAC295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   (Parte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632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1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ndo do aspirador de pó com apena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2 loc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24000" y="2852640"/>
            <a:ext cx="5688000" cy="291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2EC-BAA0-43F2-8F7E-34E306E503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4360" y="169992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o Mundo do Aspirador de Pó -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agente está em uma entre duas posições, cada uma das quais pode conter sujeira ou n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á 2 x 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8 estados do mundo possíve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estado pode ser designado como estado ini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Su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a os estados válidos que resultam da tentativa de executar as três ações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squer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irei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spir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4EFE-5068-464D-A39A-ACF8E6D7BB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7040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paço de estados para o mundo do aspirador de p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6875640" cy="3340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187280" y="6237360"/>
            <a:ext cx="7488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s arcos denotam ações: E = Esquerda, D = Direita, A = Aspi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87E7-B03A-4E08-9A54-FBD6658FB5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817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o Mundo do Aspirador de Pó -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ste de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ifica se todos os quadrados estão limp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e cami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passo custa 1, e assim o custo do caminho é o número de passos do camin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e miniproblema tem posições discretas, sujeira discreta, limpeza confiável e nunca é desorganizado depois de li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biente co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ições: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 2</a:t>
            </a:r>
            <a:r>
              <a:rPr b="1" i="1" lang="pt-B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4E9-0F5F-41B2-A808-720C7DDEE8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77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2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instância típica do quebra-cabeça 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8 peç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5977080" cy="306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3F9B-D191-4315-B7BD-6B7E4F36BA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o Quebra-cabeça de 8 Peças -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descrição de estado especifica a posição de cada uma das oito peças e do espaço vazio em um dos nove quad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estado pode ser designado como estado ini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Su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a os estados válidos que resultam da tentativa de executar as três ações (o espaço vazio se desloca para 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squer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irei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cim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baix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BB00-651A-4BA6-AF5E-707E8C2DBB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o Quebra-cabeça de 8 peças -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ste de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ifica se o estado corresponde à configuração de objetivo mostrada na figura (São possíveis outras configurações de objetiv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e cami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passo custa 1, e assim o custo do caminho é o número de passos do camin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368-99C7-4EFA-AA5B-7C77D0ABAA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o Quebra-cabeça de 8 Peças - Formul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strações incluí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ações são reduzidas a seus estados iniciais e finais, ignorando-se as posições intermediárias por onde o bloco está desliza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am abstraídas ações como sacudir o tabuleiro quando as peças ficam presas ou extrair as peças com uma faca e colocá-las de volta no tabulei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98F-79A3-4AD1-9303-04DEBCA893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993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o Quebra-cabeça de 8 Peças -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tence à família de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quebra-cabeças de blocos desliza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usados com freqüência como problemas de teste para novos algoritmos de busca em 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úmero de estados acessí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bra-cabeça de 8 peças: 9!/2 = 181.4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bra-cabeça de 15 peças (tabuleiro de 4 x 4): aproximadamente 1,3 trilhão (instâncias aleatórias podem ser resolvidas de forma ótima em algun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los melhores algoritmos de busc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bra-cabeça de 24 peças (tabuleiro 5 x 5): cerca de 10 estados (difíceis de resolver de forma ótima com as máquinas e os algoritmos atua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A550-CF06-4BD6-BE22-61C0E1295D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8172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3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 das 8 Rain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jetiv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posicionar 8 rainhas em um tabuleiro de xadrez de tal forma que nenhuma rainha ataque qualquer outra (uma rainha ataca qualquer peça situada na mesma linha, coluna ou diagon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419640" y="3357720"/>
            <a:ext cx="2881080" cy="2927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908000" y="63086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ma quase solução para o problema das 8 rain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72FF-3A18-4282-A720-5312426559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solução de 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1989000"/>
            <a:ext cx="71280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ceitos Bá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paço de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A35-541E-46D9-9384-B5FC72FB19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5640" y="177768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as 8 Rainhas -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ulação incr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ulação de estados compl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C97-B403-4B3A-B762-CC6E7E4C65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1634760"/>
            <a:ext cx="80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as 8 Rainhas – Formulação Incr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disposição de 0 a 8 rainhas no tabuleiro é um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nhuma rainha no tabulei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Su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locar uma rainha em qualquer quadrado vaz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ste de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 rainhas estão no tabuleiro e nenhuma é atac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qüências possíveis de investigação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4 x 63 x ... x 57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≈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9CE8-A08E-4CD3-B341-7D360DC4AE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0000" y="1490400"/>
            <a:ext cx="80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as 8 Rainhas – Formulação Incremental Melho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ibir a colocação de uma rainha em qualquer quadrado que já estiver sob ata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estados são disposições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rainhas (0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≤ 8), uma por coluna na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colunas mais à esquerda, sem que nenhuma rainha ataque ou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Su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icione uma rainha a qualquer quadrado na coluna vazia mais à esquerda de tal modo que ela não seja atacada por qualquer outra rain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aço de estados: 2.0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2C7-F043-4801-9555-1E374CC0E4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blemas do mundo re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e Roteamento: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apl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teamento em redes de compu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nejamento de operações mili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s de planejamento de viagens aé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CD62-D1DC-4B88-A418-D00140DBBD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blemas do mundo re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e Viagens Aéreas –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um é representado por uma posição (p.ex.: um aeroporto) e pela hora a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especificado pel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Su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torna os estados resultantes de tomar qualquer vôo programado que parte depois da hora atual somada ao tempo de trânsito no aeroporto, desde o aeroporto atual até ou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ste de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mos no destino após algum tempo especific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80D4-A539-407C-96DF-194E349C0C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blemas do mundo re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00000" y="1634760"/>
            <a:ext cx="80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e Viagens Aéreas –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e cami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pende do custo monetário, do tempo de espera, do tempo de vôo, dos procedimentos alfandegários, da hora do dia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sistema realmente bom deve incluir planos de contingência.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reservas substitutas em vôos altern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62FB-637E-4755-B5A6-8D1A70248D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blemas do mundo re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71280" y="1706400"/>
            <a:ext cx="8064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s de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our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–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reitamente relacionados aos problemas de rote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ferenç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cada estado deve incluir não apenas a posição atual, mas também 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njunto de cidades que o agente visit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1C9E-77B4-461A-9A98-EB305668F6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blemas do mundo re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71280" y="1706400"/>
            <a:ext cx="7993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o Caixeiro-Viajante (PCV)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–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ou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m que cada cidade deve ser visitada exatamente uma v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je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encontrar o percurso mais cu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as aplic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lanejamento do movimento de máquinas automáticas para perfuração de placas de circuitos e de máquinas industriais em fábr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6E1F-CF00-44E0-B72D-D1D3DF14D86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blemas do mundo re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77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e Layout de VLSI –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ge o posicionamento de milhões de componentes e conexões em um chip para minimizar a área, os retardos de circuitos e as capacitâncias de fuga e maximizar o rendimento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isão usu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yout de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teamento de ca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DDC-E50C-4487-9FE7-B74C788D5EC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blemas do mundo re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15640" y="1706400"/>
            <a:ext cx="7777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a Navegação de Robôs –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neralização do problema de rote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acteríst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um robô pode se mover em um espaço contínuo com (em princípio) um conjunto infinito de ações e estados poss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bô com movimento circular sobre uma superfície plana: espaço bidimens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bô com braços e pernas ou rodas – espaço de busca com várias dimens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0CD-99C2-47E3-8DF5-FD4FEE31DD2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solução de 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1989000"/>
            <a:ext cx="71280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dica-se ao estudo e elaboração de algoritmos, capazes de resolver, por exemplo, problemas considerados intratáveis do ponto de vista da computação convencio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CFEF-8B23-4885-8959-2DE35A70E0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blemas do mundo re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77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a Seqüência Automática de Montagem –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je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encontrar uma ordem na qual devem ser montadas as peças de algum ob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o problema de montagem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 de proteín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jetiv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encontrar uma seqüência de aminoácidos que serão incorporados em uma proteína tridimensional com as propriedades adequadas para curar alguma doen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594-7F93-4734-B37E-3F31C68ED9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blemas do mundo re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77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blema de Pesquisas na Internet – 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je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rocurar respostas para perguntas, informações inter-relacionadas ou oportunidades de comp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866D-DF92-4C0A-8DEE-793CCA4A75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solução de 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632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óximos pass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 busca de 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F889-9966-4CBD-98BB-96D58CCD6A8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solução de 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4200" y="1699920"/>
            <a:ext cx="756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meiros problemas por computador: prova automática de teoremas e jo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acidade de cálculo e memória dos computadores: insuficientes perante o enorme número de caminhos de sol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jogo de xad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 dos objetivos de 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resolver problemas que o homem não sabe resolver facilmente ou num tempo razoável, desde que sejam completamente formal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1E40-1879-4E4F-A2BB-4F596121C8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643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ebra-cabeças 3x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aixeiro Viaj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álculo Integral 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pilhamento de blocos: a partir de uma configuração de blocos iniciais, qual a seqüência de movimentos para se chegar a uma configuração f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Oito Rain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Torres de Hanó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58F1-A8D3-4F1B-A49E-862BE23554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Formulação de 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56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leme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d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ção Su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ste de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sto de Cami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9307-015B-4790-BFDA-3E20CB7874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blemas e soluções bem defini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49040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Quatro componentes para definir um problem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 inic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m que o agente começ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 Uma descrição d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ossíveis que estão disponíveis para o ag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ulação mais comum: uso de um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unção sucess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do inicial e função sucessor: definem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paço de esta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minh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o espaço de estados – seqüência de estados conectados por uma seqüência de 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. 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ste de obje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determina se um dado estado é um estado obj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4. Função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e caminh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atribui um custo numérico a cada camin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1D4-F9BF-43A1-82ED-D361BA451F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ini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do para ilustrar ou exercitar diversos métodos de resolução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ter uma descrição concisa e exata – pode ser utilizado com facilidade por diferentes sistemas de busca, com a finalidade de comparar o desempenho de algorit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s do mund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ndem a não apresentar uma única descrição consensual, mas é possível fornecer uma idéia geral de suas formul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D20-A329-4F75-AA48-4AC5A91CBB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ble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: Mini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ndo do Aspirador de P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do Quebra-cabeça de 8 Peç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das 8 Rain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: Problemas do mund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de Rote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de Viagens Aé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do Caixeiro Viaj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de Layout de V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de Navegação de Robô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da Seqüência Automática de Mont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de Pesquisas na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D7E-609B-45FC-8145-69458555D0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6-08-15T17:54:44Z</dcterms:modified>
  <cp:revision>347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