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505-B35E-4240-B0A4-CDBB5E9A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8ED-46CB-4D1E-B3E3-249C751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2B5-73FA-4002-BCB8-AB2DC91A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4D5-2628-4686-8938-54F2860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BB830-DC0B-4503-B951-87BADEE2BA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38C6-104D-4C07-8DCB-EEA1DC982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C2303-FFA8-4A47-99B9-AB4463113A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DE73D-1C20-4A70-94E0-DE6F0AD015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1416-C973-4F65-8527-1DE0C1B20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91848-99A9-4BD7-8053-30622E01C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BC8C-8028-49E2-9F57-DB2C35833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67A-1CB0-4B1C-A19E-350A3084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28849-9CCD-4977-9B43-792753F884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CDCD7-4E03-45C8-B887-2448D96362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ABBE6-D6FB-487B-964F-2EB427DB7E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E1421-66F8-456E-9C82-1342E65F62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5299-6002-4734-9DCE-EE6514B32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09D-6D02-4718-85A3-03E39B0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FF2-99D7-4A06-BDC5-96FFEFE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BE-7BD8-4F14-BA49-10496D0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D6C-021E-4E4C-8892-4AEDAAF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86F-D9A1-49E1-A04C-E3260D3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AED-CE7F-4FEC-9EE9-6318154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1DE-EA8B-4917-9B3E-443E507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E88-2638-4DFC-9BE5-D0E5BA3C2F8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74C2-92D1-4316-B82C-D06E767A0AD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8320" y="620640"/>
            <a:ext cx="7807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0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rá somente se a decisão correta puder ser tomada com base apenas na percepçã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iente completamente observ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algun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lvez somente uma imagem não é suficiente para determinar se o carro da frente esta dando sinal de mudança de direção, alerta ou fre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D1F-7957-4CEE-8CEE-CC7AD0E27D50}" type="slidenum">
              <a:t>10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16000" y="2205000"/>
            <a:ext cx="7703640" cy="3327120"/>
            <a:chOff x="1116000" y="2205000"/>
            <a:chExt cx="7703640" cy="3327120"/>
          </a:xfrm>
        </p:grpSpPr>
        <p:sp>
          <p:nvSpPr>
            <p:cNvPr id="137" name=""/>
            <p:cNvSpPr/>
            <p:nvPr/>
          </p:nvSpPr>
          <p:spPr>
            <a:xfrm>
              <a:off x="1979640" y="2347200"/>
              <a:ext cx="6840000" cy="318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27280" y="5286960"/>
              <a:ext cx="67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37000" y="2655000"/>
              <a:ext cx="66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5040" y="252216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6000" y="2347200"/>
              <a:ext cx="606600" cy="3122640"/>
            </a:xfrm>
            <a:custGeom>
              <a:avLst/>
              <a:gdLst>
                <a:gd name="textAreaLeft" fmla="*/ 21960 w 606600"/>
                <a:gd name="textAreaRight" fmla="*/ 584640 w 606600"/>
                <a:gd name="textAreaTop" fmla="*/ 21960 h 3122640"/>
                <a:gd name="textAreaBottom" fmla="*/ 3100680 h 3122640"/>
              </a:gdLst>
              <a:ahLst/>
              <a:rect l="textAreaLeft" t="textAreaTop" r="textAreaRight" b="textAreaBottom"/>
              <a:pathLst>
                <a:path w="21600" h="111139">
                  <a:moveTo>
                    <a:pt x="2699" y="0"/>
                  </a:moveTo>
                  <a:arcTo wR="2699" hR="2699" stAng="16200000" swAng="-5400000"/>
                  <a:lnTo>
                    <a:pt x="0" y="108440"/>
                  </a:lnTo>
                  <a:arcTo wR="2699" hR="2699" stAng="10800000" swAng="-5400000"/>
                  <a:lnTo>
                    <a:pt x="18901" y="11113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4000" y="220500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94480" y="3122640"/>
              <a:ext cx="24526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é a aparência atual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4560" y="2848320"/>
              <a:ext cx="0" cy="32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751640" y="2905920"/>
              <a:ext cx="7146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4320" y="4419000"/>
              <a:ext cx="18068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2120" y="273240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0240" y="316440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61120" y="4660560"/>
              <a:ext cx="20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808520" y="3344400"/>
              <a:ext cx="745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51640" y="3281760"/>
              <a:ext cx="74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3840" y="515124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8080" y="4523400"/>
              <a:ext cx="2396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98040" y="390564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5560" y="484848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5560" y="3407040"/>
              <a:ext cx="0" cy="11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38960" y="3634560"/>
              <a:ext cx="24894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mpacto de 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2B2-4957-4EBF-B2F0-EFA3368960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ntrola a parte do mundo que ele não pode ver agora (agente manté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tern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depende do histórico de percep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gente taxista vai trocar de pista e pode não ver momentaneamente alguns carros à sua v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6C8-0B66-47B4-9EEB-6E5FBF989F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8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deve manter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tern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dependa do histórico de percepções e reflita os aspectos não observados no estad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tipos de conhecimento são necessários para atualizar o estado interno do agente (modelo do mund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 ambiente evolui independente do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arro que está ultrapassando, em geral estará mais perto do que estava um instan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s ações do próprio agente afetam o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agente virar o volante à direita, o carro irá virar p/ a 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87B-FE62-4423-8EBE-442826DC82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55520" y="2204640"/>
            <a:ext cx="7477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que utiliza o modelo de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pouca 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tem objetivo, não encadeia regr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determinístico e pequ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5EB-B88B-4779-832A-0209E1F8870E}" type="slidenum">
              <a:t>1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360" y="5538960"/>
            <a:ext cx="18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71640" y="2276640"/>
            <a:ext cx="7954560" cy="2934720"/>
            <a:chOff x="971640" y="2276640"/>
            <a:chExt cx="7954560" cy="2934720"/>
          </a:xfrm>
        </p:grpSpPr>
        <p:sp>
          <p:nvSpPr>
            <p:cNvPr id="166" name=""/>
            <p:cNvSpPr/>
            <p:nvPr/>
          </p:nvSpPr>
          <p:spPr>
            <a:xfrm>
              <a:off x="1858320" y="2404080"/>
              <a:ext cx="7067880" cy="280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603440" y="502020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2595240"/>
              <a:ext cx="69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7480" y="246132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2404080"/>
              <a:ext cx="626400" cy="2807280"/>
            </a:xfrm>
            <a:custGeom>
              <a:avLst/>
              <a:gdLst>
                <a:gd name="textAreaLeft" fmla="*/ 22680 w 626400"/>
                <a:gd name="textAreaRight" fmla="*/ 603720 w 626400"/>
                <a:gd name="textAreaTop" fmla="*/ 22680 h 2807280"/>
                <a:gd name="textAreaBottom" fmla="*/ 2784600 h 2807280"/>
              </a:gdLst>
              <a:ahLst/>
              <a:rect l="textAreaLeft" t="textAreaTop" r="textAreaRight" b="textAreaBottom"/>
              <a:pathLst>
                <a:path w="21600" h="96760">
                  <a:moveTo>
                    <a:pt x="2699" y="0"/>
                  </a:moveTo>
                  <a:arcTo wR="2699" hR="2699" stAng="16200000" swAng="-5400000"/>
                  <a:lnTo>
                    <a:pt x="0" y="94061"/>
                  </a:lnTo>
                  <a:arcTo wR="2699" hR="2699" stAng="10800000" swAng="-5400000"/>
                  <a:lnTo>
                    <a:pt x="18901" y="9676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6040" y="227664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800" y="3071520"/>
              <a:ext cx="2509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a aparência atual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2728440"/>
              <a:ext cx="0" cy="33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725720" y="2850840"/>
              <a:ext cx="73764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6120" y="4380840"/>
              <a:ext cx="11070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2280" y="311544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407120" y="4509720"/>
              <a:ext cx="20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784400" y="3297240"/>
              <a:ext cx="76968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726080" y="3233520"/>
              <a:ext cx="76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8800" y="489240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6840" y="4318200"/>
              <a:ext cx="2396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622800" y="387000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5280" y="4637520"/>
              <a:ext cx="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5280" y="336096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39320" y="3718800"/>
              <a:ext cx="24894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mpacto de 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7560" y="3680280"/>
              <a:ext cx="2745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será a aparência se f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xecutada a ação 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853520" y="387180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5280" y="3999240"/>
              <a:ext cx="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7200" y="261000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7280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1BA-9718-467C-A745-EA629FEAB1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mbina seu objetivo com as informações sobre os resultados de ações possíveis a fim de escolher ações que alcancem os seu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áxi em um entroncamento de estradas: virar à esquerda, à direita ou ir em fr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áreas da IA dedicadas a encontrar seqüências de ações que alcançam os objetivos do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113-8CA0-4DD7-97EA-661AEB0F6A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79640" y="1557000"/>
            <a:ext cx="7813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recisa de algum tipo de informação sobre o seu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escrevem situações desejáveis. Ex: estar no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ndo informações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resultados de suas 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ode escolher ações que alcancem 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leção da ação baseada em objetivo po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ta: quando o resultado de uma única ação atinge 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complexa: quando será necessário longas seqüências de ações para atingir 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0CD-15E3-403F-B5C6-19AD6865CCD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79640" y="1557000"/>
            <a:ext cx="7813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ncontrar seqüências de ações que alcançam 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omada de decisão envolve a consideração do futuro -&gt; distinta das regras de condição-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e acontecerá se eu fizer isso ou aquil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anto isso me ajudará a atingir o objetiv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reativos: reação -&gt; frear quando carro da frente f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baseado em objetivo: raciocínio -&gt; carro da frente freia -&gt; carro da frente diminui velocidade -&gt; objetivo: não atingir outros carros -&gt; ação para atingir objetivo: f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EF6-0EFC-45FE-A938-56BECD4557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14360" y="5538960"/>
            <a:ext cx="18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489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e des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pl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eficiente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 porém 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lex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utô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trata objetivos confl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s: determinís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B86-33B8-4086-B556-F96B3B95DE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626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782-A869-4985-8FFE-B3D2C1B22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1640" y="2349360"/>
            <a:ext cx="7964280" cy="2697480"/>
            <a:chOff x="971640" y="2349360"/>
            <a:chExt cx="7964280" cy="2697480"/>
          </a:xfrm>
        </p:grpSpPr>
        <p:sp>
          <p:nvSpPr>
            <p:cNvPr id="202" name=""/>
            <p:cNvSpPr/>
            <p:nvPr/>
          </p:nvSpPr>
          <p:spPr>
            <a:xfrm>
              <a:off x="973080" y="3549600"/>
              <a:ext cx="1073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4840" y="2487600"/>
              <a:ext cx="6661080" cy="254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36360" y="4857840"/>
              <a:ext cx="10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6200" y="272268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33720" y="260028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66040" y="473544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71640" y="2487600"/>
              <a:ext cx="1065240" cy="2541600"/>
            </a:xfrm>
            <a:custGeom>
              <a:avLst/>
              <a:gdLst>
                <a:gd name="textAreaLeft" fmla="*/ 38880 w 1065240"/>
                <a:gd name="textAreaRight" fmla="*/ 1026360 w 1065240"/>
                <a:gd name="textAreaTop" fmla="*/ 38880 h 2541600"/>
                <a:gd name="textAreaBottom" fmla="*/ 2502720 h 2541600"/>
              </a:gdLst>
              <a:ahLst/>
              <a:rect l="textAreaLeft" t="textAreaTop" r="textAreaRight" b="textAreaBottom"/>
              <a:pathLst>
                <a:path w="21600" h="51526">
                  <a:moveTo>
                    <a:pt x="2699" y="0"/>
                  </a:moveTo>
                  <a:arcTo wR="2699" hR="2699" stAng="16200000" swAng="-5400000"/>
                  <a:lnTo>
                    <a:pt x="0" y="48827"/>
                  </a:lnTo>
                  <a:arcTo wR="2699" hR="2699" stAng="10800000" swAng="-5400000"/>
                  <a:lnTo>
                    <a:pt x="18901" y="5152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78800" y="234936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1400" y="3063960"/>
              <a:ext cx="2509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a aparência atual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8640" y="4383000"/>
              <a:ext cx="3083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 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7920" y="28432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17920" y="45943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184360" y="2838600"/>
              <a:ext cx="38916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0480" y="4603680"/>
              <a:ext cx="210816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unção de Uti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2520" y="3656160"/>
              <a:ext cx="20138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é o impac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8920" y="313524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200560" y="4198680"/>
              <a:ext cx="102096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330880" y="3646440"/>
              <a:ext cx="8906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136840" y="3184560"/>
              <a:ext cx="8888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0280" y="330048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7560" y="4035600"/>
              <a:ext cx="2724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te novo mundo é melho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7920" y="41893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9000" y="3489480"/>
              <a:ext cx="2745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será a aparência se f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xecutada a ação 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314680" y="3300480"/>
              <a:ext cx="7110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0280" y="3909960"/>
              <a:ext cx="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2560" y="267804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119200" y="3243240"/>
              <a:ext cx="11653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D7B-E2CB-45A2-B582-81F63E3CE2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0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muitas seqüências de ações que levam o agente ao seu objetivo. Algumas mais rápidas, mais seguras, mais econôm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utilidade utilizam uma medida de desempenho (função de utilidade) que permite uma comparação entre diferentes estados do mundo, permitindo selecionar a seqüência de 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F3E-8E06-4D6E-832E-E7B6B7A922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7704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estado do mundo é mais desejável que outro, então ele terá mai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da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função que mapeia um estado para um número real que representa o grau de satisfação com est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completa da função de utilidade – decisões racionais em dois tipos de ca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istem objetivos conflitantes (velocidade x segurança) a função de utilidade especifica o compromisso apropr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istem vários objetivos que se deseja alcançar e nenhum deles pode ser atingido com certeza – ponderar a importância d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B9E-2E51-44F7-B601-F59920FBA8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65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128000" cy="14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rest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va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 tem adap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5F3-F794-4B68-BACA-64B56E635A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16000" y="1844640"/>
            <a:ext cx="7416360" cy="3979440"/>
            <a:chOff x="1116000" y="1844640"/>
            <a:chExt cx="7416360" cy="3979440"/>
          </a:xfrm>
        </p:grpSpPr>
        <p:sp>
          <p:nvSpPr>
            <p:cNvPr id="237" name=""/>
            <p:cNvSpPr/>
            <p:nvPr/>
          </p:nvSpPr>
          <p:spPr>
            <a:xfrm>
              <a:off x="1919160" y="2085120"/>
              <a:ext cx="6613200" cy="373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492560" y="538596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3840" y="252036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56080" y="236412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560" y="522972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184464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8600" y="4212000"/>
              <a:ext cx="7560" cy="10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80440" y="2741040"/>
              <a:ext cx="0" cy="8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3280" y="5032440"/>
              <a:ext cx="132192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Gerador de 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bl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0400" y="2384280"/>
              <a:ext cx="793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r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50000" y="3560760"/>
              <a:ext cx="15476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lemen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3116520" y="4212000"/>
              <a:ext cx="2743200" cy="8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160880" y="4065120"/>
              <a:ext cx="16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60880" y="3623760"/>
              <a:ext cx="16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69200" y="2580120"/>
              <a:ext cx="238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25080" y="2886840"/>
              <a:ext cx="104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vali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7920" y="4212000"/>
              <a:ext cx="0" cy="8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9720" y="4284360"/>
              <a:ext cx="1471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bjetivos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55160" y="3560760"/>
              <a:ext cx="227592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lemen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esempenho (agen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79840" y="332820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o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91560" y="3769200"/>
              <a:ext cx="145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8600" y="2667240"/>
              <a:ext cx="0" cy="88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16000" y="2085120"/>
              <a:ext cx="642240" cy="3738960"/>
            </a:xfrm>
            <a:custGeom>
              <a:avLst/>
              <a:gdLst>
                <a:gd name="textAreaLeft" fmla="*/ 23400 w 642240"/>
                <a:gd name="textAreaRight" fmla="*/ 618840 w 642240"/>
                <a:gd name="textAreaTop" fmla="*/ 23400 h 3738960"/>
                <a:gd name="textAreaBottom" fmla="*/ 3715560 h 3738960"/>
              </a:gdLst>
              <a:ahLst/>
              <a:rect l="textAreaLeft" t="textAreaTop" r="textAreaRight" b="textAreaBottom"/>
              <a:pathLst>
                <a:path w="21600" h="125691">
                  <a:moveTo>
                    <a:pt x="2699" y="0"/>
                  </a:moveTo>
                  <a:arcTo wR="2699" hR="2699" stAng="16200000" swAng="-5400000"/>
                  <a:lnTo>
                    <a:pt x="0" y="122992"/>
                  </a:lnTo>
                  <a:arcTo wR="2699" hR="2699" stAng="10800000" swAng="-5400000"/>
                  <a:lnTo>
                    <a:pt x="18901" y="12569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708120" y="386676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3480" y="2990880"/>
              <a:ext cx="2372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6800" y="2255400"/>
              <a:ext cx="4687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3480" y="4610880"/>
              <a:ext cx="2372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6F4-4044-4062-AA80-85095803AD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5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lemento de aprendizado utiliza realimentação sobre como um agente está funcionando e determina de que maneira o elemento de desempenho deve ser modificado para funcionar melhor no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766-64F3-4310-94D8-6F844FDCA8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5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gentes sem aprendizagem tudo o que o agente sabe foi colocado nele pelo proje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ring propõe construir máquinas com aprendizagem e depois ensiná-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gem também permite ao agente atuar em ambientes totalmente desconhecidos e se tornar mais competente do que o seu conhecimento inicial poderia per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4CD-28A5-47A3-BD13-E547CA218B9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404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rest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 adaptabilidade (apren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882-E5A8-4934-8ACE-692D4F8B6888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de um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ível (completamente observável) x inacessível (parcialmente observáv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tico x dinâ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ístico x não-determin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reto x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ódico x não-episódico (seqü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57A-B5B9-46E3-8923-87FFF1408A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mbientes: propriedade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7560" y="1731600"/>
            <a:ext cx="7497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agente conseguem perceber o estado completo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próximo estado do ambiente pode ser completamente determinado pelo estado atual e as ações selecionadas pelo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xperiência do agente é dividida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pisód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Cada episódio consiste em o agente perceber e então agir. Cada episódio não depende das ações que ocorreram em episódios prév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357-16C6-4C86-B7C1-577FBCB4A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mbientes: propriedad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7151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ambiente não muda enquanto o agente está escolhendo a ação a  realiza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i-dinâm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ambiente não muda enquanto o agente delibera, mas o "score" do agente 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cr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existe um número distinto e claramente definido de percepções e ações em cada turno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ín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ões e ações mudam em um espectro contínuo de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E2B-A49D-4C7E-8EBB-F8FF12454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6707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DD6-BE05-4687-8C95-5DC86BD48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8073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71640" y="2637000"/>
            <a:ext cx="7777080" cy="2449440"/>
            <a:chOff x="971640" y="2637000"/>
            <a:chExt cx="7777080" cy="2449440"/>
          </a:xfrm>
        </p:grpSpPr>
        <p:sp>
          <p:nvSpPr>
            <p:cNvPr id="113" name=""/>
            <p:cNvSpPr/>
            <p:nvPr/>
          </p:nvSpPr>
          <p:spPr>
            <a:xfrm>
              <a:off x="7442280" y="2647800"/>
              <a:ext cx="11192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gen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8120" y="2637000"/>
              <a:ext cx="5970600" cy="244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830600" y="4738320"/>
              <a:ext cx="1412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0600" y="2921040"/>
              <a:ext cx="148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95800" y="275436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4575240"/>
              <a:ext cx="14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71640" y="2637000"/>
              <a:ext cx="1152360" cy="2387520"/>
            </a:xfrm>
            <a:custGeom>
              <a:avLst/>
              <a:gdLst>
                <a:gd name="textAreaLeft" fmla="*/ 42120 w 1152360"/>
                <a:gd name="textAreaRight" fmla="*/ 1110240 w 1152360"/>
                <a:gd name="textAreaTop" fmla="*/ 42120 h 2387520"/>
                <a:gd name="textAreaBottom" fmla="*/ 2345400 h 2387520"/>
              </a:gdLst>
              <a:ahLst/>
              <a:rect l="textAreaLeft" t="textAreaTop" r="textAreaRight" b="textAreaBottom"/>
              <a:pathLst>
                <a:path w="21600" h="44745">
                  <a:moveTo>
                    <a:pt x="2699" y="0"/>
                  </a:moveTo>
                  <a:arcTo wR="2699" hR="2699" stAng="16200000" swAng="-5400000"/>
                  <a:lnTo>
                    <a:pt x="0" y="42046"/>
                  </a:lnTo>
                  <a:arcTo wR="2699" hR="2699" stAng="10800000" swAng="-5400000"/>
                  <a:lnTo>
                    <a:pt x="18901" y="4474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1080" y="3338640"/>
              <a:ext cx="409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al a aparência atual do mundo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3400" y="3994200"/>
              <a:ext cx="382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e ação devo executar agora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1440" y="3067200"/>
              <a:ext cx="0" cy="36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6400" y="3651120"/>
              <a:ext cx="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6400" y="430524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32000" y="3933720"/>
              <a:ext cx="2014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04000" y="3960720"/>
              <a:ext cx="1873440" cy="5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620280" y="3606840"/>
              <a:ext cx="179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515280" y="42210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4A9-F762-4F6F-9F82-68954BBAEF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mai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 ações com base na percepção atual, ignorando o restante do histórico de percep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gente aspirador de pó, porque sua decisão se baseia apenas na posição atual e no fato de essa posição conter ou não sujei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8073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4D8-AC8E-4BF0-BBE8-48A211C1D5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28320" y="620640"/>
            <a:ext cx="7807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70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e 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gras condição-ação: representação inteligível, modular e efi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locidade &gt; 60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u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pode armazenar uma seqüência de percepções, pouca auton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flexo imprescindível em ambientes dinâmic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essível, episódico, peque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8E6-2826-4D03-91E2-24E413DDBDD6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7-08-26T14:50:37Z</dcterms:modified>
  <cp:revision>70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