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D7A-AF19-419C-9D71-3B5BF71C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EAE-252D-4DFD-A142-10DFA030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D56-A718-42C6-AD67-91732296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38B-14D0-42A0-ADA8-57F11150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C0C1B-D4C0-4329-865B-7594CCD64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A7739-12EF-4A16-B9F6-682BA83CE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4C5F-68FA-4F20-BBCF-C9E5D4753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EDD77-F981-4490-987B-95ECF2FC4A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EFA77-9B80-43D0-A901-EEB5F0087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9B4D-B709-4E31-A14D-DEF58588B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6A0D-884C-4CDE-A26E-5C70337D3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1F7-7E5B-40E7-9C86-FB00A26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C3025-E434-4B2A-A202-0C8B64EA9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8A14A-7DD6-4F6A-A795-C18501104F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005F-8B35-4AEC-9A23-8BAE6D7613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5EEA4-D8DB-47AC-BA0A-242387120C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C68B7-14BB-4E8E-AADF-185E8D61B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96B-E1C4-4371-8571-664F0E61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5CB-088C-4785-A283-9C918CCA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002-35EB-470D-9A07-9C96C8EA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E3C-6668-46DA-8577-E9EB4E2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5C0-0498-4B65-8BC7-4B9583A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D10-B023-446C-BACD-59E75771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A9B-475C-409B-8262-15B8848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8DB-7548-41B7-9233-AA33744A0F1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5F85-56E1-4C3B-844A-60DBEF562DC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921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 x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o estado é totalmente determinado pelo estado atual e pela ação executada pelo ag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aspirador de pó (determ.), robô taxista (esto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8FF-9B98-470B-B34A-F603F81BDD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 x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pisódio seguinte depende das ações executadas nos episódios ant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Jogar um dado (ep.), dar o próximo passo (seq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4AC-BF1F-4084-9A93-4B8A6B67E41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 -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367-D388-4285-B773-975EF5F5DC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Mundo do aspirador de pó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824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E15-DFA0-4F0C-B65E-8978ADB799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Mundo do aspirador de pó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tribuição da sujeira e a posição inicial do agente não são conhe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rda, Direita, Aspirar e 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qüência de percepçõe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ercebe sucessivamente a sua posição e se esta posição contém suj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ida de desempenh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ponto para cada quadrado limpo em cada período de tempo até 1.000 períodos de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D40-B263-4839-8C26-758B705DF2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o Mundo do aspirador de pó, identifique o tipo de a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-ASPIRADOR-DE-PÓ-TIPO1([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= suj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i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ão 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=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ão 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= B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E5A-2529-4952-8A70-98B2EA4A3B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amente observável (c.o.) x parcialmente observáve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nsores do agente permitem acesso ao estado completo do amb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futebol de robôs com visão global (?) x visão local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F01-1D97-4160-B972-52D78A1957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 x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o estado é totalmente determinado pelo estado atual e pela ação executada pelo ag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aspirador de pó (?), robô taxist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C4D-CCE1-41CC-BEBB-B0F1B4B7B7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 x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pisódio seguinte depende das ações executadas nos episódios ant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Jogar um dado (?), dar o próximo passo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37F-FDDA-4204-B53C-9F942CC222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amente observável (c.o.) x parcialmente observáve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nsores do agente permitem acesso ao estado completo do amb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futebol de robôs com visão global (c.o.) x visão loca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57E-A2BE-4750-8FAB-8022119482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12T11:55:13Z</dcterms:modified>
  <cp:revision>69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