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8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DF92-9D7C-4A7D-8BD7-3CD262BD85C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5E70-7372-4873-8626-FE2FEBAB0DC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11120" y="803160"/>
            <a:ext cx="4240440" cy="3179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7760" cy="410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acion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acionalidade é limitada (ex. máquina de calcul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604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ão oniciênciente (ex. champs élisé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604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de não ter tem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604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gir para obter mais dados perceptivos é racional! (ex.  relóg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D819-9A77-4013-8BC2-7F0E66DA2EF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11120" y="803160"/>
            <a:ext cx="4240440" cy="31798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7760" cy="410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acion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acionalidade é limitada (ex. máquina de calcul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604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ão oniciênciente (ex. champs élisé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604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de não ter tem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604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gir para obter mais dados perceptivos é racional! (ex.  relóg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E042-DD3F-41D2-BE76-138C894D91D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11120" y="803160"/>
            <a:ext cx="4240440" cy="31798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7760" cy="410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acion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acionalidade é limitada (ex. máquina de calcul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604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ão oniciênciente (ex. champs élisé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604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de não ter tem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604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gir para obter mais dados perceptivos é racional! (ex.  relóg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6C5-A49F-4350-B733-8C50571F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1917-45E7-4BD1-91C0-38404B8B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9811-C441-4473-94D9-59DC5B76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7980-99FE-401A-B650-F130E47C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CABCF-8001-4881-BD14-4C8C4C237E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1AC8E-5243-4B94-A535-9E8C2F9109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A05D3-56AB-4701-A6D3-D0AB628774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DAA65-9F7B-457B-B56F-C24F995C5A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C173A-BFE1-4498-B25F-A3FACFC402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70F00-C9A7-4A5C-8460-92B88E01C9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2A9C7-2DE1-4AB1-9140-AC4F5A4A86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A557-44A9-4C71-B970-0FC587EE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6CD03-39C4-4EAE-B9D3-A4F9E4623E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38AED-AF41-4B03-BC61-B909465716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D4EF1-5189-40AF-B4AF-3A33A451CA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BDAB1-2D18-4DA7-B392-F97859EF78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73759-3B85-46EC-8ACC-555B23C6D5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C339-A221-4FC8-AEFA-61121D02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D572-1EB9-4932-B3FB-AC12B0C6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DB2A-89BD-4AA1-8A57-7158EFD6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72F5-3C4F-425B-B50E-DF14D397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C66D-02E1-49DB-9AE3-0137C07C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D3E-E03B-4D81-BED8-2EAB7806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ABF3-D3EC-4093-9986-54E7780D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-1375" t="0" r="0" b="0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91D2-DC7E-4D7F-AC9E-E7F7F6F0ACC5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4920" y="6237000"/>
            <a:ext cx="576360" cy="620640"/>
            <a:chOff x="34920" y="6237000"/>
            <a:chExt cx="576360" cy="620640"/>
          </a:xfrm>
        </p:grpSpPr>
        <p:sp>
          <p:nvSpPr>
            <p:cNvPr id="8" name=""/>
            <p:cNvSpPr/>
            <p:nvPr/>
          </p:nvSpPr>
          <p:spPr>
            <a:xfrm>
              <a:off x="34920" y="6733800"/>
              <a:ext cx="57636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67480" y="6433920"/>
              <a:ext cx="31464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61560" y="6236640"/>
              <a:ext cx="31356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69640" y="6443280"/>
              <a:ext cx="31464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63000" y="6246360"/>
              <a:ext cx="3153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rcRect l="-1375" t="0" r="0" b="0"/>
          <a:stretch/>
        </p:blipFill>
        <p:spPr>
          <a:xfrm>
            <a:off x="0" y="0"/>
            <a:ext cx="2060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1629-650B-4834-AA47-7CA456B201D0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24000" y="6308280"/>
            <a:ext cx="576000" cy="476640"/>
            <a:chOff x="324000" y="6308280"/>
            <a:chExt cx="576000" cy="476640"/>
          </a:xfrm>
        </p:grpSpPr>
        <p:sp>
          <p:nvSpPr>
            <p:cNvPr id="56" name=""/>
            <p:cNvSpPr/>
            <p:nvPr/>
          </p:nvSpPr>
          <p:spPr>
            <a:xfrm>
              <a:off x="324000" y="66898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6560" y="64594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351000" y="63079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8360" y="64666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352440" y="63154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 rot="16200000">
            <a:off x="-2583360" y="3996360"/>
            <a:ext cx="538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Fonte: José Francisco Salm Junior (Diretor de Engenharia de Sistemas Instituto Stel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trodução a A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 - Ambient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 rot="60000">
            <a:off x="925560" y="1844280"/>
            <a:ext cx="8183520" cy="35528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116000" y="6237360"/>
            <a:ext cx="4319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Fonte: Russel e Norvig, Inteligência Artific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EB4E-18DC-49B0-9DBC-1FFB14165B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 - Estrutur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31640" y="1844280"/>
            <a:ext cx="67071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reativo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reativos baseados em mod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baseados em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baseados na ut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com aprendizag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042920" y="5734080"/>
            <a:ext cx="7488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processo de tomada de decisão através do raciocínio e com conhecimento é central em IA e no projeto de um agente de sucesso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ios para representar conhecimento são import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5B36-8EFA-4744-AB1A-28AC13E65F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 - Estrutur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76000" y="1773360"/>
            <a:ext cx="5915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reativo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0" t="5959" r="0" b="0"/>
          <a:stretch/>
        </p:blipFill>
        <p:spPr>
          <a:xfrm>
            <a:off x="1692360" y="2349360"/>
            <a:ext cx="6048360" cy="367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A5AC-8CD7-487D-9265-F43E1AC464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 - Estrutur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76000" y="1773360"/>
            <a:ext cx="5915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reativos baseados em mod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6084720" cy="386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9053-D9FC-432C-8795-784E87C9DE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 - Estrutur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07640" y="1773360"/>
            <a:ext cx="5915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baseados em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456240" cy="408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FD26-FD47-41A1-AAF7-F81CD5205C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 - Estrutur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907640" y="1773360"/>
            <a:ext cx="5915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baseados na ut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403280" y="2259000"/>
            <a:ext cx="6294600" cy="419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01D8-B24F-4EE0-9FE4-107B65AD1A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 - Estrutur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907640" y="1700280"/>
            <a:ext cx="5915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com aprendiz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403280" y="2205000"/>
            <a:ext cx="6434280" cy="440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FD5-7335-4221-A942-731D49A9CB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A Cláss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58560" y="1628640"/>
            <a:ext cx="7488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etáfora basicamente psic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pessoa ou entidade resolve o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ligênci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tomizada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trita ao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icr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pectos de sua própria racional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2093-67D4-4F2B-96D1-07C0416A03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: Centralizada ou Distribuída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um fa(e)z um pouco, e... somos U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aproveitamos muito o trabalho alhe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nternet nos faz trabalhar de forma mais inteligente (nenhum componente é crític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ão de problemas: Há alguns cuja solução é inerentemente distribuída ou fica mais fácil distribuin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mos centralizados ou distribuídos 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783C-CABB-4F73-8F34-789B88C46EE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971280" y="1484280"/>
            <a:ext cx="7715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que pensar a inteligência/racionalidade como propriedade de um único indivíd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existe inteligênci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um time de futebo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um formiguei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uma empresa (ex. correios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 socied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lução: IA Distribu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gentes simples que juntos resolvem problemas complexos tendo ou não consciência do objetivo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posta por Marvin Minsky e em franca expansã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róprio ambiente pode ser modelado como um ag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: Centralizada ou Distribuída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1164-0D1D-4FB8-A105-5B90676A1E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rodução a A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6165720"/>
            <a:ext cx="7704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Observ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: Este assunto será aprofundado posterior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04AB-E2C4-4873-8B22-48EB2EBE75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A Distribuída (IAD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58560" y="1699920"/>
            <a:ext cx="7497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opulação de a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tônomos que podem interag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táfora da organização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alça a ação e a interação entre os a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lacionada aos macro aspectos dos agentes: agentes enquanto socie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pirada também em lingüística, sociologia, economia,filosofia, biologia e ... Redes Neurai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etáfora basicamente soc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D88-FD89-42A0-82FC-F518F8C972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AD - Quando usar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7280" y="1706400"/>
            <a:ext cx="7715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 comple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vidir e conqui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 jogo dos 8 números, ordenaçã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 intrinsecamente distribuí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 jogos com personagens, administração de sistemas, controle de tráfeg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s exigindo rápido tempo de res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essamento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 busca na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 com domínios de conhecimento ou tare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agente para cada tipo de conhecimento/tare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 usina nu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BA4-19E3-4F47-BE21-9BB84AFA28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perimento do Robô Multi-Human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15640" y="1483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bô simulado por 4 huma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 Cérebro (1 pessoa), raciocin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 Braços (1 por pessoa = 2 pessoas), atu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 sistema de visão (1 pessoa), 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76720" y="3429000"/>
            <a:ext cx="1957320" cy="3056040"/>
          </a:xfrm>
          <a:custGeom>
            <a:avLst/>
            <a:gdLst>
              <a:gd name="textAreaLeft" fmla="*/ 95400 w 1957320"/>
              <a:gd name="textAreaRight" fmla="*/ 1861920 w 1957320"/>
              <a:gd name="textAreaTop" fmla="*/ 95400 h 3056040"/>
              <a:gd name="textAreaBottom" fmla="*/ 2960640 h 3056040"/>
            </a:gdLst>
            <a:ahLst/>
            <a:rect l="textAreaLeft" t="textAreaTop" r="textAreaRight" b="textAreaBottom"/>
            <a:pathLst>
              <a:path w="21600" h="33723">
                <a:moveTo>
                  <a:pt x="3600" y="0"/>
                </a:moveTo>
                <a:arcTo wR="3600" hR="3600" stAng="16200000" swAng="-5400000"/>
                <a:lnTo>
                  <a:pt x="0" y="30123"/>
                </a:lnTo>
                <a:arcTo wR="3600" hR="3600" stAng="10800000" swAng="-5400000"/>
                <a:lnTo>
                  <a:pt x="18000" y="337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318840" y="4869000"/>
            <a:ext cx="90612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33cc"/>
                </a:solidFill>
                <a:latin typeface="Comic Sans MS"/>
              </a:rPr>
              <a:t>Raciocín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616120" y="3195720"/>
            <a:ext cx="5627880" cy="3376440"/>
            <a:chOff x="2616120" y="3195720"/>
            <a:chExt cx="5627880" cy="3376440"/>
          </a:xfrm>
        </p:grpSpPr>
        <p:sp>
          <p:nvSpPr>
            <p:cNvPr id="386" name=""/>
            <p:cNvSpPr/>
            <p:nvPr/>
          </p:nvSpPr>
          <p:spPr>
            <a:xfrm>
              <a:off x="2616120" y="3195720"/>
              <a:ext cx="5627880" cy="3376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51160" y="336744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200" spc="-1" strike="noStrike">
                  <a:solidFill>
                    <a:srgbClr val="0033cc"/>
                  </a:solidFill>
                  <a:latin typeface="Comic Sans MS"/>
                </a:rPr>
                <a:t>Ag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1763640" y="3141720"/>
            <a:ext cx="598680" cy="3484440"/>
          </a:xfrm>
          <a:custGeom>
            <a:avLst/>
            <a:gdLst>
              <a:gd name="textAreaLeft" fmla="*/ 29160 w 598680"/>
              <a:gd name="textAreaRight" fmla="*/ 569520 w 598680"/>
              <a:gd name="textAreaTop" fmla="*/ 29160 h 3484440"/>
              <a:gd name="textAreaBottom" fmla="*/ 3455280 h 3484440"/>
            </a:gdLst>
            <a:ahLst/>
            <a:rect l="textAreaLeft" t="textAreaTop" r="textAreaRight" b="textAreaBottom"/>
            <a:pathLst>
              <a:path w="21600" h="125654">
                <a:moveTo>
                  <a:pt x="3600" y="0"/>
                </a:moveTo>
                <a:arcTo wR="3600" hR="3600" stAng="16200000" swAng="-5400000"/>
                <a:lnTo>
                  <a:pt x="0" y="122054"/>
                </a:lnTo>
                <a:arcTo wR="3600" hR="3600" stAng="10800000" swAng="-5400000"/>
                <a:lnTo>
                  <a:pt x="18000" y="125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cc"/>
                </a:solidFill>
                <a:latin typeface="Comic Sans MS"/>
              </a:rPr>
              <a:t>Amb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914480" y="3832200"/>
            <a:ext cx="952560" cy="3222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cc"/>
                </a:solidFill>
                <a:latin typeface="Comic Sans MS"/>
              </a:rPr>
              <a:t>Sens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14480" y="5708520"/>
            <a:ext cx="952560" cy="3225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cc"/>
                </a:solidFill>
                <a:latin typeface="Comic Sans MS"/>
              </a:rPr>
              <a:t>Atu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76840" y="4691160"/>
            <a:ext cx="954000" cy="48240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cc"/>
                </a:solidFill>
                <a:latin typeface="Comic Sans MS"/>
              </a:rPr>
              <a:t>Obje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94160" y="3511440"/>
            <a:ext cx="1506600" cy="965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cc"/>
                </a:solidFill>
                <a:latin typeface="Comic Sans MS"/>
              </a:rPr>
              <a:t>Interpretação</a:t>
            </a:r>
            <a:br>
              <a:rPr sz="1200"/>
            </a:br>
            <a:r>
              <a:rPr b="0" lang="pt-BR" sz="1200" spc="-1" strike="noStrike">
                <a:solidFill>
                  <a:srgbClr val="0033cc"/>
                </a:solidFill>
                <a:latin typeface="Comic Sans MS"/>
              </a:rPr>
              <a:t>das percepções:</a:t>
            </a:r>
            <a:br>
              <a:rPr sz="1200"/>
            </a:br>
            <a:r>
              <a:rPr b="0" lang="pt-BR" sz="1200" spc="-1" strike="noStrike">
                <a:solidFill>
                  <a:srgbClr val="0033cc"/>
                </a:solidFill>
                <a:latin typeface="Comic Sans MS"/>
              </a:rPr>
              <a:t> I = f(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494160" y="4486320"/>
            <a:ext cx="2172600" cy="1866600"/>
            <a:chOff x="3494160" y="4486320"/>
            <a:chExt cx="2172600" cy="1866600"/>
          </a:xfrm>
        </p:grpSpPr>
        <p:cxnSp>
          <p:nvCxnSpPr>
            <p:cNvPr id="394" name=""/>
            <p:cNvCxnSpPr>
              <a:stCxn id="391" idx="2"/>
              <a:endCxn id="395" idx="3"/>
            </p:cNvCxnSpPr>
            <p:nvPr/>
          </p:nvCxnSpPr>
          <p:spPr>
            <a:xfrm flipV="1" rot="10800000">
              <a:off x="5007960" y="4931640"/>
              <a:ext cx="659160" cy="938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5" name=""/>
            <p:cNvSpPr/>
            <p:nvPr/>
          </p:nvSpPr>
          <p:spPr>
            <a:xfrm>
              <a:off x="3494160" y="5387760"/>
              <a:ext cx="1505160" cy="9651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33cc"/>
                  </a:solidFill>
                  <a:latin typeface="Comic Sans MS"/>
                </a:rPr>
                <a:t>Escolha</a:t>
              </a:r>
              <a:br>
                <a:rPr sz="1200"/>
              </a:br>
              <a:r>
                <a:rPr b="0" lang="pt-BR" sz="1200" spc="-1" strike="noStrike">
                  <a:solidFill>
                    <a:srgbClr val="0033cc"/>
                  </a:solidFill>
                  <a:latin typeface="Comic Sans MS"/>
                </a:rPr>
                <a:t>das  ações:</a:t>
              </a:r>
              <a:br>
                <a:rPr sz="1200"/>
              </a:br>
              <a:r>
                <a:rPr b="0" lang="pt-BR" sz="1200" spc="-1" strike="noStrike">
                  <a:solidFill>
                    <a:srgbClr val="0033cc"/>
                  </a:solidFill>
                  <a:latin typeface="Comic Sans MS"/>
                </a:rPr>
                <a:t>A = g(I,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"/>
            <p:cNvCxnSpPr>
              <a:stCxn id="392" idx="2"/>
              <a:endCxn id="395" idx="0"/>
            </p:cNvCxnSpPr>
            <p:nvPr/>
          </p:nvCxnSpPr>
          <p:spPr>
            <a:xfrm flipV="1" rot="10800000">
              <a:off x="4245840" y="4485960"/>
              <a:ext cx="1080" cy="892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7" name=""/>
          <p:cNvGrpSpPr/>
          <p:nvPr/>
        </p:nvGrpSpPr>
        <p:grpSpPr>
          <a:xfrm>
            <a:off x="2876040" y="5630760"/>
            <a:ext cx="610200" cy="276480"/>
            <a:chOff x="2876040" y="5630760"/>
            <a:chExt cx="610200" cy="276480"/>
          </a:xfrm>
        </p:grpSpPr>
        <p:cxnSp>
          <p:nvCxnSpPr>
            <p:cNvPr id="398" name=""/>
            <p:cNvCxnSpPr>
              <a:stCxn id="395" idx="1"/>
              <a:endCxn id="390" idx="3"/>
            </p:cNvCxnSpPr>
            <p:nvPr/>
          </p:nvCxnSpPr>
          <p:spPr>
            <a:xfrm rot="10800000">
              <a:off x="2875680" y="5869800"/>
              <a:ext cx="610560" cy="1080"/>
            </a:xfrm>
            <a:prstGeom prst="bentConnector2">
              <a:avLst/>
            </a:prstGeom>
            <a:ln w="0">
              <a:noFill/>
            </a:ln>
          </p:spPr>
        </p:cxnSp>
        <p:sp>
          <p:nvSpPr>
            <p:cNvPr id="399" name=""/>
            <p:cNvSpPr/>
            <p:nvPr/>
          </p:nvSpPr>
          <p:spPr>
            <a:xfrm>
              <a:off x="3000960" y="563076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200" spc="-1" strike="noStrike">
                  <a:solidFill>
                    <a:srgbClr val="0033cc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876400" y="3797280"/>
            <a:ext cx="610200" cy="276480"/>
            <a:chOff x="2876400" y="3797280"/>
            <a:chExt cx="610200" cy="276480"/>
          </a:xfrm>
        </p:grpSpPr>
        <p:cxnSp>
          <p:nvCxnSpPr>
            <p:cNvPr id="401" name=""/>
            <p:cNvCxnSpPr>
              <a:stCxn id="389" idx="3"/>
              <a:endCxn id="392" idx="1"/>
            </p:cNvCxnSpPr>
            <p:nvPr/>
          </p:nvCxnSpPr>
          <p:spPr>
            <a:xfrm>
              <a:off x="2876400" y="3993480"/>
              <a:ext cx="610560" cy="1080"/>
            </a:xfrm>
            <a:prstGeom prst="bentConnector2">
              <a:avLst/>
            </a:prstGeom>
            <a:ln w="0">
              <a:noFill/>
            </a:ln>
          </p:spPr>
        </p:cxnSp>
        <p:sp>
          <p:nvSpPr>
            <p:cNvPr id="402" name=""/>
            <p:cNvSpPr/>
            <p:nvPr/>
          </p:nvSpPr>
          <p:spPr>
            <a:xfrm>
              <a:off x="3004560" y="37972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200" spc="-1" strike="noStrike">
                  <a:solidFill>
                    <a:srgbClr val="0033cc"/>
                  </a:solidFill>
                  <a:latin typeface="Comic Sans MS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676840" y="3730680"/>
            <a:ext cx="2424240" cy="644400"/>
          </a:xfrm>
          <a:prstGeom prst="wedgeRoundRectCallout">
            <a:avLst>
              <a:gd name="adj1" fmla="val -93092"/>
              <a:gd name="adj2" fmla="val 15518"/>
              <a:gd name="adj3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Percepções ambient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Própriocepçõ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Percepções comunica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76840" y="5446800"/>
            <a:ext cx="2057400" cy="934920"/>
          </a:xfrm>
          <a:prstGeom prst="wedgeRoundRectCallout">
            <a:avLst>
              <a:gd name="adj1" fmla="val -98148"/>
              <a:gd name="adj2" fmla="val 14004"/>
              <a:gd name="adj3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Ações de alterações ambient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Ações percep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Ações comunica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BC59-6E07-4179-B4D0-F08ABAD71E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- Sistemas Multi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7390080" cy="32878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486440" y="1674720"/>
            <a:ext cx="70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Market: Um Sistema Multiagentes para Compra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on-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07960" y="6308640"/>
            <a:ext cx="6500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Fonte: http://wwwhome.cs.utwente.nl/~alme/cvitae/smarket-techreport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A967-0E38-48B7-8DD5-3E2C7B10B9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16000" y="155700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59640" indent="-359640">
              <a:lnSpc>
                <a:spcPct val="95000"/>
              </a:lnSpc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é qualquer entidade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1951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rceb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eu ambiente através de sensores (ex. câmeras, microfone, teclado,mensagens de outros agentes,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1951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obre ele através de efetuadores (ex. vídeo, auto-falante, impressora, braços, ftp, mensagens para outros agentes,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1951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dida de desempenho: Critério que define o grau de sucesso das 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64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50920" y="4221000"/>
            <a:ext cx="5897520" cy="2303640"/>
            <a:chOff x="2050920" y="4221000"/>
            <a:chExt cx="5897520" cy="2303640"/>
          </a:xfrm>
        </p:grpSpPr>
        <p:sp>
          <p:nvSpPr>
            <p:cNvPr id="113" name=""/>
            <p:cNvSpPr/>
            <p:nvPr/>
          </p:nvSpPr>
          <p:spPr>
            <a:xfrm>
              <a:off x="3035160" y="4221000"/>
              <a:ext cx="4913280" cy="23036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749320" y="6165720"/>
              <a:ext cx="77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28800" y="4600440"/>
              <a:ext cx="76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57600" y="4365720"/>
              <a:ext cx="1303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sens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50920" y="4292640"/>
              <a:ext cx="692280" cy="2089080"/>
            </a:xfrm>
            <a:custGeom>
              <a:avLst/>
              <a:gdLst>
                <a:gd name="textAreaLeft" fmla="*/ 25200 w 692280"/>
                <a:gd name="textAreaRight" fmla="*/ 667080 w 692280"/>
                <a:gd name="textAreaTop" fmla="*/ 25200 h 2089080"/>
                <a:gd name="textAreaBottom" fmla="*/ 2063880 h 2089080"/>
              </a:gdLst>
              <a:ahLst/>
              <a:rect l="textAreaLeft" t="textAreaTop" r="textAreaRight" b="textAreaBottom"/>
              <a:pathLst>
                <a:path w="21600" h="65159">
                  <a:moveTo>
                    <a:pt x="2699" y="0"/>
                  </a:moveTo>
                  <a:arcTo wR="2699" hR="2699" stAng="16200000" swAng="-5400000"/>
                  <a:lnTo>
                    <a:pt x="0" y="62460"/>
                  </a:lnTo>
                  <a:arcTo wR="2699" hR="2699" stAng="10800000" swAng="-5400000"/>
                  <a:lnTo>
                    <a:pt x="18901" y="65159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31280" y="4292640"/>
              <a:ext cx="104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Ag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84880" y="6039000"/>
              <a:ext cx="1629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efetuad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1334520" y="5153400"/>
              <a:ext cx="208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a m b i e n t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95880" y="56707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95880" y="47563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06400" y="5268960"/>
              <a:ext cx="17974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Raciocinad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65480" y="5157720"/>
              <a:ext cx="144396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modelo d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amb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78360" y="4911840"/>
              <a:ext cx="1536840" cy="10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que é um Agent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 Inteli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6920" y="191592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que operam em ambientes imprevisíveis, abertos e em constante mudança, onde há elevada possibilidade de que ações possam falh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que são capazes de ação autônoma flexível, incluindo reatividade, aprendizado, pró-atividade e habilidade so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8D63-409E-4D7C-A97C-5BCCD160D2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16000" y="155700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213480" indent="-213480">
              <a:lnSpc>
                <a:spcPct val="95000"/>
              </a:lnSpc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agente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4560" indent="-115920">
              <a:lnSpc>
                <a:spcPct val="95000"/>
              </a:lnSpc>
              <a:spcBef>
                <a:spcPts val="112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nso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olhos, ouvidos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4560" indent="-115920">
              <a:lnSpc>
                <a:spcPct val="95000"/>
              </a:lnSpc>
              <a:spcBef>
                <a:spcPts val="112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tuado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mãos, pernas, boca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3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13480" indent="-213480">
              <a:lnSpc>
                <a:spcPct val="95000"/>
              </a:lnSpc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agente robó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4560" indent="-115920">
              <a:lnSpc>
                <a:spcPct val="95000"/>
              </a:lnSpc>
              <a:spcBef>
                <a:spcPts val="112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nso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câmeras, detectores da faixa de infravermelho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4560" indent="-115920">
              <a:lnSpc>
                <a:spcPct val="95000"/>
              </a:lnSpc>
              <a:spcBef>
                <a:spcPts val="112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tuado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motores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3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13480" indent="-213480">
              <a:lnSpc>
                <a:spcPct val="95000"/>
              </a:lnSpc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agente d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4560" indent="-115920">
              <a:lnSpc>
                <a:spcPct val="95000"/>
              </a:lnSpc>
              <a:spcBef>
                <a:spcPts val="112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nso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teclas digitadas, conteúdo de arquivos, pacotes de redes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4560" indent="-115920">
              <a:lnSpc>
                <a:spcPct val="95000"/>
              </a:lnSpc>
              <a:spcBef>
                <a:spcPts val="112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tuado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exibição de algo na tela, gravação de arquivos, envio de pacotes de rede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3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813800" cy="4046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16000" y="6237360"/>
            <a:ext cx="4319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Fonte: Russel e Norvig, Inteligência Artific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: metodologia de desenvolviment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6608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3920" indent="-3139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compõe problema 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600" indent="-322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cepções, ações, objetivos e ambiente (e outros age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compõe tipo de conhecimento 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600" indent="-322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is são as propriedades relevantes do mun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600" indent="-322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o mundo evolu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600" indent="-322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identificar os estados desejáveis do mun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600" indent="-322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interpretar suas percepçõ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600" indent="-322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is as conseqüências de suas ações no mun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600" indent="-322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medir o sucesso de suas açõ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600" indent="-322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avaliar seus próprios conhecimen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ica arquitetura e método de resolução de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77B8-9945-43F0-A9E4-0FDCC6D860E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1332000" y="652464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Fonte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esa Ludermir &amp; Jacques Robin, Fundamentos de Inteligência Artificial, Cin-UF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28560" y="1557360"/>
            <a:ext cx="8318160" cy="4761000"/>
            <a:chOff x="628560" y="1557360"/>
            <a:chExt cx="8318160" cy="4761000"/>
          </a:xfrm>
        </p:grpSpPr>
        <p:grpSp>
          <p:nvGrpSpPr>
            <p:cNvPr id="139" name=""/>
            <p:cNvGrpSpPr/>
            <p:nvPr/>
          </p:nvGrpSpPr>
          <p:grpSpPr>
            <a:xfrm>
              <a:off x="628560" y="1557360"/>
              <a:ext cx="8318160" cy="4761000"/>
              <a:chOff x="628560" y="1557360"/>
              <a:chExt cx="8318160" cy="4761000"/>
            </a:xfrm>
          </p:grpSpPr>
          <p:sp>
            <p:nvSpPr>
              <p:cNvPr id="140" name=""/>
              <p:cNvSpPr/>
              <p:nvPr/>
            </p:nvSpPr>
            <p:spPr>
              <a:xfrm>
                <a:off x="943200" y="1587600"/>
                <a:ext cx="686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1600" spc="-1" strike="noStrike">
                    <a:solidFill>
                      <a:srgbClr val="000000"/>
                    </a:solidFill>
                    <a:latin typeface="Arial"/>
                  </a:rPr>
                  <a:t>Agen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542680" y="1587600"/>
                <a:ext cx="619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1600" spc="-1" strike="noStrike">
                    <a:solidFill>
                      <a:srgbClr val="000000"/>
                    </a:solidFill>
                    <a:latin typeface="Arial"/>
                  </a:rPr>
                  <a:t>Dad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256480" y="1824120"/>
                <a:ext cx="1137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1600" spc="-1" strike="noStrike">
                    <a:solidFill>
                      <a:srgbClr val="000000"/>
                    </a:solidFill>
                    <a:latin typeface="Arial"/>
                  </a:rPr>
                  <a:t>perceptiv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282560" y="1587600"/>
                <a:ext cx="608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1600" spc="-1" strike="noStrike">
                    <a:solidFill>
                      <a:srgbClr val="000000"/>
                    </a:solidFill>
                    <a:latin typeface="Arial"/>
                  </a:rPr>
                  <a:t>Açõ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56560" y="1587600"/>
                <a:ext cx="922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1600" spc="-1" strike="noStrike">
                    <a:solidFill>
                      <a:srgbClr val="000000"/>
                    </a:solidFill>
                    <a:latin typeface="Arial"/>
                  </a:rPr>
                  <a:t>Objetiv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635600" y="1587600"/>
                <a:ext cx="922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1600" spc="-1" strike="noStrike">
                    <a:solidFill>
                      <a:srgbClr val="000000"/>
                    </a:solidFill>
                    <a:latin typeface="Arial"/>
                  </a:rPr>
                  <a:t>Ambien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8560" y="155736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8560" y="155736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3760" y="1557360"/>
                <a:ext cx="137628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30040" y="1557360"/>
                <a:ext cx="2376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053800" y="1557360"/>
                <a:ext cx="16020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655800" y="155736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681000" y="1557360"/>
                <a:ext cx="187992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60920" y="155736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86120" y="1557360"/>
                <a:ext cx="17604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46520" y="1557360"/>
                <a:ext cx="2556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372080" y="1557360"/>
                <a:ext cx="154944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21520" y="155736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21520" y="155736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28560" y="1579680"/>
                <a:ext cx="25200" cy="484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030040" y="1579680"/>
                <a:ext cx="23760" cy="484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655800" y="1579680"/>
                <a:ext cx="25200" cy="484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560920" y="1579680"/>
                <a:ext cx="25200" cy="484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346520" y="1579680"/>
                <a:ext cx="25560" cy="484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921520" y="1579680"/>
                <a:ext cx="25200" cy="484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5480" y="2090880"/>
                <a:ext cx="94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Diagnóstic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23480" y="228744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médic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422440" y="2090880"/>
                <a:ext cx="786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Sintomas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07080" y="2287440"/>
                <a:ext cx="1363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paciente, exam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301480" y="2482920"/>
                <a:ext cx="1006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respostas, ..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67000" y="2090880"/>
                <a:ext cx="823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Perguntar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777840" y="2287440"/>
                <a:ext cx="1536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prescrever exames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375800" y="2482920"/>
                <a:ext cx="448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testa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645520" y="2090880"/>
                <a:ext cx="1500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Saúde do paciente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727240" y="2287440"/>
                <a:ext cx="1344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minimizar custo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753320" y="2090880"/>
                <a:ext cx="723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Paciente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651440" y="2287440"/>
                <a:ext cx="906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gabinete, ..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28560" y="2063880"/>
                <a:ext cx="252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3760" y="2063880"/>
                <a:ext cx="137628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30040" y="2063880"/>
                <a:ext cx="2376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053800" y="2063880"/>
                <a:ext cx="16020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655800" y="2063880"/>
                <a:ext cx="252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681000" y="2063880"/>
                <a:ext cx="187992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60920" y="2063880"/>
                <a:ext cx="252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86120" y="2063880"/>
                <a:ext cx="17604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346520" y="2063880"/>
                <a:ext cx="2556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72080" y="2063880"/>
                <a:ext cx="154944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921520" y="2063880"/>
                <a:ext cx="252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28560" y="2085840"/>
                <a:ext cx="25200" cy="66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030040" y="2085840"/>
                <a:ext cx="23760" cy="66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655800" y="2085840"/>
                <a:ext cx="25200" cy="66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560920" y="2085840"/>
                <a:ext cx="25200" cy="66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346520" y="2085840"/>
                <a:ext cx="25560" cy="66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21520" y="2085840"/>
                <a:ext cx="25200" cy="66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4240" y="2776680"/>
                <a:ext cx="823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Análise d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43480" y="2971800"/>
                <a:ext cx="906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imagens d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031760" y="316872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satélit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91280" y="2776680"/>
                <a:ext cx="476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Pixel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042080" y="2776680"/>
                <a:ext cx="1043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imprimir um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019400" y="2971800"/>
                <a:ext cx="1098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categorizaçã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986800" y="2776680"/>
                <a:ext cx="878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categoriza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896440" y="2971800"/>
                <a:ext cx="1043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corretament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650720" y="2776680"/>
                <a:ext cx="906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Imagens d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839000" y="297180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satélit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28560" y="2749680"/>
                <a:ext cx="252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53760" y="2749680"/>
                <a:ext cx="137628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030040" y="2749680"/>
                <a:ext cx="2376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53800" y="2749680"/>
                <a:ext cx="16020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655800" y="2749680"/>
                <a:ext cx="252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681000" y="2749680"/>
                <a:ext cx="187992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560920" y="2749680"/>
                <a:ext cx="252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586120" y="2749680"/>
                <a:ext cx="17604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346520" y="2749680"/>
                <a:ext cx="2556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372080" y="2749680"/>
                <a:ext cx="154944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21520" y="2749680"/>
                <a:ext cx="252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28560" y="2771640"/>
                <a:ext cx="25200" cy="66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030040" y="2771640"/>
                <a:ext cx="23760" cy="66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55800" y="2771640"/>
                <a:ext cx="25200" cy="66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60920" y="2771640"/>
                <a:ext cx="25200" cy="66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346520" y="2771640"/>
                <a:ext cx="25560" cy="66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21520" y="2771640"/>
                <a:ext cx="25200" cy="66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80560" y="3462480"/>
                <a:ext cx="842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Tutorial d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99640" y="3657600"/>
                <a:ext cx="805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portuguê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483280" y="3462480"/>
                <a:ext cx="677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Palavra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458080" y="3657600"/>
                <a:ext cx="723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digitada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761640" y="3462480"/>
                <a:ext cx="1555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Imprimir exercícios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149360" y="3657600"/>
                <a:ext cx="860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sugestões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062960" y="3852720"/>
                <a:ext cx="1015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correções, ..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005520" y="3462480"/>
                <a:ext cx="842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Melhorar 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778000" y="3657600"/>
                <a:ext cx="1262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desempenho d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044760" y="3852720"/>
                <a:ext cx="777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estudant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624800" y="3462480"/>
                <a:ext cx="960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Conjunto d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675560" y="3657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estudant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28560" y="3435480"/>
                <a:ext cx="252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53760" y="3435480"/>
                <a:ext cx="137628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030040" y="3435480"/>
                <a:ext cx="2376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53800" y="3435480"/>
                <a:ext cx="16020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655800" y="3435480"/>
                <a:ext cx="252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681000" y="3435480"/>
                <a:ext cx="187992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560920" y="3435480"/>
                <a:ext cx="252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86120" y="3435480"/>
                <a:ext cx="17604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346520" y="3435480"/>
                <a:ext cx="2556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372080" y="3435480"/>
                <a:ext cx="154944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921520" y="3435480"/>
                <a:ext cx="252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28560" y="3457440"/>
                <a:ext cx="25200" cy="662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030040" y="3457440"/>
                <a:ext cx="23760" cy="662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655800" y="3457440"/>
                <a:ext cx="25200" cy="662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560920" y="3457440"/>
                <a:ext cx="25200" cy="662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346520" y="3457440"/>
                <a:ext cx="25560" cy="662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921520" y="3457440"/>
                <a:ext cx="25200" cy="662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43480" y="4146480"/>
                <a:ext cx="906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Filtrador d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110240" y="4343400"/>
                <a:ext cx="512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email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358000" y="4146480"/>
                <a:ext cx="906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mensage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857400" y="4146480"/>
                <a:ext cx="1399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Aceitar ou rejeita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124880" y="4343400"/>
                <a:ext cx="906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mensage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724360" y="4146480"/>
                <a:ext cx="1363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Aliviar a carga d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709960" y="4343400"/>
                <a:ext cx="1381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leitura do usuári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632360" y="4146480"/>
                <a:ext cx="94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Mensagens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772400" y="4343400"/>
                <a:ext cx="686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usuário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28560" y="411948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53760" y="4119480"/>
                <a:ext cx="137628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030040" y="4119480"/>
                <a:ext cx="2376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053800" y="4119480"/>
                <a:ext cx="16020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55800" y="411948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81000" y="4119480"/>
                <a:ext cx="187992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60920" y="411948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586120" y="4119480"/>
                <a:ext cx="17604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346520" y="4119480"/>
                <a:ext cx="2556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372080" y="4119480"/>
                <a:ext cx="154944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921520" y="411948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8560" y="4141800"/>
                <a:ext cx="2520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030040" y="4141800"/>
                <a:ext cx="2376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655800" y="4141800"/>
                <a:ext cx="2520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560920" y="4141800"/>
                <a:ext cx="2520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346520" y="4141800"/>
                <a:ext cx="2556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921520" y="4141800"/>
                <a:ext cx="2520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03160" y="483228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Motorista d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84760" y="5029200"/>
                <a:ext cx="284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táx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462040" y="4832280"/>
                <a:ext cx="713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Imagens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23080" y="5029200"/>
                <a:ext cx="969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velocímetro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43840" y="5224320"/>
                <a:ext cx="38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so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921480" y="4832280"/>
                <a:ext cx="1271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brecar, acelerar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80800" y="5029200"/>
                <a:ext cx="1344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dobrar, falar com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17960" y="5224320"/>
                <a:ext cx="1098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passageiro, ..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980320" y="4832280"/>
                <a:ext cx="887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Segurança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652360" y="5029200"/>
                <a:ext cx="1482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rapidez, economia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00120" y="5224320"/>
                <a:ext cx="851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conforto,..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426800" y="4832280"/>
                <a:ext cx="1317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Ruas, pedestres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745040" y="5029200"/>
                <a:ext cx="732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carros, ..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28560" y="480528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53760" y="4805280"/>
                <a:ext cx="137628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030040" y="4805280"/>
                <a:ext cx="2376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053800" y="4805280"/>
                <a:ext cx="16020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655800" y="480528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681000" y="4805280"/>
                <a:ext cx="187992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560920" y="480528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86120" y="4805280"/>
                <a:ext cx="17604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346520" y="4805280"/>
                <a:ext cx="2556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372080" y="4805280"/>
                <a:ext cx="154944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921520" y="480528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28560" y="4827600"/>
                <a:ext cx="2520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30040" y="4827600"/>
                <a:ext cx="2376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655800" y="4827600"/>
                <a:ext cx="2520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560920" y="4827600"/>
                <a:ext cx="2520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346520" y="4827600"/>
                <a:ext cx="2556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921520" y="4827600"/>
                <a:ext cx="2520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06680" y="5518080"/>
                <a:ext cx="1152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Músico de jazz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96000" y="5518080"/>
                <a:ext cx="1198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Sons seus e d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56040" y="5713560"/>
                <a:ext cx="1271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outros músicos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427480" y="5910120"/>
                <a:ext cx="777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grades d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507760" y="6105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acord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16080" y="5518080"/>
                <a:ext cx="1280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Escolher e toca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38240" y="5713560"/>
                <a:ext cx="1609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notas no andament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862240" y="5518080"/>
                <a:ext cx="1107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Tocar bem, s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780880" y="5713560"/>
                <a:ext cx="1253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divertir, agrada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761600" y="5518080"/>
                <a:ext cx="704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Músicos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481160" y="5713560"/>
                <a:ext cx="1216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publico, grad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73040" y="591012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de acord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8560" y="549108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53760" y="5491080"/>
                <a:ext cx="137628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030040" y="5491080"/>
                <a:ext cx="2376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053800" y="5491080"/>
                <a:ext cx="16020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655800" y="549108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681000" y="5491080"/>
                <a:ext cx="187992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60920" y="549108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86120" y="5491080"/>
                <a:ext cx="17604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346520" y="5491080"/>
                <a:ext cx="2556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372080" y="5491080"/>
                <a:ext cx="154944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921520" y="549108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28560" y="5513400"/>
                <a:ext cx="25200" cy="78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28560" y="629604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8560" y="629604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53760" y="6296040"/>
                <a:ext cx="137628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030040" y="5513400"/>
                <a:ext cx="23760" cy="78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030040" y="6296040"/>
                <a:ext cx="2376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053800" y="6296040"/>
                <a:ext cx="16020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655800" y="5513400"/>
                <a:ext cx="25200" cy="78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655800" y="629604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681000" y="6296040"/>
                <a:ext cx="187992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560920" y="5513400"/>
                <a:ext cx="25200" cy="78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5560920" y="6296040"/>
              <a:ext cx="2520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86120" y="6296040"/>
              <a:ext cx="176040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46520" y="5513400"/>
              <a:ext cx="25560" cy="78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6520" y="6296040"/>
              <a:ext cx="255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72080" y="6296040"/>
              <a:ext cx="1549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921520" y="5513400"/>
              <a:ext cx="25200" cy="78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921520" y="6296040"/>
              <a:ext cx="2520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921520" y="6296040"/>
              <a:ext cx="2520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528C-7C76-42D7-91A4-F56DB4C4A9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 - Ambient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7280" y="1988640"/>
            <a:ext cx="6553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-2541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letamente observável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ersu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cialmente observ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rminístic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stocá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pisódic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eqü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átic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inâ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cret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ntín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 únic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multia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5783-DB82-407E-AB3D-5774F089FC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5-08T10:10:58Z</dcterms:modified>
  <cp:revision>685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