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DD2-37DA-4BB2-AEE2-74706C9F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FD1-A2E9-4094-959E-F24202C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136-B328-4D9E-A1B9-A1C89F3F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1E2-C9F0-4FC3-93EE-C4A4E9B1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9BB80-6829-46E9-BE6B-03381EFB1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3DFF-6874-46A4-B296-ED66B5658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131C-B681-42E2-BE2C-E5D0BD99EF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1216-7904-4819-9A1B-D44FCB992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0E600-F3F0-4162-83E2-4A225860F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0B54F-6F1A-4E3C-BCB2-6DC542F99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DC837-8F79-476F-89F0-A880FFE2B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54A-688F-46E4-B672-C3A99F82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90956-FCAA-4C65-8FE9-F57E9E8D2D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77C26-32A5-4076-9D48-AA843E30C3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5AC9D-6307-4970-9673-1D9B718FE1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65416-E408-4B16-B2DB-1715A98EF0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399A1-8AB4-4C5E-A982-A5C4BC182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C8C-B2E5-43FF-B15F-BBE0D543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765-02ED-47A1-BC3B-7086818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C30-3942-4C18-87B3-E7DEB90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95D-A67B-43F8-84CC-8D0E2A5F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8A7-D99E-4370-8540-7DCDF6A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24D-17F7-4ECD-874E-1CBDA90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D5A-FEA9-4D60-AEE4-C29DCBE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84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B387-2459-4898-865D-1EC22F79D07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8B1-A144-4F01-8183-E105DAAF032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4007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crição de Projeto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emestre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ffffff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a palavra secre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Domin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Batalha Na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o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CD5-9AED-4A0E-ACCE-88277869F1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iagnóstico de glomerulopatias primári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de log de sistemas operacionais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Genéticos Paralelos (Mochila Biná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ificador de Expressões 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223-6A5B-4E70-A6A3-DF1E4A5D7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Reconhecimento de Palavras Isoladas (Dígitos) Dependente do Lo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e Agentes Móveis para busca otimizada de dad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A64-10F3-40D5-B758-05A31ADB3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989000"/>
            <a:ext cx="7416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go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ocação de Disciplinas a Profess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t para o jogo Qu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Prolog contendo regras para diagnóstico da de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F6A-682F-4F58-A146-3FE873A42E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989000"/>
            <a:ext cx="7416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ificial Judge (Indeniza Brasil 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Baseado em Casos Aplicado à Negociação de Ações na Bolsa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F20-9418-40C1-948A-139584A606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7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erramenta Detectora de Spam Utilizando Rede Bayes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e Técnicas básicas para implementação de um Robocode Ofen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Carteiro”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Heurísticas para o jogo Resta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mparador de Passagens Aé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undo do Wumpus, uma abordagem difere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C3F-54FB-46F5-8597-50E1A08A9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7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owmi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doku Solver - Análise de Heurísticas par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o jogo 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Heurísticas de um Robocode Defen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ador de Árvores de Decisões utilizando o algoritmo I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3EE-11FF-4AB9-9B3F-CDDCF0492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Jogador Inteligente de Relan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birinto do Minota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etecção de Substâncias que Provocaram Enven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mart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- Gerador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443-C9C7-4F0A-B20C-D93826359B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o problema do Caixeiro Viajante através de 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em Inteligência Artifi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ugo, o robô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adrez Intelig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-Queens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454-8A80-4091-95BF-EC49FC0D85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Detecção de Falha utilizando o modelo Accrual co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dap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o algoritmo do formigu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uzzy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mart Snak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Jogo da Cobra Autô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Avaliação de Riscos na Adoção de Tecnologi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545-B127-425E-A937-339B8A92DA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nt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para Reconhecimento de Impress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AL - Sistema Especialista para Auxílio na Escolha de Person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E90-6D34-476C-8029-558900A0E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imento de Caracteres utilizando uma rede neura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ra Bolsa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Girafas (Algoritmo Gené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06D-B45C-4282-AEA4-A0A99D920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neGrade: Um algoritmo genético para escalonamento de aplicações em grade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Combate entr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 via Regras para o escalonamento de bombas hidráu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84E-B18D-4130-8E9B-44368EC6C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8T02:49:33Z</dcterms:modified>
  <cp:revision>9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