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121-4CDF-48AE-A0D1-48598829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4FD-9C9E-4C4A-B030-14197513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0A9-0BA4-44C2-B983-2D8BA56A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198-F704-4C15-A89D-01882DB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786A8-5571-46DD-96C4-B35C60B7C2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DA596-BCD0-4BDA-B17F-2B1211EEEB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7A409-4B58-4C40-A4B3-A038B3095F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65B16-20C4-4294-B3A2-70B83D1ADB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1F407-3BC6-4A68-B345-6878CEE407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B9189-59BB-46E5-838A-B053BC1F6F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57802-C783-4952-920F-27BE6FB75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F0C-D36A-4156-9684-1E6976EB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C3164-EB14-4386-90A8-1B46733A1B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E56C7-ABB4-4DD0-B230-A1DC223F1F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FB6BC-53AB-42AE-9DF0-EEC1EA71B9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841B0-402B-4145-BD09-81CEA7782A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E2F91-E6DA-43CC-B828-C370039D8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20C-2E5A-4FEB-9074-FB479AC8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638-51F9-4F9A-BB87-53A9216A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7FF-A944-45F7-8498-050B599C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82B-DEBC-492C-9652-8D0FFB0C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480-D441-4D47-AE18-2D26FFA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22C-E4FB-4E78-82FF-38CCE603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DC0-DCED-41DE-A341-DBB2764B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A455-6DEA-4F10-B015-AAD37CB4722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9D2-F43A-4D93-B446-F00B560CCD9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dmoz.org/Computers/Artificial_Intelligence/Companies/" TargetMode="External"/><Relationship Id="rId2" Type="http://schemas.openxmlformats.org/officeDocument/2006/relationships/hyperlink" Target="http://www.businessweek.com/bw50/content/mar2003/a3826072.htm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640" y="2179440"/>
            <a:ext cx="54007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144960" y="3219840"/>
            <a:ext cx="652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Figura: Capa do Livro Russell, S., Norvig, P. </a:t>
            </a:r>
            <a:r>
              <a:rPr b="1" i="1" lang="pt-BR" sz="900" spc="-1" strike="noStrike">
                <a:solidFill>
                  <a:srgbClr val="ffffff"/>
                </a:solidFill>
                <a:latin typeface="Verdana"/>
              </a:rPr>
              <a:t>Artificial Intelligence – A Modern Approach</a:t>
            </a: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, Prentice-Ha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s fundamentos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1916280"/>
            <a:ext cx="157176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76320" y="2349360"/>
            <a:ext cx="139968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0520" y="3789360"/>
            <a:ext cx="178380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uroci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4880" y="2349360"/>
            <a:ext cx="130068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loso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3789360"/>
            <a:ext cx="158436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güís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4320" y="5300640"/>
            <a:ext cx="145620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sic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37200" y="3594240"/>
            <a:ext cx="761760" cy="777600"/>
            <a:chOff x="4237200" y="3594240"/>
            <a:chExt cx="761760" cy="777600"/>
          </a:xfrm>
        </p:grpSpPr>
        <p:sp>
          <p:nvSpPr>
            <p:cNvPr id="132" name=""/>
            <p:cNvSpPr/>
            <p:nvPr/>
          </p:nvSpPr>
          <p:spPr>
            <a:xfrm>
              <a:off x="4431240" y="3800160"/>
              <a:ext cx="439560" cy="366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37200" y="3594240"/>
              <a:ext cx="761760" cy="7776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83160" y="2400480"/>
            <a:ext cx="0" cy="1028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005360"/>
            <a:ext cx="1368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5440" y="4349880"/>
            <a:ext cx="1366920" cy="807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5440" y="5300640"/>
            <a:ext cx="164196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iberné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3160" y="4537080"/>
            <a:ext cx="0" cy="94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5589720"/>
            <a:ext cx="2232000" cy="641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genharia de Compu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003640" y="2708280"/>
            <a:ext cx="1297080" cy="93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3933720"/>
            <a:ext cx="1330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2708280"/>
            <a:ext cx="1336680" cy="95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700000" y="4292640"/>
            <a:ext cx="1438200" cy="865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378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91592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Intelig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udada há mais de 2000 anos por filósof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aciocínio, memória, aprendizado, vi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rgiu na década de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uda a inteligência de maneira teórica e experi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43280" y="3141720"/>
            <a:ext cx="3781440" cy="3141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urch e Turing estabelecem limites para aquilo que pode ser resolvido por computadores, introduzindo o conceito de computabilidade (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"Mas podem as máquinas pensar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mosa pergunta feita em 1950 por Alan Turing (Teste de Tu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43280" y="3141720"/>
            <a:ext cx="3781440" cy="3141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560" y="1915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imeiro trabalho (1943) -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cCulloch and Pitts: implementação dos operadores lógicos através de uma rede ne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meiro Evento (19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well and Simon – Logic Theorist (resolvedor de teore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43280" y="3141720"/>
            <a:ext cx="3781440" cy="3141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PS (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General Problem Solver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1960 ) - Newell and Si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nguagem LISP (1958) – McCart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icromundos (1963) – Minsky (problemas de domínios limit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mundo dos blocos  (19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nguagem Prolog (1970) - Edinburgh/Marsei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rge o nom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teligência Artifici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pós um workshop entre grandes nomes como: John McCarthy, Arthur Samuel (IBM), Ray Solomonoff e Oliver Selfridge (MI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73408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a cena do mundo de blo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60343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eiro experimento feito para tentar realizar o “Teste de Turing” - Eliza (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programa criado pelo pesquisador Joseph Weizenbaum, do MIT, que simulava uma psicóloga virtual usando trechos das frases dos usuários para compor as respostas e estimulava o “paciente” a se aprofundar cada vez mais nos detalhes dos seus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de diálogo com a Eli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liz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lá, conte-me o seu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uári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u não me relaciono bem com as outras pesso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liz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por que você acha que você não se relaciona bem com as outras pesso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uári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is estou sempre sozin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6165720"/>
            <a:ext cx="6912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Exemplo de software de Inteligência Artificial para criação de personagens virtuais: www.inbot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meiros programas  de tradução automática (artigos científicos Russo – Inglês) caíram em des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espírito é forte mas a carne é fr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vodka é boa mas a carne é po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inanciamentos cancelados em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ressurgimento do entusia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istemas especi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0/198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Alguns sistemas famo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RLDU (interface em  linguagem natural aplicado ao mundo de bloco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YCIN (diagnóstico médico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(interface para geólogos interrogarem sobre as amostras de rochas trazidas pela Appolo na missão lunar - o primeiro usado por pessoas que não os projetistas do sistem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rojeto japonês: a quinta geração de computadores (IA, Prolog, PLN) repercussões no financiamento global para a área de 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m projetos mais reais, a IA começa a ser utilizada na indústria, promovendo cortes de despesas e otimização de taref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1 - o primeiro "expert system" de sucesso que iniciou suas atividades na Digital Equipment - economia de 40 milhões de dólares por ano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1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é 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Ess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s de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eep blue vence Kaspa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s de bu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es de alta velo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rdware específico para xad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A é o elemento fundamental nas mais diversas ferramentas disponíveis na Internet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ualm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sada em grande escala, posta a prova pelos militares americanos na operação Desert Storm, na guerra do Iraque (Mísseis teleguiados e sensores de visão notu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ndência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passagem de sistemas experimentais para aplicações reais de grande esc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ção de conheci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nhecimento da f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bó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indo humanamente (anos 50-70):  Teste de Tu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“mito do cérebro eletrônico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925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nsando humanamente (anos 50-60): simulação cognitiv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Simon &amp; Newe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as inspirações (GPS, Sistemas Especialistas,...) mas fraca justificativa para os resultados ob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nsando idealmente (anos 60-70): A escola logicist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McCarth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 de formalismos de representaçã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s: escassez de recursos computacionais, limitação dos tipos de infer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indo idealmente (anos 80 em diante): Agente inteligent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Newell, Minsky, Russel &amp; Norvi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rangente (atividades), unificador (domínios da IA), excelente framework para projeto e análise de prog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aradigmas de Raciocínio da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bólic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metáfora lingü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sistemas de produção, agentes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exionista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áfora cereb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redes ne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olucionista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áfora da natur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algoritmos genéticos, vida artifici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tístico/Probabil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Redes Bayesianas, sistemas difuso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uzz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aradigma Simból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est é criminoso ou não?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lei americana diz que é proibido vender armas a uma nação hostil. Cuba possui alguns mísseis, e todos eles foram vendidos pelo Capitão West, que é americano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o resolver automaticamente este problema de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lassificaç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gundo a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IA (simbólica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é preci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domínio (modelo do probl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á-lo utilizando um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ingu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ormal de re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r um mecanism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fer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utilizar ess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62643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aradigma Conexionista -Redes Neur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9000"/>
              </a:lnSpc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inição “Romântica”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écnica inspirada no funcionamento do cérebro, em que os neurônios artificiais, conectados em rede, são capazes de aprender e de gener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inição “Matemática”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écnica de aproximação de funções por regressão não 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uma outra abord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m - redes de elemento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ciocínio - aprender diretamente a função entrada-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56739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aradigma </a:t>
            </a: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volutiv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71640" y="4436640"/>
            <a:ext cx="776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OLU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ersidade é gerada por cruzamento e mu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eres mais adaptados ao seus ambientes sobrevivem (seleção nat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aracterísticas genéticas de tais seres são herdadas pelas próximas g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048200" cy="1795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16000" y="1628640"/>
            <a:ext cx="331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finição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étodo probabilista de busca para resolução de problemas (otimização) “inspirado” na teoria da evol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s de Aplicação da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temát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emonstração de teoremas, resolução simbólica de equações, geometr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quisa operacion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otimização e busca heurística em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g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xadrez, damas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de linguagem natural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tradução automática, verificadores ortográficos e sintáticos, interface vocal, reconhecimento da fala, de locuto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tutor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modelagem do aluno, escolha de estratégias pedagógic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cepç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visão, tato, audição, olfato, palada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ót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software e hardware): manipulação, navegação, monitorament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s de Aplicação da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stemas especialist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ividades que exige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onhecimento especializado e não form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s: diagnóstico, previsão, monitoramento,  análise, planejamento, projet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s: medicina, finanças, engenharia, química, indústria, arquitetura, arte, computação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ut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genharia de software (sobretudo na 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ção auto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faces adaptat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ncos de dados dedutivos e 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eração de dados (data m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istribuíd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A - Limita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8560" y="2923920"/>
            <a:ext cx="705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inda existem muitas limitações nas questões relacionadas à Inteligência Artifi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: desenvolver sistemas para realizar tarefas que, no m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melhor realizadas por seres humanos que por máquinas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possuem solução algorítmica viável pela computação conve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oduzir o comportamento inteligent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entidades inteligentes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6165720"/>
            <a:ext cx="720072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o ser humano pode, por que não a máquina?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tese de Church-Tu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Órgãos/Empresas de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8172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sas especializadas em 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dmoz.org/Computers/Artificial_Intelligence/Compani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s empresas desenvolvendo e utilizando 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BM, HP, Sun, Microsoft, Unisys, Google, Amazon.com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s empresas utilizando 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businessweek.com/bw50/content/mar2003/a382607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al-Mart, Abbot Labs, US Bancorp, LucasArt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Órgãos governamentais utilizando 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 National Security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51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luridisciplinaridade da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225600" y="251460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07120" y="22860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Aplic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36680" y="18288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Tare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95560" y="182880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Inspi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2209680"/>
            <a:ext cx="1447920" cy="415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Filoso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Mate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Proba. e Esta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Cál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esquis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c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oci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Lingü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sic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Bi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utomação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mputa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tradi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1447920" cy="286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Busca heur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epresenta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do conheci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e Raciocíni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auto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lanej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prendizagem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Aquisiçã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nhec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stema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Multi-Ag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econheci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de Padr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666880"/>
            <a:ext cx="1600200" cy="364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Jo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stema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Especial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ercep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mput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Vis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Process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  de V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Integraçã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  S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rocessament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Linguagem Na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obó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Nave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Manip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2209680"/>
            <a:ext cx="1371600" cy="353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lassif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revis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Monitor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iagnóstico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Interpre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ns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scal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lo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Filtr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m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8028000" cy="345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2062080"/>
            <a:ext cx="7920000" cy="432000"/>
          </a:xfrm>
          <a:prstGeom prst="rect">
            <a:avLst/>
          </a:prstGeom>
          <a:noFill/>
          <a:ln w="3168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221000"/>
            <a:ext cx="7920000" cy="432000"/>
          </a:xfrm>
          <a:prstGeom prst="rect">
            <a:avLst/>
          </a:prstGeom>
          <a:noFill/>
          <a:ln w="3168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1989000"/>
            <a:ext cx="3744720" cy="345600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1989000"/>
            <a:ext cx="3743280" cy="3456000"/>
          </a:xfrm>
          <a:prstGeom prst="rect">
            <a:avLst/>
          </a:prstGeom>
          <a:noFill/>
          <a:ln w="3168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155736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umas definições de IA, organizadas em 4 catego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5589720"/>
            <a:ext cx="65786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9900"/>
                </a:solidFill>
                <a:latin typeface="Arial"/>
              </a:rPr>
              <a:t>Processos de pensamento e raciocí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cc"/>
                </a:solidFill>
                <a:latin typeface="Arial"/>
              </a:rPr>
              <a:t>Comport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Sucesso em termos de fidelidade ao desempenho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9900"/>
                </a:solidFill>
                <a:latin typeface="Arial"/>
              </a:rPr>
              <a:t>Sucesso comparando-o com o conceito ideal de inteligência (racionalid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5640" y="19224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rd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ntradas em torno de sere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ência empírica, envolvendo hipóteses e confirmação experi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ntradas em torno da racional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olve uma combinação de Matemática e Engenh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indo de forma hum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abordagem do teste de 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de linguagem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ciocínio automat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de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ão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ó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nsando de forma hum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estratégia de modelagem cogn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ência cognitiva - reúne modelos computacionais da IA e técnicas experimentais da psicologia para tentar construir teorias precisas e verificáveis a respeito dos processos de funcionamento da mente hu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nsando racionalm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abordagem das “leis do pensam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tativa de codificação do “pensamento correto” – processos de raciocínios irrefut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u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logism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orneceram padrões para estruturas de programas que sempre resultavam em conclusões corretas ao receberem premissas corr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leis do pensamento deveriam governar a operação da 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nsando racionalm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abordagem de agente 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é simplesmente algo que age (latim –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ge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faz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 racional – age para alcançar o melhor resultado ou, quando há incerteza, o melhor resultado espe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05T10:58:31Z</dcterms:modified>
  <cp:revision>8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