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CF7-F63E-4FE7-B1C4-2A5BE10B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E07-9518-48C6-A278-B03D635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FB8-372C-472D-AD86-769349CF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A6E-605B-448D-BA81-698C32F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F978-196D-4E6C-B275-5F51CD20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EE90-9EBF-4A2B-8C80-AAFC5EAE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67FC-96F3-4912-AAF2-3CE68F7F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C0B2-A72C-4E91-856A-AD8100F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D62-CBB2-40B3-B84A-56FFAFA0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58FD-9205-41E4-A94E-4FA12E5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9C2-4249-460D-94E3-19CC4827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3DD-BA3A-4A61-BBEF-A42E3E8E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9BD-5A3B-4B8E-8168-8E71865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CBA1-4A4A-4C40-B896-1DAAA05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20E9-A3E2-4722-B14B-2751B43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343-A7D1-439D-A744-656B2E41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E785-C77C-4580-BE59-7D491578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0F5-DE53-489F-BFEC-1D19EF4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B25-9E9D-48F9-80E0-1DA1D03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063-3BAB-4D19-A693-5CAA3FF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058-C6BB-46CA-92F9-57237C4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381-75DA-4CBF-BDE6-BD0681D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4D8-1E77-4780-844F-A98ED53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309-9A14-4A78-9860-FC268F6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BDBD-45A1-452F-9D6C-51DFC1CA637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1604880"/>
            <a:ext cx="5545080" cy="434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09A6-C8BC-42F8-86DE-EEE3F89373E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927520"/>
            <a:ext cx="4199040" cy="69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2923920"/>
            <a:ext cx="403236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57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PRESENTAÇÃO DA DISCIP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11280" y="206064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eligência Artificial 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000000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Inteligência Artificial busca entender a mente humana e imitar o seu comportamento [BOOSE, 94], levantando questões tai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ocorre o pens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o homem extrai o conhecimento do mu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a memória, os sentidos e a linguagem ajudam no desenvolvimento da inteligê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surgem as idé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a mente processa informações e tira conclusões decidindo por uma coisa ao invés de out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sas são algumas perguntas que a IA precisa responder para simular o raciocínio humano e implementar aspectos da inteli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41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ligência humana está aliada a sua capacidade de interagir com o meio através de habilidad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gni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entidos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ota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ção), ou s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moviment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er sons (fala) e imag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xpress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esforço, principalmente no campo da robótica, no sentido de implementar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máquinas inteli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, para propic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maior interação com o meio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er padrões de inteligência envolvidos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sição do conhec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nhec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4134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ciplina busca possibilitar ao aluno: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ntendimento de sistemas computacionais dentro de uma perspectiva da Inteligência Artifi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amiliaridade com as metodologias e técnicas de desenvolvimento de sistemas intelig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23560" y="1984320"/>
            <a:ext cx="7410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. Resolução de problemas. Métodos de busca. Conhecimento e raciocínios precisos e imprecisos. Aprendizagem. Comunicação. Ação.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requis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e Técnicas de Algorit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digmas de Linguagens de 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ópicos em Estatística Exploratóri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1 - Introduçã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1 - O que é I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2 - Históric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3 - Características Essenciai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4 - O Teste de Turing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5 - Domínios de Aplic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2 - Introdução a Pro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1 - Lógica e Programa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2 - A linguagem Prolog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3 - Sintaxe, Semântica e Operador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4 - Processamento de List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5 - Controle e Estruturas de D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6 - Entrada e Saí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3 - Resoluçã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1 - Espaço de Est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2 - Árvores e Grafos de Problem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3 - Métodos de Busc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4 - Grafos E/OU e Redução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4 - Representação do Conhe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1 - Intro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2 - Lógica de Predic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3 - Regras de Pro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4 - Redes Semântic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5 - Tratamento de Incertez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6 - Raciocínio Estatí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5 - 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1 - Agentes e IA Distribuí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6 - Aprendiz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1 - In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2 - Descober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3 - Analogi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4 - Redes Neur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7 - Tópicos Avanç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1 - Vis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3 - Sistemas Especialist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4 - Processamento de Linguagem Natural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5 - Algoritmos Genétic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6 – Outros tóp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23560" y="2214720"/>
            <a:ext cx="7410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20720" y="3213000"/>
            <a:ext cx="633600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18920" y="3284640"/>
            <a:ext cx="63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é Inteligência Artifici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98440" y="2290680"/>
            <a:ext cx="71042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ín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valiações individuais e trabalhos em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viduais e em gru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de pesquisa em sala de au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ão consideradas 3 notas (com pesos iguais) para cálculo da média final na disciplina, a sa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ª - Avali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ª -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ª - Projeto: com plano de trabalho, seminário de apresentação, demonstração, relatório, código fonte, docum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 obrigatória para a discip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verá reposição apenas para os alunos que faltarem às avaliações 1 ou 2. Não haverá substituição de menor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jeto será realizado em grupos de no máximo 4 e no mínimo 3 alunos, sendo atribuídas notas individuais para os projetos (em função do desempenho individual de cada participa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7812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ssell, S., Norvig, P.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rtificial Intelligence – A Modern Approa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rentice-Hall, 2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dição, 200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ssell, S., Norvig, P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ditora Campus, 2004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uger, G. F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 - Estruturas e Estratégias para a Solução de Problemas Complex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dição, Bookman, 200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ttencourt, G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encia Artificial – Ferramentas e Teor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ditora de UFSC, 1998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7002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tko, I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gic Programming for Artificial Intellige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2nd edition, Addison-Wesley, 199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ach, P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mply Logical – Intelligent Reasoning by Examp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John Wiley &amp; Sons, 1994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ch, E., Knight, K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akron, 199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hayse, A. et alli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pproche Logique de l`Intelligence Artificiel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Vols. 1, 2, 3 e 4, Dunod, 199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nandes, A. M. da R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 – Noções Ger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Visual Books, 2003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 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16360" y="2349360"/>
            <a:ext cx="3781440" cy="30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É mesmo possível se obter inteligência num computador, ou uma entidade inteligente requer a riqueza das sensações e experiências que só podem ser encontradas numa existência biológic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133020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432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2779560"/>
            <a:ext cx="6840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mologicamente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igem: Lat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ege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lo que permite ao ser humano escolher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isa e out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lidade de realizar, de forma efici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80000" y="3068640"/>
            <a:ext cx="2160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320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tifici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igem: Lat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rtificia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 não natural, isto é, produzido pelo ho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76360" y="2852640"/>
            <a:ext cx="7056360" cy="144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ipo de inteligência produzida pelo homem para dotar as máquinas de algum tipo de habilidade que simula a inteligência do hom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O ramo da ciência da computação preocupada com a automação de comportamento inteligente." [LUGER &amp; STUBBLEFIELD, 9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O estudo da computação que torna possível perceber, raciocinar e agir." [WINSTON, 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A é a parte da ciência da computação voltada para o desenvolvimento de sistemas de computadores inteligentes, i.e. sistemas que exibem características, as quais nós associamos com a inteligência no comportamento humano - e.g. compreensão da linguagem, aprendizado, raciocínio, resolução de problemas, etc." [FEIGENBAUM, 8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É o campo de estudo que tenta explicar e emular o comportamento inteligente em termos de processos computacionais." [SCHALKOFF, 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as idéias que permitem aos computadores serem inteligentes." [WINSTON, 8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as faculdades mentais através do uso de modelos computacionais." [CHARNIAK &amp; McDERMOTT, 85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A arte de criar máquinas que executam funções que requerem inteligência quando executadas por pessoas." [KURZWEIL,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e como fazer os computadores realizarem coisas que, no momento, as pessoas fazem melhor." [RICH, Elaine &amp; KNIGHT, Kevin, 9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[...] atividade que nós associamos com o pensar humano, atividades tais como: tomada de decisão, resolução de problemas, aprendizado[... ]." [BELLMAN, 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A inteligência artificial (IA) é simplesmente uma maneira de fazer o computador pensar inteligentemente." [LEVINE, 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 ser definida como o ramo da Ciência da Computação que se ocupa da automação do comportamento inteligente.” [LUGER,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7-11T16:41:32Z</dcterms:modified>
  <cp:revision>2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