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C8AB-CA15-4995-9BAC-0EFC087C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C75E-0BCC-4D6E-AE08-20C1B25C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5045-DF98-4310-A6BA-17BF6506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A42B-8667-4AA5-A5D3-912FA70B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813AF-6E60-4389-896E-E02CEEBDF8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96C87-5AEF-440E-8C61-3EC7E79945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40863-4657-4462-9A0B-3ED1B3F79B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C3B51-368F-46FD-8F2B-48783B5AA1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9668C-1EC2-4B7F-AE8B-C4645CB7D0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9F9F9-D6A9-41CC-AC1F-DC3B419434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D5FF4-1EF9-4841-9395-66F43C9659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5452-DE0D-4DD6-9578-8F4AF858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84C5C-04A6-4084-96A2-EE52AD5181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D6D63-4E08-4FA4-9163-EFE684F293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3FC51-D32C-426E-8E65-A94CC877A4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0E7E1-ADAE-4962-9390-1465ED02AF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390D6-B4D0-4D82-A943-35CF1420A4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40D9-0856-4AF6-9C91-33CE7AB0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99A-42C4-4BA8-A889-819C96BD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4DF9-BE5D-482B-BC4E-4F6FC48F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0A0F-3ED5-4E80-9F89-4A033A48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BE77-D26C-4A5A-B7E0-08FEFE8C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F3F2-3449-4B9C-8684-74E38C27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B8C3-3F7B-415F-BE7F-B1106F8D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61C7-291C-45E9-A4A2-18417D652AA9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2524-5340-4EE3-929C-32C47A63296D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84360" y="6237000"/>
            <a:ext cx="720720" cy="620640"/>
            <a:chOff x="684360" y="6237000"/>
            <a:chExt cx="720720" cy="620640"/>
          </a:xfrm>
        </p:grpSpPr>
        <p:sp>
          <p:nvSpPr>
            <p:cNvPr id="56" name=""/>
            <p:cNvSpPr/>
            <p:nvPr/>
          </p:nvSpPr>
          <p:spPr>
            <a:xfrm>
              <a:off x="684360" y="673380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75240" y="643392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719280" y="6236640"/>
              <a:ext cx="39240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77760" y="644328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720000" y="624636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700000" y="2133360"/>
            <a:ext cx="5832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ntrodução à Prolog (Parte 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nformações Adicio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tro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8595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marL="2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Operador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 “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UT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” (Exemplo de melhoria da eficiê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Negação por Fal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360" indent="-27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É possível dizer que alguma coisa não é verdadeira em Prolog por meio de um predicado pré-definido especial, "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fail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", que sempre falha, forçando o objetivo pai a falh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360" indent="-27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ormulação em Prolog com o uso do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fail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gosta(maria, X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bra(X), !, f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gosta(maria, X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nimal(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573408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5157720"/>
            <a:ext cx="4176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"Maria gosta de todos os animais, menos de cobras".  Como podemos dizer isto em Prolo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6F2C-B513-4E14-BE8F-A4C70E436C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tro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8595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Operador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 “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UT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” (Exemplo de melhoria da eficiê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Negação por Fal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s duas regras podem ser escritas de modo mais compacto como uma única cláusula, por meio do uso do conectivo "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"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gosta(maria, X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bra(X), !, fai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nimal(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573408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DDA7-913C-4354-9DC2-24670859D0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tro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573408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Reservas quanto ao uso do 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ua inserção em um programa pode destruir a correspondência entre os significados declarativo e operaciona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Um bom estilo de programação deve dar preferência ao uso de "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cuts verde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", que não afetam o significado declarativo do programa, evitando os "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cuts vermelho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" que o faz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operador unário not define uma forma particular de negação denominada "negação por falha", que não corresponde exatamente à negação da lógica matemática, de modo que o seu uso também requer cuidados especi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251D-5465-4DD6-A16B-86F19473D9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rodução à Prolo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1989000"/>
            <a:ext cx="71280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6314-702F-418F-BC64-450BDAD623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tro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1916280"/>
            <a:ext cx="75596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programador pode controlar a execução de seu programa através da reordenação das cláusulas ou de objetivos no interior desta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utro instrumento para o controle de programas - denominado "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cut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" - que se destina a prevenir a execução do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backtracking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quando este não for desej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negação por falha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“ - forma operacional da negação lógic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7A5E-44EC-49E3-9784-63FBC02893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tro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85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Operador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 “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UT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ecanismo para "podar" a árvore de pesquisa, evitando o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backtracking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quando este for indesejá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ermite declarar ramificações da árvore de pesquisa que não devem ser retomadas no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backtracking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azões para o seu u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O programa irá executar mais rapidamente, porque não irá desperdiçar tempo tentando satisfazer objetivos que não irão contribuir para a solução desej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 memória também será economizada, uma vez que determinados pontos de </a:t>
            </a: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backtracking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não necessitam ser armazenados para exame pos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19A4-8BBB-4797-8022-239889B993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92360" y="3800520"/>
            <a:ext cx="6875280" cy="31575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tro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85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intaticamente o uso do cut em uma cláusula tem a aparência de um objetivo sem nenhum argumento, representado por um ponto de exclamação "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Operador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 “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UT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” (Exemplo de melhoria da eficiênci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Uma função em degr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D27C-FA30-4866-8D52-E6A203BEB1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tro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85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Operador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 “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UT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” (Exemplo de melhoria da eficiênci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relação entre X e Y para a função apresentada na figura pode ser especificada, para o domínio dos inteiros não negativos, por meio de três reg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e X &lt; 3,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ntão 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e 3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≤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 e X &lt; 6,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ntão Y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e 6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X,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ntão Y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275A-E903-4F79-BEEB-A8494C3305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tro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85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Operador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 “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UT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” (Exemplo de melhoria da eficiênci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olução em Prolog - relação binária f(X, 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f(X, 0) :- X &lt;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f(X, 2) :- 3 =&lt; X, X &lt;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f(X, 4) :- 6 =&lt;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sul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?- f(1, Y), 2 &lt;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7162-2251-4289-B54C-0F4E363240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tro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8595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marL="2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Operador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 “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UT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” (Exemplo de melhoria da eficiê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-27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programa reescrito com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cut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(X, 0) :- X &lt; 3, !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(X, 2) :- 3 =&lt; X, X &lt; 6, !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(X, 4) :- 6 =&lt; X.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-27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 introdução de cuts afetou somente a interpretação operacional do programa, sem interferir na sua interpretação declar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360" indent="-27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O uso do cut pode afetar também o significado declarativo do prog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7927-E765-4E88-AEAD-05D2DF91E0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tro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8595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marL="30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Operador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 “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UT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” (Exemplo de melhoria da eficiê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Máximo de dois núm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1. Solução Tradicional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   2. Solução com 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x(X, Y, X) :- X &gt;= Y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x(X, Y, Y) :- X &lt; Y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ssas duas regras são mutuamente exclusivas.  Se a primeira for bem sucedida, então a segunda certamente irá falhar e vice-vers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573408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66080" y="3543480"/>
            <a:ext cx="354276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x(X, Y, X) :- X &gt;= Y, !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ax(X, Y, 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E51-AFCE-48B5-A7BC-DAF471BFBF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6-03-13T15:47:06Z</dcterms:modified>
  <cp:revision>262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