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0FF-9331-4847-A03F-F5BE692C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989-AF59-462B-B9F5-9940B607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A84-FA2B-4CE6-8277-4F71BAA5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B31-DF1B-40FF-BA65-5DE65603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8A140-9B64-4C36-B7AB-D07BBFE9FB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5F68C-B774-4561-A7A5-2A919C7FC9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07F23-DB12-4E9B-842B-0A1519DD71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39B6-F74E-401D-94C2-2E6E414072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290D-A454-4773-8A03-DDB9DD2E9D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E79F0-7E8B-402D-AC14-16743C4AD3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B9C00-496A-4BCF-9D57-BF62F6238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B7D-4E29-4BE1-8780-37BD6D7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3D56-02CC-44C6-978B-472C74C7C7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70BEE-44F1-4187-83E2-9D77A73464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14E02-C076-400F-9CAB-E175541E4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D03A-5870-47EC-8289-EDE666CDD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D5A18-E076-499E-AD09-7768A99CD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683-8C49-4842-9710-AEEF44F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136-CA11-4AEB-98B7-8FFEF78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A37-D4C0-429F-9048-1BD479C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E55-4CDE-459E-8AFB-F877DC2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E77-A3DD-4ACF-A32A-D724A91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F09-CC3A-4263-8ACD-A1B1A1C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AD0-171F-4B09-8CE9-8B58A77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DBD-5B31-4374-AD07-72B18CCDE37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924-259E-477F-817F-ED465AEB657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7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16000" y="2276640"/>
          <a:ext cx="7570800" cy="3816360"/>
        </p:xfrm>
        <a:graphic>
          <a:graphicData uri="http://schemas.openxmlformats.org/drawingml/2006/table">
            <a:tbl>
              <a:tblPr/>
              <a:tblGrid>
                <a:gridCol w="2016000"/>
                <a:gridCol w="1727280"/>
                <a:gridCol w="382752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e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 | Y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m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 [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a,b,c,d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, Y | Z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/[c,d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ano, bissexto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, Y, Z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X, Y | Z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 uni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bissex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/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AFF-61B9-4C14-812C-9DB34A48F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e uma 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tence(Elemento,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lemento pertence a Lista se ele é a cabeça da Lista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lemento pertence à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[Elemento | _ 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[ _ |Cauda]) 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9B8-8BDB-4093-967E-4AD7CC6272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Último elemento de uma 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timo(Lista, Ele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tem só um elemento, este é o último Ele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ltimo elemento de uma Lista com mais de um elemento é o último elemento da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imo([Elemento], El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imo([ _ | Cauda], Elemento):- ultimo(Cauda, El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3BD-0992-43A9-B7E4-D0DF2EA3C5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 dos elementos de uma lista numéri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( Lista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é vazia, a soma dos elementos é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é [Cabeça | Cauda], a soma dos elementos é a soma dos elementos da Cauda mais a Cabe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([ ]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([Cabeça | Cauda], S):- soma(Cauda, S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 is  S1 + Cab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11E-09F5-4EBE-9987-1A84DAC34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consecutivos em uma li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ecutivos( Elemento1, Elemento2,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is elementos Elemento1 e Elemento2 são consecutivos se eles são o primeiro e o segundo elementos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 são consecutivos na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[Elemento1, Elemento2 | Caud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[ _ | Cauda])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3B9-DA57-453A-A839-522420AB4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L1,L2,L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e L2 são duas listas e L3 é a concatenação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a,b],[c,d],[a,b,c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 que devem ser considerados para a definição de conc/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o primeiro argumento é uma lista vazia - o segundo e o terceiro argumentos devem ser a mesm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o primeiro argumento não for uma lista vazia - pode ser denotado por [X|L1]. A concatenação de [X|L1] com L2 é uma terceira lista com a mesma cabeça X da primeira e um corpo L3 que é a concatenação do corpo de L1 com L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2000" y="3141720"/>
            <a:ext cx="1081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Indica a ar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56000" y="3645000"/>
            <a:ext cx="345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26F-7E08-45BA-9C68-1A7B0A78C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69120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[a,b,c],[1,2,3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b,c,1,2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[a,[b,c],d],[a,[],b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[b,c],d,a,[ ]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2360" y="1628640"/>
            <a:ext cx="6324480" cy="1524240"/>
            <a:chOff x="1692360" y="1628640"/>
            <a:chExt cx="6324480" cy="1524240"/>
          </a:xfrm>
        </p:grpSpPr>
        <p:sp>
          <p:nvSpPr>
            <p:cNvPr id="140" name=""/>
            <p:cNvSpPr/>
            <p:nvPr/>
          </p:nvSpPr>
          <p:spPr>
            <a:xfrm>
              <a:off x="1692360" y="1628640"/>
              <a:ext cx="6324480" cy="1524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96920" y="1857240"/>
              <a:ext cx="9144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96920" y="2543040"/>
              <a:ext cx="9144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1857240"/>
              <a:ext cx="259092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11320" y="2543040"/>
              <a:ext cx="48006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7160" y="1857240"/>
              <a:ext cx="190476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540-A95A-4399-9252-12D4550BA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sar de muito simples o programa conc/3 pode ser usado em inúmeras aplic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com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?-conc(L1,L2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 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a,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,b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,b,c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380-8C36-488F-BF94-E4FE170E0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agando de uma lista todos os elementos que se seguem a um determinado pad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T,[sab|_],[seq,ter,qua,qui,sex,sab,dom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=[seg,ter,qua,qui,se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224-4645-4422-9DDA-3DFE7649D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moção de Elementos de uma List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L,L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é a mesma lista L com o elemento X remov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novamente 2 casos a estud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X é a cabeça de L, então L1 será seu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X está no corpo de L, então L1 é obtida removendo X desse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X|C]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Y|C],[Y|D]):-remover(X,C,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1A9-A498-4A81-A4F9-0C25A8C99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339-483C-445A-8E12-15DC1F262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remo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05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remover(a,[a,b,a,a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a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remover(a,L,[b,c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c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a,c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c,a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c,d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074-7C03-4E06-BD51-AC499854B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utros usos de remover/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04480" y="17776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X|C]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Y|C],[Y|D]):-remover(X,C,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ir(X,L,L1):- remover(X,L1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2(X,L) :- remover(X,L,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inserir(a,[b,c],L)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2(a,[c,b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b,c]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= [b,a,c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= [b,c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9DC-7D5E-4D89-95BC-7D5360169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vers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a,b,c],[c,b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a,[b,c],d],[d,[b,c]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ão ingênu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mar o primeiro elemento d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 o re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atenar o inverso do restante à lista formada pelo primeiro 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X|Y],Z) :- inverter(Y,Y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Y1,[X],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67D-0B2E-47AA-B899-E672589A05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vers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ão eficient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X,Y):-aux([],X,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x(L,[ 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x(L,[X|Y],Z) :- aux([X|L],Y,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67D-40CC-4567-B006-43933B841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ub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 é uma sublista de L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 L pode ser decomposta em duas listas L1 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2) L2 pode ser decomposta em S e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lista(S,L) :- conc(L1,L2,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S,L3,L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sublista(S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F38-BCC1-4405-B763-68F1AEFAA3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ub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35640" y="1773360"/>
            <a:ext cx="3168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sublista(S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,b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,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b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133720"/>
            <a:ext cx="43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lista(S,L) :- conc(L1,L2,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S,L3,L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F3B-0F21-4A47-BD18-998276B730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ordenada de elementos que pode ter qualquer compr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mentos de uma lista podem ser uma variável, uma constante, ou qualquer estrutura do Prolog. Esses elementos são separados por vírg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de identificação das listas em Prol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X | Y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Cabeça | Caud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Topo | Caud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Primeiro | Resto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uda pode ser uma lista vaz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DCD-B987-4233-A92A-C4830EEAA6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3781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6000" y="2781360"/>
          <a:ext cx="7488360" cy="2160360"/>
        </p:xfrm>
        <a:graphic>
          <a:graphicData uri="http://schemas.openxmlformats.org/drawingml/2006/table">
            <a:tbl>
              <a:tblPr/>
              <a:tblGrid>
                <a:gridCol w="3456000"/>
                <a:gridCol w="1224000"/>
                <a:gridCol w="28083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be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a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a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3, 4, 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4, 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o, gato, morreu, ontem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o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ato, morreu,onte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CBB-52BF-4CD4-A860-B099D439B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uçã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(X,Y,[X|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b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=[a,b] ou Z=[a|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[]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=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X,[a,b,c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=[b,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[a,b,c],[d,e]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 = [[a,b,c],d,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953-7410-4B1C-8C54-8430F7F74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b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[b,c],[a,[b,c]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b,[a,[b,c]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membro de L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a cabeça de L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membro do corpo de 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lementos de uma 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3141720"/>
            <a:ext cx="1081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als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84720" y="3357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9FB-667E-4454-86B9-ECF3C41E1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lementos de uma 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X|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_|C]) :- membro(X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a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‘Natal’, [‘Recife’, ‘Natal’, ‘Campina’]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1,[[1,2],3,4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2881440"/>
            <a:ext cx="23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O uso de _ indica que o conteúdo não é impor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916360" y="2491920"/>
            <a:ext cx="345600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336-FD31-40AF-ACC7-F0129DFFF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nificação de Listas (“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tching”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dois termos, diz-se que eles se unificam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idênticos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ariáveis em ambos os termos podem ser instanciadas em objetos, de maneira que após a substituição das variáveis por esses objetos, os termos se tornam idên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97D-0BB8-40AB-9207-142B7D6A6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nificaçã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nificação de uma lista [X | Y] com X e Y variáveis, com uma lista do tipo [ a1, a2, a3, ..., an ] resulta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X/a1,  Y/[ a2, a3, ..., an ]} ,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X/a1,  Y/[ ]}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5B0-E686-47D1-A2D6-C3C16ED1E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23:41Z</dcterms:modified>
  <cp:revision>17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