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189-E7D6-43EC-9CD8-5E0B0F3A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E5B-2205-490E-8E77-6D9D3A9F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72A-F1FC-481F-A0AE-AC902677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566-E2A0-40B1-B026-D6D9A880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A4DD9-43B3-4216-BB31-C6DC02A358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9463C-D7C8-4FE6-BE8A-5A78B947AC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EF366-D518-48FC-8010-139E4B27E6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19436-51ED-4DBE-8A3A-76AC48AEB4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A380B-BFB9-4DBF-B8E1-96C15619DA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0B739-307A-4809-8079-EB383B4FE7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E4C52-61FC-4234-8A60-C96BB0968B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68C-9353-4A78-B766-7CA4D0B4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2A3B5-4231-4B5E-86C4-DA8DBD7814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23137-3FFC-4830-8385-69C03CAF48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8C699-23A0-456A-80EA-DFF67822FE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419CE-103B-4C74-A8BC-B93C03E83F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54C5B-B34C-4E54-9C6A-F77954EE40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5A0-77AE-470B-8B2E-F4C8EF80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013-98B2-40DA-9F0C-AF4C3EA8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010-38F7-4AF3-8C27-937367A0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FC5-CAA6-496B-BBE9-CC21FF78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941-A27C-4F62-9B9B-46AD1C04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7F8-C9E2-45F5-BB61-C514D074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BB2-1B2C-47C5-A607-B4D0217B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44B0-6E5E-412D-A881-044252A4BD8C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9401-2922-4563-9E0C-ACAC434D03A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00000" y="6237000"/>
            <a:ext cx="720720" cy="620640"/>
            <a:chOff x="90000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90000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9088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93492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9340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3564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987280" y="2179440"/>
            <a:ext cx="554508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à Prol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 - Adi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rodução à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inguagem Prolog – Alguns com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4DE-AC6D-43B1-8C9D-F32BE8957A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71516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guns com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rite (Termo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reve na tela o valor de Termo se ele for uma variável ou uma mensagem entre aspas simples ou entre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rite($Hoje é quinta-feira$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rite(‘Acabou a festa’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rite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d (Termo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ê um valor do teclado e coloca em Ter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32E-617E-4E79-A6AC-52B228B948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04480" y="1674720"/>
            <a:ext cx="771516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guns com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ssa para a próxima linha na t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-353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X), nl, write(Y), n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(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 se X é uma variável não instanc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om(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 se X é um át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omic(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 se X é um tipo de dado atô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umber(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 se X é um nú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681-934D-4519-AAFF-744C5779FA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utros comand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um ambiente interativo, o predica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sert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iciona novos predicados às especific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serta(P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inclui o predicado P no início de todos os pred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sertz(P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acrescenta P no final de todos os predicados denominados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ract(P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remove um predicado P da base de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99A-5CA0-4CC2-A6CC-77FEF6F130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1773360"/>
            <a:ext cx="748836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 progenitor(raul,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 asserta(progenitor(raul,flip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 progenitor(raul,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 =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43120" y="5651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E03-8C16-40F3-B906-6AF62687FD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utros comand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e(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abre o arquiv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define a seqüência de entrada corrente como começando e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ão estiver ligada a um arquivo disponível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e(X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alhar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ll(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abre um arquivo para a seqüência de s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não existir um arquiv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ll(X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ria um arquivo com o nome do valor ligado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en(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old(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echam os respectivos arqu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C97-5EBB-4FBA-A5AF-811A996791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utros comand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sting(nome_predicado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apresenta todas as cláusulas com este nome de predicado na base de dad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permite que o usuário monitore o progresso do interpretador PROLOG. Imprime no arquivo de saída todos os objetivos que PROLOG tenta prov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p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 realiza um monitoramento mais sel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py memb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faz com que o interpretador imprima na saída todos os usos do predica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mb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2F1-26D0-4534-AC26-31123B3E69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 Macedo Fechine</cp:lastModifiedBy>
  <dcterms:modified xsi:type="dcterms:W3CDTF">2006-08-04T12:10:43Z</dcterms:modified>
  <cp:revision>155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