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53E-48C0-4809-88CD-CD3F94F5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8BAF-90A4-4727-8EA6-85AED73A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4259-C7DD-4110-A806-6B34198C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F5F-A515-430E-A7BC-351D21EE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D8F95-6D5A-4605-8A80-7D2FD50A4D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4B38A-1CB0-48A7-B5FE-9880FACA4B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B3AD3-021F-4041-8770-FDF6633045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3AB9D-1A5A-45BE-AEF0-467E8232B9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90C4C-D059-41BD-8AF2-BE629FEA4A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5DA5E-3286-400F-810D-A8A03628E8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C47C3-26CE-4167-94CA-6E06FED738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E40-C53F-4267-929E-0220F838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AEC98-30A6-462B-84D7-CA56684D8C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52B7E-50B5-4206-A956-F1C0A50C01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1FD1C-3173-40FC-9CA1-719C162F3B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2C36A-FB99-451B-A0E8-C7B3C736B3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6AF92-854B-47C0-A964-D79D76C31A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D1B2-D738-4D04-BD46-912947A7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13F-293F-4B06-BEFB-6CDB6310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586-1434-480F-953C-F4C65286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FF7B-06BF-469D-8B27-079564DA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E74-0F04-4380-86A6-771DA1A3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9E2-ECE1-4B6C-915E-6E203C30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BA5-6415-4155-9E3A-80825FC2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6639-0C12-4514-8AB3-07211899F760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B218-ABC0-49E5-B26B-70036792F6AD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4360" y="6237000"/>
            <a:ext cx="720720" cy="620640"/>
            <a:chOff x="684360" y="6237000"/>
            <a:chExt cx="720720" cy="620640"/>
          </a:xfrm>
        </p:grpSpPr>
        <p:sp>
          <p:nvSpPr>
            <p:cNvPr id="56" name=""/>
            <p:cNvSpPr/>
            <p:nvPr/>
          </p:nvSpPr>
          <p:spPr>
            <a:xfrm>
              <a:off x="684360" y="673380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75240" y="643392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719280" y="623664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77760" y="644328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720000" y="624636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700000" y="1989000"/>
            <a:ext cx="583236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trodução à Pro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informações Adicionais - Monitoram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cessamento recursivo de listas: verificação de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embro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defini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br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recursivamente, primeiro é testado s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o primeiro item da li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bro(X,[X|T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to testa s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o primeiro elemento da lista são idênticos. Se não forem, então verifica-se s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 elemento do resto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da lista. Isto é definido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bro(X,[Y|T]) :- membro(X,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1B21-4775-4EEA-8E1C-8EEC8CDE878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7792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onito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bro(X,[X|T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bro(X,[Y|T]) :- membro(X,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 – membro(c,[a,b,c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hama 1. falha, pois c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≠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hama 2. X=c, Y=a, T=[b,c], membro(c,[b,c]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hama 1. falha, pois c ≠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hama 2. X=c, Y=b, T=[c], membro(c,[c]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hama 1. retorna sucesso, pois c=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yes (para a segunda chamada de 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yes (para a primeira chamada de 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423-FE1C-4A32-AC35-BE504C3218ED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 Macedo Fechine</cp:lastModifiedBy>
  <dcterms:modified xsi:type="dcterms:W3CDTF">2006-03-13T14:57:42Z</dcterms:modified>
  <cp:revision>212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