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319-932F-4AA8-B8D5-ADED027C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704-A8DF-4974-AF4D-3E95460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6AC-316F-4D03-BF74-27798AB8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98C-D23B-49EF-8400-BF9FFA22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0C699-F80D-4102-8E89-BEA476C2F1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943B9-D8E3-4512-B01B-766C59B30F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CDF0C-E9D7-4093-A494-E0E4B352E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BC5D-DC83-4898-8B1C-2E7F346FAC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D7767-A3CA-49F3-B334-EA02E87E7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BD4A5-FB12-4813-85D4-556AAA7A3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E859-8013-4EC4-BC2B-877C99B4B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1E1-3A58-46D5-9D01-14E816CD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D4273-7C3D-4EFC-8C96-C6C5E0C63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1EED4-5F08-44EF-AB71-8A6F208509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B778B-B778-46CC-84E9-2BB9EF2A69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1B92D-774E-49B2-A6C7-C648447213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FA0BB-F8D9-45EC-A9EB-7F5ACB379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366-2F1C-4A92-BF39-ED57077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35D-4E6A-4938-BC4A-78ABB470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537-A992-4106-B859-260D1F38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F46-016F-48E1-8EEA-D1B1B4F6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C0B-6A90-47BC-B732-31BBAD6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324-CC30-4D7C-9551-0B6ADE1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B51-6D79-4EC3-9BD2-6977865E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AF23-E3D0-4B4B-8502-CC3E01ECBF7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79DB-9CE8-4B8A-A9B4-C69B1DE5E9D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5832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Insert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- insertsort([9,8,7,6,5,4,3,2,1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= [1,2,3,4,5,6,7,8,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33A-5DEC-41A6-B535-9ADA707CEC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classificar uma lista não vazia, 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pare algum elemento X de L e divida o restante em duas listas, denominadas Menor e Maior, da seguinte maneira: Todos os elementos de L que são maiores do que X pertencem a Maior e os restantes pertencem a Men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que Menor, obtendo Meno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que Maior, obtendo Maio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lista completa é a concatenação de Menor1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m [X | Maior1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195-091B-44F3-A03D-72E247AAB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258920" y="2273400"/>
            <a:ext cx="6985080" cy="4468680"/>
            <a:chOff x="1258920" y="2273400"/>
            <a:chExt cx="6985080" cy="44686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258920" y="2273400"/>
              <a:ext cx="698508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851280" y="6237360"/>
              <a:ext cx="180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[1, 3, 4, 5, 6, 7, 7, 8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63640" y="5140440"/>
              <a:ext cx="180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[1, 3, 4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55736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979-E380-4AF9-86C8-DE9FC65AF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55736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[X | R], Saida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R, Menor, Maior)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Menor, Menor1)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Maior, Maior1)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Menor1, [X | Maior1], Saida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F84-44A1-4CA6-A58E-D70E087BC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[], [], []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[Y | R], [Y | Menor], Maior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, !, divide(X, R, Menor, Maior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[Y | R], Menor, [Y | Maior]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R, Menor, Maior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[], L, L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[X | L1], L2, [X | L3]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L1, L2, L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F14-E4C0-477B-9D6A-A6C6F388E6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77336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- quicksort([9,8,7,6,5,4,3,2,1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= [1,2,3,4,5,6,7,8,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18A-E36B-46E1-BD35-86F4483A75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4A7-A8C6-4787-9B2D-7C1251C81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cação (ordenação) – consiste rearranjar objetos em uma ordem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lista pode ser classificada desde que haja uma relação de ordem entre os elementos que a compõ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os propósitos assume-se a relação de ordem representada por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q(X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gnifica que "X é maior que Y", independentemente do que significa "maior que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5C4-F669-4A35-854D-E924C3AC7F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628640"/>
            <a:ext cx="77155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os itens da lista são números, então a relação mq/2 será  talvez defini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 os itens da lista são átomos, então a relação mq pode corresponder, por exemplo, à ordem do código ASCII correspondente aos caracter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lassifica(Lista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lista de i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aid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lista dos itens classificados em ordem crescente, de acordo com a relação mq/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695-397B-4374-96D3-EED84A43B3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Bubbles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  Encontre dois elementos adjacentes, X e Y, nesta ordem em Lista, tais que mq(X, Y).  Troque as posições de X e Y, obtendo Lista1 e, depois, classifique Lista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 Se não houver nenhum par de elementos adjacentes, X e Y,  nesta ordem em Lista, então esta já está class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5A9-5CC0-4B85-9EFA-E47B57DA9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Bubbles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ubblesort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ubblesort(Lista, Saida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Lista, Lista1), !, bubblesort(Lista1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ubblesort(Saida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[X, Y | Resto], [Y, X | Resto]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[Z | Resto], [Z | Resto1]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Resto, Resto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F62-E5B0-4F12-896D-5157255DC6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Bubbles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- bubblesort([9,8,7,6,5,4,3,2,1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= [1,2,3,4,5,6,7,8,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6EB-0679-4B79-9229-3BFF67D9DB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Insert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classificar uma lista não vazia, L = [X | R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que o corpo R da lista 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ira a cabeça, X, de L no corpo classificado em uma posição tal que a lista resultante esteja class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resultado é a lista completamente classific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601-DCF7-48EA-85AB-5C099D7ED8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Insert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tsort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tsort([X | Resto], Saida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tsort(Resto, Resto1), insere(X, Resto1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e(X, [Y | Saida], [Y | Saida1]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, !, insere(X, Saida, Saida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e(X, Saida, [X | Said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DC2-A837-4227-8209-5A207D089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5-08-10T23:35:28Z</dcterms:modified>
  <cp:revision>19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