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2AE-C03C-4B49-A179-23E876AA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52B-BA71-4B18-A6C8-67B1800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1C5-E579-4D8D-B259-2204E3C5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E78-F3CD-4062-9334-54DBE3D7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E4EB2-B838-4028-8B1F-FF6BCE3551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5F7B1-736F-451D-83CE-0A4522FCE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39586-72E5-4107-A8ED-5C45DCD262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52631-571D-486D-9578-68DB6998A7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FFF11-9CB2-49C4-8811-279A9D095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8FB16-5270-4848-820C-9A2CB884E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51B3D-18BC-4F0E-B95A-968F89844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6EE-A477-4E64-94C2-4773103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C086A-862E-4731-85F3-EF515CB8D7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4A38-A4F3-4696-A579-18B01DC47C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06CDD-1568-42B7-BAC7-3D1FDA9C0D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8A36-4F65-45DC-877A-2C944331AB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0F3B-9E92-4ACE-8E71-322C69596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CF8-2905-4DA4-9AD0-ACB8FDE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F38-46DE-4169-B20C-7BB96456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E4A-1EB3-4F0B-AF4B-8680150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239-875A-4594-9979-3E295D60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E08-2A49-40B0-8A1B-C8C6E254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553-FCD8-4B7C-9666-1F2973AA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5EE-0AF7-4994-8E12-B5FEB69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678-987D-42E9-BAD3-87B40EE204C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FE1-8879-4180-B9CD-5C132BE007A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640" y="2179440"/>
            <a:ext cx="5688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280" y="1773360"/>
            <a:ext cx="7715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idere a relação denominada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progenitor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ocia um indivíduo a um dos seus progenitore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fin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utilizando Prolog, a relação progenitor 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Respond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em Prolog, as seguintes quest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José é o progenitor de Íri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Ana é um dos progenitores de Jorge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uís é progenitor de Maria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é progenitor de Íri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são os filhos de José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00000" y="277920"/>
            <a:ext cx="81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log – Exercício 1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497-B094-445C-AE4D-8477BD507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Relação progenitor comple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maria, 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ao, 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ao, 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se, jul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se, ir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iris, jor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514-8C9A-4BF1-B22D-C7361D4518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Questões e respectivas respos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"José é o progenitor de Íris?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progenitor(jose, ir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"Ana é um dos progenitores de Jorge?"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?-progenitor(ana, jor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"Luís é progenitor de Maria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progenitor(luis, ma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04C-51ED-4720-BD0F-E1380976A6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Questões e respectivas respos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é progenitor de Íri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?-progenitor(X, ir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X=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são os filhos de José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progenitor(jose,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X=jul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X=ir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097680"/>
            <a:ext cx="777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última resposta obtida -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"não" -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significa que todas as soluções válidas já foram fornecida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C27-BFDE-40D0-BBC0-DFF984D02F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Questões e respectivas respos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questão mais geral para o programa seria: "Quem é progenitor de quem?" ou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Encontre X e Y tal que X é progenitor de Y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4005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?-progenitor(X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X=maria Y=j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X=joao   Y=j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X=joao   Y=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6E8-F4A9-477D-A428-CDA70FBF42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m os axio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dos os homens são fal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"Para todo X, se X é um homem então X é falível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ócrates é um h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teorema que deriva logicamente desses dois axiomas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ócrates é fal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Faça a descrição acima em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536-950B-4A15-B8C5-FF25E6481A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61927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280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ivel(X) :- homem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mem(socra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falivel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soc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130560" y="2852640"/>
          <a:ext cx="554508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0560" y="2852640"/>
                    <a:ext cx="554508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40360" y="249228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este utilizando o WIN-PRO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FB0-CA4D-4AD5-9511-D562A871CC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3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708280"/>
            <a:ext cx="35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 que representa a Árvore de Busca ao lado (descrita em Prolog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00720" y="71280"/>
            <a:ext cx="3972240" cy="6599160"/>
            <a:chOff x="4500720" y="71280"/>
            <a:chExt cx="3972240" cy="6599160"/>
          </a:xfrm>
        </p:grpSpPr>
        <p:sp>
          <p:nvSpPr>
            <p:cNvPr id="160" name=""/>
            <p:cNvSpPr/>
            <p:nvPr/>
          </p:nvSpPr>
          <p:spPr>
            <a:xfrm>
              <a:off x="4500720" y="71280"/>
              <a:ext cx="3960720" cy="659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503600" y="187200"/>
              <a:ext cx="3969360" cy="6483240"/>
              <a:chOff x="4503600" y="187200"/>
              <a:chExt cx="3969360" cy="6483240"/>
            </a:xfrm>
          </p:grpSpPr>
          <p:sp>
            <p:nvSpPr>
              <p:cNvPr id="162" name=""/>
              <p:cNvSpPr/>
              <p:nvPr/>
            </p:nvSpPr>
            <p:spPr>
              <a:xfrm flipH="1">
                <a:off x="6173640" y="474480"/>
                <a:ext cx="9349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810320" y="1122120"/>
                <a:ext cx="136368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457600" y="1122120"/>
                <a:ext cx="71604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102000" y="1122120"/>
                <a:ext cx="7164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74000" y="1122120"/>
                <a:ext cx="576000" cy="172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528880" y="2851200"/>
                <a:ext cx="12207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318000" y="2851200"/>
                <a:ext cx="431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50000" y="2851200"/>
                <a:ext cx="71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50000" y="2851200"/>
                <a:ext cx="93672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82320" y="187200"/>
                <a:ext cx="100368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r(X_pa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52480" y="1050840"/>
                <a:ext cx="61056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N1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57560" y="2635200"/>
                <a:ext cx="61056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N2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03600" y="177012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7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73560" y="177012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5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21560" y="177012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73640" y="356868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7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3600" y="356868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5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91240" y="356868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478280" y="3498840"/>
                <a:ext cx="99468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=/=(N1,N2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7041960" y="3787560"/>
                <a:ext cx="57636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39280" y="4722840"/>
                <a:ext cx="14929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_par is (N1+N2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394320" y="5010120"/>
                <a:ext cx="431640" cy="64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37880" y="5659200"/>
                <a:ext cx="276840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write(N1), write(N2), write(X_par)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62680" y="5946840"/>
                <a:ext cx="287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49200" y="6378480"/>
                <a:ext cx="37260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nl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0FB-8EFE-4DAD-8D21-A970C6E891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3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1700280"/>
            <a:ext cx="756144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 a resposta para o seguinte progra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x(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x(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x(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(Xpar) :- x(N1), x(N2), N1 =\= N2, Xpar is (N1+N2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rite(N1) , write(' .... '), write(N2), write(' .... '), write(Xpar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?- par(N)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4FF-E8BE-483D-984E-6F20C73015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3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700280"/>
            <a:ext cx="75614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?- par(N)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7 .... 5 ...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7 .... 3 ...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5 .... 7 ...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5 .... 3 ...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3 .... 7 ...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3 .... 5 ...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132000" y="1916280"/>
          <a:ext cx="57675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916280"/>
                    <a:ext cx="5767560" cy="453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348000" y="1484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ste utilizando o WIN-PRO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E71-40FD-4686-9F1B-6A240CF27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25D-DE6C-4159-B2BA-74CDF7EAEE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921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ramação em lóg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tem suas raízes no cálculo de predicados, proposto por Frege em 18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imeira implementação da linguagem Prolo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Alain Colmerauer e sua equipe, na Universidade de Aix-Marseille em 197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 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ntegrar uma técnica de prova automática de teoremas (Princípio de Resolução de Robinson) numa linguagem de programação para processamento de linguagem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C4A-4495-42BC-834F-41AC4B270B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ma das principais idéi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um algoritmo é constituído por dois elementos disjuntos: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lógica e o control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mponente lógic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corresponde à definição do que deve ser solu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mponente de control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estabelece como a solução pode ser obt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B20-4437-4A17-BD98-459242C588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1778040"/>
          <a:ext cx="7488360" cy="4530600"/>
        </p:xfrm>
        <a:graphic>
          <a:graphicData uri="http://schemas.openxmlformats.org/drawingml/2006/table">
            <a:tbl>
              <a:tblPr/>
              <a:tblGrid>
                <a:gridCol w="3857760"/>
                <a:gridCol w="363060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ErieLight"/>
                          <a:ea typeface="Times New Roman"/>
                        </a:rPr>
                        <a:t>PROGRAMAS CONVEN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ErieLight"/>
                          <a:ea typeface="Times New Roman"/>
                        </a:rPr>
                        <a:t>PROGRAM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ErieLight"/>
                          <a:ea typeface="Times New Roman"/>
                        </a:rPr>
                        <a:t>EM LÓ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Processamento Num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Processamento Simbó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luções Algorítm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luções Heurís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Estruturas de Controle e Conhecimento Integ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Estruturas de Controle e Conhecimento 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Difícil Mod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Fácil Mod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mente Respostas Totalmente Corr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Incluem Respostas Parcialmente Corr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mente a Melhor Solução Possí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Incluem Todas as Soluções Poss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3BB-254B-443F-8007-79FAE173E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priedades dos sistemas de programação em lógica em geral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em particular a linguagem Prolo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uncionam simultaneamente como linguagem de programação e de especificaçã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ssuem capacidade deduti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peram de forma não-determiníst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rmitem a representação de relações reversíve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rmitem interpretação declarativa, procedimental e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operacion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ão naturalmente recur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108-21B7-49DA-9B81-8DB063A5CD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incipais aplicação da programação em lóg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stemas Baseados em Conhecimento (SBC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stemas de Bases de Dados (BD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stemas Especialistas (SE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ocessamento da Linguagem Natural (PL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ducação,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odelagem de Arquiteturas Não-Conven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737-F3FA-4553-9EE4-11F167F0C9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ída basicament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dicad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ostra as relações entre os objeto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truturação do conhecimento)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os objet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852-345A-4F5B-9820-69E4B4D6D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81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log – Exercício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735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nsidere a árvore genealógica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276720" y="1916280"/>
            <a:ext cx="5616360" cy="4031640"/>
            <a:chOff x="3276720" y="1916280"/>
            <a:chExt cx="5616360" cy="4031640"/>
          </a:xfrm>
        </p:grpSpPr>
        <p:sp>
          <p:nvSpPr>
            <p:cNvPr id="118" name=""/>
            <p:cNvSpPr/>
            <p:nvPr/>
          </p:nvSpPr>
          <p:spPr>
            <a:xfrm>
              <a:off x="3276720" y="1916280"/>
              <a:ext cx="129672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27640" y="191628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6360" y="3068640"/>
              <a:ext cx="129672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3280" y="306864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22920" y="422100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9640" y="4221000"/>
              <a:ext cx="129672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24360" y="530064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1964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m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0720" y="3213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88000" y="3213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o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4000" y="4365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ul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436536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i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o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236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360" y="2565360"/>
              <a:ext cx="1295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63640" y="2565360"/>
              <a:ext cx="158436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2720" y="3716280"/>
              <a:ext cx="107964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40000" y="3716280"/>
              <a:ext cx="11523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4360" y="2565360"/>
              <a:ext cx="136836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793-1767-400D-9721-888E08122F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7-03T02:46:51Z</dcterms:modified>
  <cp:revision>15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