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DBA-4015-4A85-9EBA-45672B34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5A6-B6F6-47D9-B4FB-923A6789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3DB-D86C-4FFC-8D82-9BAACFF2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10E-880C-4C50-AC41-0F00DDF2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DAEC2-49FC-49DF-B717-A92499ACF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60CF7-0B48-4E26-B678-2DBA73794D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325A9-4A7F-412F-B960-72CD22B755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A662D-EDA0-4175-87C5-87448BED94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498AA-2AB0-4059-AC15-1DDA4276BC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1019D-7DFA-4A11-BE1D-FFC79E1463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B0FE1-679B-4711-8C4E-993D7256F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22F-5651-419D-83E1-6C12FCEA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70273-2D6E-4E8A-8A84-3B0C5F721F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65E6C-10D5-4026-BC9F-D3AC37E2EC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E0723-5D6F-4A3A-8F3B-504254A42B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1E7C6-328E-4D39-8469-D3CE6FF16D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C9DF9-026A-4E67-9BBE-A92A09911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3B4-1D22-43C0-A8F2-57FC9562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7B3-1B1C-4B26-A6EA-DE42AB5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0D0-C3AD-4F39-AE9E-9F63E778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292-1EA5-4C30-80FC-7F5780E2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95E-72A4-40AE-A072-D45CA1E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92F-2EA2-4866-87FE-99A65BF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D07-F338-424E-8A4C-D885F2AA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BCAA-C688-4395-990F-666ABF15097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32E-4A1D-4112-8D96-1EE6921162C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280" y="2179440"/>
            <a:ext cx="576108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qüência de elementos ord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elemento da lista é separado por uma vírgula e o conjunto é colocado entre colchetes: [a, b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aracterística principal dessas listas: é possível separar  a cabeça da lista (1</a:t>
            </a:r>
            <a:r>
              <a:rPr b="0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lemento) da cauda (demais elementos), permitindo escrever: [a | b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lista de caracteres é uma lista que tem notação própria: “abc” = [97,98,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B82-3E30-4271-82A3-89E8B9FD11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ruturas de controle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ção de me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a cláusula contém uma seqüência de metas, separadas por vírgula, todas elas devem ser satisfeitas para que a cláusula seja satisfe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junção de me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a cláusula contém uma seqüência de metas, separadas por ponto e vírgula, ao menos uma meta deve ser satisfeita para que a cláusula seja satisfe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t 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g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or 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and 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51B-C556-42E9-9659-6842C0756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itmética e expressõ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norm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+, -, *, ^, cos, exp, ln, log, sin, sqrt, mod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/ 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divisão normal com resultado em ponto flutuante (se necessá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// 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divisão int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úmeros inteiros quando relacionados numa expressão com números de ponto flutuante são transformados para números de ponto flutu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530-A116-478A-9D1D-B3D592B954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itmética e expressõ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úmeros de ponto flutuante podem ser convertidos para números inteiro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ger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úmeros inteiros podem ser convertidos em números de ponto flutuante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loat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is l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rit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8C0-CD55-445E-ACF1-92FD273E88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itmética e expressõ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valiações para núme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is comuns: &gt;,  &lt;,   &gt; =,  = 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is E1: se X já tiver um valor, verifica se X(variável) unifica com E1(express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1 =:= E2 : avalia E1 e E2 verificando se o resultado das expressões é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1 =\= E2 : avalia E1 e E2 verificando se o resultado das expressões é di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A87-25EA-4E16-80B8-FAEE332CC2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Caracterís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indo, Prolog consiste 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larar alguns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a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objetos e suas rel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algumas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gr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objetos e suas rel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zer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ult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objetos e suas rel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A44-D4D6-4912-9292-EFCC70789C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Declarando Fa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osta(maria,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omes de todas as relações e objetos devem começar com minúsc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lação (gosta) vem em primeiro lugar, seguida pelos objetos entre parênteses e separados por vírg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colocar um ponto “.” ao final do 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rdem de apresentação dos objetos é arbitrária, mas uma vez escolhida deve ser respeitada para evitar inconsistênc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xemplo acima significa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ia gosta de joa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990-FECF-459B-91AC-79D7B758DC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Declarando Fa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edicad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nome de uma re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gu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omes dos objetos dentro dos parênt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predicado - número  de argumentos que poss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s em Prolog permitem expressar relações arbitrárias entr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se de d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ma coleção de fatos em Pro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283-697E-4546-82E8-890319D2C1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Regr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utilizadas quando se deseja afirmar que um fato depende de um grupo de outros fa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regras também são utilizadas para expressar defini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“Um indivíduo X é avô de outro indivíduo Y se existe um indivíduo Z que é filho de X e pai de 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F2D-FF82-425C-B8A2-BFCAEC95FA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Regr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Prolog uma regra consiste de um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abe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um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r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abeça e o corpo são separados pelo símbolo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(dois pontos e hífen), que se pronuncia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xemplo de regra anterior pode ser expresso em Prolog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vo(X,Y) :- filho(Z,X), pai(Z,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7F5-0184-4F60-B349-E1455DDA36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nguagem Prolog - Conceit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A90-9B5B-4398-83B3-94D837DBF0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Regr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copo de uma variá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efinido como sendo toda a regra (da cabeça até o ponto) na qual a variável se encon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pre que uma variável X está instanciada, todos os outros Xs dentro do escopo da variável também devem estar instanciados com este mesmo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A2E-30A2-45FA-B931-F3E716D3C5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Exemplo de Reg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mem(joa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mem(j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mem(ped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mar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a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pau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joa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ali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is(joao,maria,j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is(paula,alice,ped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is(ana,maria,j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is(joana,alice,ped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rma_de(X,Y) :- mulher(X), pais(X,M,P), pais(Y,M,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37C-75C0-4120-B010-D3738E610C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Fazendo Consul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sulta é semelhante a um fato, exceto que se coloca um símbolo especial “?-” antes d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?- pai(jose,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sulta desencadeia uma busca na base de dados tentando-se casar o fato contido na questão (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com um daqueles contidos na base de dados. Se um fato é encontrado, a resposta é sim “yes”, caso contrário não “n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is fatos casam se seus predicados são os mesmos  e se cada um de seus argumentos correspondentes são os me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206-14A7-4A83-816F-8371E9B254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831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Exemplos de Consultas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maria,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jose,cristi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teresa,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l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gosta(joao,ma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gosta(teresa,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8BA-A6C8-4030-ABF7-B74BE97652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831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Exemplos de Consultas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sceu(jose,paraib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sceu(joao,pernambu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asileiro(paul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asileiro(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nasceu(jose,paraib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brasileiro(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brasileiro(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Prolog, a resposta negativa é utilizada com o significado de “nada casa com a questão” e não com o significado que a questão é fals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822-FB10-4115-AF3D-5981CDEDE5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63640" y="277920"/>
            <a:ext cx="831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Consultas </a:t>
            </a:r>
            <a:br>
              <a:rPr sz="34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(Variávei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632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é filho de Pedro?”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este caso Prolog deve apresentar todas as possibilidades para o significado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s de variáveis representam objetos a serem determinados por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anci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ando assumiram o valor de um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Instanci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aso contr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378-CFB0-49E2-B268-B5E625A9D2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paulo,ter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joao,nature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maria,chocol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maria,nature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joao,ma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 gosta(joao,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=natu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oncluir a consulta, basta pressionar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tentar re-satizfazer a questão, pressiona-se “;” (ponto-e-vírgula) seguido por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=nature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=ma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81080" y="277920"/>
            <a:ext cx="781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Consultas </a:t>
            </a:r>
            <a:br>
              <a:rPr sz="34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(Variávei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D32-9E79-43E5-9070-AA44DB6C47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Consultas</a:t>
            </a:r>
            <a:br>
              <a:rPr sz="34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(Conjunçõe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sulta “Maria gosta de João e João gosta de Maria?” pode ser express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?-gosta(joao,maria), gosta(maria,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vírgula “,” é lida como “e”, servindo para separar qualquer número de objetivos 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objetivos precisam ser satisfeitos para que a conjunção de objetivos também s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87C-F70F-43CB-AC26-10358BEF81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Consultas</a:t>
            </a:r>
            <a:br>
              <a:rPr sz="34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(Conjunções e Variávei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 objeto tal que João e Maria gostam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- gosta(maria,X), gosta(joao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base de dados é pesquisada para 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bjetivo. X é instanciada com choco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ora a base de dados é pesquisada para gosta(joao,chocol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não existe tal fato, o último objetivo falha e tenta-se re-satisfazer o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e-se do ponto em que X foi instanciada pela última vez. X é instanciada desta vez com natur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log tenta satisfazer o 2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bjetivo na forma gosta(joao,natureza), o que é possi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ponto como ambos os objetivos puderam ser satisfeitos,  Prolog responde então com X=natur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872-BBEA-449F-9D08-DC5D5548AD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Próximos Passos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7715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amento de 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E08-2028-4FD9-87E5-329B6EE8DE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pos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358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358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-187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ôm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to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úmero de ponto flutu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-187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atôm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097-89A2-4A69-867E-F45148C89D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70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ome de uma variável pode ser qualquer seqüência de caracteres alfanuméricos que começa com uma letra maiúscula ou com um “underscore’ (_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sar somente o “underscore”(_) no predicado significará que você não quer saber o valor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 anôni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variáveis podem se unificar com um valor definido (um átomo) ou outra variável (só que ficam dependentes uma da outra, uma guarda o endereço da out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0B3-C394-4303-AC95-5B68A7D999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Á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constantes textu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conter letras, números ou símb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bola, ‘Bola’, ‘12’, mary’’s, ‘Mary’’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Obs: Se o átomo começar com letra maiúscula ou se for um número deve-se usar aspas simples. Se o átomo tiver apóstrofo usa-se duas aspas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B2E-3F19-4C7D-866D-34FB1D9F55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úmeros intei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os permitidos pelo computador: positivos e neg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es ASCII são também considerados inteiros se colocar aspas simples antes da letra: ‘a = 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BFE-8CEB-442D-B430-6D1CB57AA4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úmeros de ponto flutu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os permitidos pelo computador: positivos e neg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 ter pelo menos uma casa depois do ponto decimal definida: 5.0 (está correto) e 7. (não está corr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definir expoentes da base dez usando a letra E(e): -8.3 e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F38-B0D1-4658-B6AE-F0BC00CF54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constantes usadas para manipular texto. A constante deverá estar entre $ ou entre as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$Ele foi ao cinema$ ou 'Ele foi ao cinem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F23-64E9-4C1E-A4D2-A8F9A2CD90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ru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tipos de dados que podem ser usados para agrupar ou expressar uma relação entre os ter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iversario(jose,5,maio,19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sceu(jose,brasíl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igo(maria, este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9B0-1F1C-4913-8AD2-60798D5ABB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</cp:lastModifiedBy>
  <dcterms:modified xsi:type="dcterms:W3CDTF">2006-08-04T12:25:14Z</dcterms:modified>
  <cp:revision>15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