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8EE-410C-4537-A8A7-97380D50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451-DCBF-43DA-93C8-53EC1774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69E-5621-4C7A-9D1B-9A0D19FD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E9B-F8DF-4365-B61F-9CCEE927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4E709-CAA9-4532-B66A-63C1554FD1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E8F41-E3E1-4C57-9982-146E97567D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52F39-6168-4C51-A906-06DFCED555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74C7B-EBD6-4FB7-8E3B-FB04492107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66955-CDE3-49EC-A7B9-F6225896A4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AAFF3-7BB1-4AFF-8B36-789F51E8B7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D71C8-AA73-4007-8822-1CE97ABE60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B1F-7721-4077-ABD6-31361577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D2FD9-B4E4-4AF3-BE7D-9D4703C17B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0AE36-0968-4316-BB75-8D5E7183CC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BBA90-1924-47B3-8CE9-6372A572F5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77880-9B01-42F6-972E-2C21EAC648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FA3F6-F69B-49CE-9DDC-EC0BFF8828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6477-EF50-4AA9-A37E-6C7E2F0B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5F4-504D-4F28-95ED-F8E550F1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DE8-5FCD-4858-8D61-DAB139F3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12B-145D-420E-9C78-64217B45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580-8893-4548-871E-5AA5EE26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076-D114-4B88-A4D6-31D58FA7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40A-9447-4B04-BD1C-A59117D6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D35F-3B6A-4C04-8AB2-8BE442C2DE6D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6EBB-150E-45F2-8310-A2624B37B3ED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Exercício - 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s - A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1700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 base na teoria da evolução, que conclusão podemos tirar sobre o seguinte dilema: "O que veio primeiro, o ovo ou a galinha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1042920" y="335772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708" h="21600">
                <a:moveTo>
                  <a:pt x="11960" y="14281"/>
                </a:moveTo>
                <a:lnTo>
                  <a:pt x="11960" y="12323"/>
                </a:lnTo>
                <a:cubicBezTo>
                  <a:pt x="11960" y="11496"/>
                  <a:pt x="12290" y="10800"/>
                  <a:pt x="12891" y="10800"/>
                </a:cubicBezTo>
                <a:cubicBezTo>
                  <a:pt x="14022" y="10800"/>
                  <a:pt x="14919" y="9434"/>
                  <a:pt x="14919" y="7849"/>
                </a:cubicBezTo>
                <a:cubicBezTo>
                  <a:pt x="14919" y="5534"/>
                  <a:pt x="13065" y="3794"/>
                  <a:pt x="10854" y="3794"/>
                </a:cubicBezTo>
                <a:cubicBezTo>
                  <a:pt x="8643" y="3794"/>
                  <a:pt x="6972" y="5534"/>
                  <a:pt x="6972" y="7849"/>
                </a:cubicBezTo>
                <a:lnTo>
                  <a:pt x="8826" y="7849"/>
                </a:lnTo>
                <a:cubicBezTo>
                  <a:pt x="8826" y="6709"/>
                  <a:pt x="9749" y="5821"/>
                  <a:pt x="10854" y="5821"/>
                </a:cubicBezTo>
                <a:cubicBezTo>
                  <a:pt x="11960" y="5821"/>
                  <a:pt x="12891" y="6709"/>
                  <a:pt x="12891" y="7849"/>
                </a:cubicBezTo>
                <a:cubicBezTo>
                  <a:pt x="12891" y="8589"/>
                  <a:pt x="12421" y="9320"/>
                  <a:pt x="11960" y="9320"/>
                </a:cubicBezTo>
                <a:cubicBezTo>
                  <a:pt x="10854" y="9320"/>
                  <a:pt x="9749" y="10800"/>
                  <a:pt x="9749" y="12323"/>
                </a:cubicBezTo>
                <a:lnTo>
                  <a:pt x="9749" y="14281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15E-E57F-4A22-A416-C8B692D238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rcícios - AG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1700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 base na teoria da evolução, que conclusão podemos tirar sobre o seguinte dilema: "O que veio primeiro, o ovo ou a galinha?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ando-se na teoria da evolução podemos dizer que a galinha teve algum ancestral direto com algumas diferenças em relação à galinha que existe atualmente. A galinha, como todos os outros organismos existentes, passou por um processo de evolução antes de tomar o formato que conhecemos hoje. Assim, podemos concluir que um animal semelhante à galinha foi passando por processos de cruzamento, mutação e reprodução, até que deu origem ao ovo que, por sua vez, deu origem à galinha que existe hoje em dia. Portanto, concluímos que o ovo veio primeiro que a galinh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BEC-198C-444B-B647-DA7306FFD1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06T08:44:51Z</dcterms:modified>
  <cp:revision>562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