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A00-2E0B-41A2-8214-251BD989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360-CF03-4C59-B4EE-D2D854F2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502-44DF-4BC0-9F11-DF88BC35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645-D7A4-4A95-95D9-1BE9EB02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DC151-6DD5-4B07-A819-A4509DC61A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6D947-F037-4B51-AE2D-E5D81CC03C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FA821-18DB-4FF8-AF67-13D6B950B9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80E5E-370B-474B-89F4-DD20F8398E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C78A2-19B4-487D-B52A-CA1B3B9E1D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3CDC9-0694-4E80-AADE-0368C37851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731FA-C8AF-415B-B14F-210A2F223A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0EB-90C2-4350-A292-E71E9273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287A0-61B2-40B9-AB0F-654D430C2D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5A25D-952B-42BF-AEBF-EA048C5274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B44E1-9AC0-49B1-837C-1746D45E7B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5B098-5753-47FD-A5DF-6659297E93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C4617-3E62-4281-AFC8-CB728D9A9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4F2-66C7-4273-A032-CBB1FFB0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B6C-C995-4EBF-9B80-9A9F739D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5EE-8A30-4CEB-9966-5F71CD7F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27F-174D-43E7-B942-2C2344A2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E9C-3606-4CEA-9550-D0DD273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CCA-38EF-4A3B-93DE-75F8C71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056-A7A1-4D11-92FA-99586AB7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D842-CCC9-45A6-AA40-C9E3DC0C368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A574-4C82-46B2-A1B6-DA0B52085A9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65440"/>
            <a:ext cx="576360" cy="476640"/>
            <a:chOff x="900000" y="626544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900000" y="664704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2560" y="64166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27000" y="626508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4720" y="64238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28440" y="627264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Árvore de Decisão - Exerc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iz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vores de decisão - Exercí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7EC-917E-4690-9934-28B1196BF6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628640"/>
            <a:ext cx="756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am recolhidos os dados abaixo (dados de treinamento) de uma linha de montagem com vários sensores. Pretende-se usar aprendizagem por árvores de decisão para identificar quais as peças a rejeitar por serem demasiado frág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19280" y="3933720"/>
          <a:ext cx="6553080" cy="2414520"/>
        </p:xfrm>
        <a:graphic>
          <a:graphicData uri="http://schemas.openxmlformats.org/drawingml/2006/table">
            <a:tbl>
              <a:tblPr/>
              <a:tblGrid>
                <a:gridCol w="1395360"/>
                <a:gridCol w="955800"/>
                <a:gridCol w="1176120"/>
                <a:gridCol w="1847880"/>
                <a:gridCol w="11779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s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ág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41C-219F-4B80-90BD-9C4C63E18E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1773360"/>
            <a:ext cx="75614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 é a entropia do conjunto de exemplos acima? O que representa essa informaçã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24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atributo será selecionado como primeiro atributo a dividir o conjunto? Por quê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97400" indent="-339480">
              <a:spcBef>
                <a:spcPts val="24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e a árvore de decisão correspondente (construída de acordo com o critério de maximização do ganho de informação). Justifique o resultado ob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79C-D9A3-4A11-BC8E-45F311148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19280" y="4508640"/>
                <a:ext cx="4751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19280" y="5157720"/>
                <a:ext cx="55436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ho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tropi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alore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tropi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rcRect l="4965" t="56903" r="77316" b="39174"/>
          <a:stretch/>
        </p:blipFill>
        <p:spPr>
          <a:xfrm>
            <a:off x="1619280" y="6093000"/>
            <a:ext cx="3384360" cy="5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763640" y="1844640"/>
          <a:ext cx="6191280" cy="2376360"/>
        </p:xfrm>
        <a:graphic>
          <a:graphicData uri="http://schemas.openxmlformats.org/drawingml/2006/table">
            <a:tbl>
              <a:tblPr/>
              <a:tblGrid>
                <a:gridCol w="1319400"/>
                <a:gridCol w="901440"/>
                <a:gridCol w="1111320"/>
                <a:gridCol w="1746360"/>
                <a:gridCol w="11127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s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ág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A9A-BED4-4DF2-9A00-8ED5BA12BF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8-25T09:57:25Z</dcterms:modified>
  <cp:revision>73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