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7DBF-5B4E-4113-9F28-340E1B402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7180-590A-4941-A70B-6B262B8F3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E53A-C0AF-4B8D-8CC8-40AB0D683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B7DF-8C81-498B-922F-C6EDE3889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2B19-71D4-412E-A9C4-C67777F7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1E0C-5F93-46CE-B4DB-5F801FF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7D73A-1E28-40FD-BEC6-27B1183F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56F65-2B76-4E84-8493-7A774A0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A4AD-B79A-46C0-808F-DD98E17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7ABD8-A57B-4E74-AB54-1C5E66E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C7FF-3445-4220-837D-06EED02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E220-0CDE-4560-89B4-38069E8F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382F3-7CB0-4574-BD89-DC7C8D1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868CA-E153-4ECA-9AD4-B273855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4C85F-CCDE-46C7-8DA9-40E0D44B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ADC1-3FD2-4635-AB29-05C2B15A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43FA7-6A4D-4B41-BA76-F4945D6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537A-01FD-4BA2-BAF0-F83DC0BA9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05F0-9324-4BC6-BD96-8D38E651E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A49E-0584-4C36-B959-1A6058A0D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2FF0-A5AD-4625-B7C0-FE776717D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E420-D953-4CAC-98F7-F3A879C3E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3ACA-3B70-4F30-839F-755D9457F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4C79-D5D7-471C-8790-AFDBD617A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BDB-78E6-4B2E-AA0C-C6C713A713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7C6-7F37-4D8B-9FB1-10A7568A18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íci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320" y="1989000"/>
            <a:ext cx="86104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33440" indent="-419040" algn="just">
              <a:spcBef>
                <a:spcPts val="55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ais os serviços que devem ser oferecidos a partir do uso da Criptografia? Explique ilustrando, através de uma situação real, o uso desses serviç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spcBef>
                <a:spcPts val="55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acteriz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Para tanto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 algn="just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eva o funcionamento de um sistema que utiliza cada tipo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 algn="just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que as principais diferenças entre esses tipos, vantagens, desvantagens e exemplos de algoritmos utilizados em cada 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xercíci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C257-1787-4FB9-9A08-A4FD33FE3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Elmar Melcher</cp:lastModifiedBy>
  <dcterms:modified xsi:type="dcterms:W3CDTF">2005-02-12T01:49:19Z</dcterms:modified>
  <cp:revision>551</cp:revision>
  <dc:subject/>
  <dc:title>Segurança da Informação</dc:title>
</cp:coreProperties>
</file>