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CBD0-F256-4758-A992-198418921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FF23-0EF0-44A5-9FDD-D57153A4C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19AE-9AF2-44A6-84F1-17E6A893B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56FA-CB84-4C84-BF78-9DDDC4BF9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A9D25-C87E-40CF-B1CF-D05B2ACA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9554F-9A97-4132-870F-929BC857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00C2F-6D39-47B5-B15B-B956539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A813E-BD6E-4930-AE09-194BE4A3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C78FB-5755-47CC-8E38-4CA5926C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F7137-674C-44F1-8E16-4EF2D305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E22B4-0C4A-4F10-B393-42D474F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0CD8-95DA-4657-8587-776BA607D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8F60B-4C93-4D62-A74F-D8BF372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02E3E-7C2F-4CAF-9A6E-1408677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38CED-67CA-4E44-8D0C-B08E66FF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2059A-A661-42C4-9FBB-EBCFC071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5C956-61BD-4845-ADB3-9DB74EC0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4572-6507-442E-AF76-CAB5210B3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1416-AF3A-460E-8B87-EB2E448B2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0BA1-D2AD-4F56-B4BF-A7224B59B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741D-5A73-490A-9D15-09E1D2A69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45B1-D6A3-41B3-8A25-56F6F0828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952D-9AE8-4F50-AF11-46F202447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3D2F-8E07-4DFB-A27A-C91FA4410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623-E645-48B7-AFE6-4D39F81AB5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126C-8C32-4C3F-AB92-7038E0A3B5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Parte 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5640" y="212256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omendação ITU-T, a especificação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X.509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efine o relacionamento entre as autoridades de certificaçã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az parte das séries X.500 de recomendações para uma estrutura de diretório global, baseada em nomes distintos para localizaçã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ado pelo S/MIME, IPSec, SSL/TLS e 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aseado em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iptografi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com chave pública (RSA) e assinatura digital (co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hash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A3B8-65E1-43E8-9B75-C9F8377BF5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ormato X.5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2128680"/>
            <a:ext cx="7991640" cy="439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5805-8EB0-4B01-9BE6-BBE11D1012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recomendação X.509 do ITU-T descreve dois níveis de autenticaçã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utenticação simpl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- usa um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passwor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para verificação de uma identida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utenticação for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- envolve credenciais consolidadas por técnicas criptográf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O segundo modelo utiliza uma estrutura de serviços controlados por um paradigma central chamado Diretó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iretório  - implementado por um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Autoridade Certificador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CA) que emite certificados para que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assinant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Clientes da CA) possam ser verificados por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suári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 (público em geral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75C2-700B-4845-B236-C79465FF26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tidades reconhecidas pelo X.509 para procedimentos de certificaçã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in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utra entida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autoridade de denominação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ormalmente não é visível, mas define qual o plano de nomes utilizado pela CA. A NA pode coexistir em um servidor com uma CA mas as funções são completamente diferentes. Um certificado de uma CA usa um nome como referência, cuja criação é atribuição da N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11C7-1A78-452A-B02E-AF17A1D153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4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me genérico de qualquer entidade que controla serviços de autenticação e administra certificado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mbém conhecida como emitente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ssu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e pode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úblic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um banco que emite certificados para permitir a seus clientes o acesso a suas contas correntes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omer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um provedor de serviços que comercializa certificados para outras entidades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rivad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uma empresa que emite certificados para seus funcionários exerçam as suas atividades) ou pessoal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 costumam ser independentes mesmo quando operam em um mesmo paí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9EB5-554B-40CF-A1F0-03F28CA821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1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ções técnicas e legais entre CAs, assinantes e usuários - reguladas por um documento chama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claração de Práticas de Certificação (DP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mitido e definido internamente por cada CA para especificar limites da abrangência de sua responsabilida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PCs - não fazem parte do escopo da X.509, embora esta recomendação especifique alguns itens que devem constar nas mesm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CDA9-B0C3-4059-BFF4-71F84D4711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1835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in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idade que fornece as informações que devem constar em seu próprio certificado, assinado por uma C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acordo com o que está definido na DPC, as informações fornecidas pelo assinante devem ser endossadas pelo emite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lmente o “endosso” é sem recurso - a CA copia os dados fornecidos pelo assinante em seu certificado sem agregar qualquer tipo de confirmação e não existem garantias que as informações são reai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A pode instituir diversos tipos de certificados em que a diferença é caracterizada pelo seu empenho em confirmar as informações que estes contê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892C-13A9-4374-84ED-D700BB53D0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4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uá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quer entidade que utiliza os certificados emitidos por uma CA para obter informações de um assina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s usuários podem utilizar qualquer CA ou qualquer número de CAs dependendo da sua localização e facilidade de acess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usuário é o ponto central de decisão em todos as etapas do processo porque é a entidade que “banca” os ris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DADA-E678-4B53-89F1-4DE3116D0C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recomendação X.509 (versão 3) define um certificado como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have pública de um usuário acompanhada de alguma informação adicional, criptografada com a chave privada da autoridade certificadora que o emitiu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recomendação tem várias questões em aberto relacionadas com o conteúdo dos certificados e as suas condições de emissão e revoga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158B-D506-44FF-AFD2-7ED15ED67F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A X.509 especifica que o certificado determina a associação entre o nome (DN) e a chave pública do usuá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Segundo a X.509, “A autenticação pressupõe que cada usuário tenha um nome distinto único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Como os DNs são determinad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São realmente únic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Um mesmo usuário pode ter DNs distintos em CAs diferentes ou um mesmo DN em múltiplas 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A8EB-C172-46B7-96C6-7E84067478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580000" y="3429000"/>
            <a:ext cx="2538360" cy="2657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Impact"/>
              </a:rPr>
              <a:t>Tópic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579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formações Adiciona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Kerb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X.509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3318-0FE0-488D-A74D-A146FD5004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O X.509 é controverso em relação ao procedimento de validação dos dados incluídos em um certificado (com exceção do procedimento de validação da chave pública que é sugerido, não impost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De acordo com a X.509, “Uma autoridade  certificadora deve confirmar a identidade de um usuário antes de emitir um certificado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12B7C-A676-48CB-8A6B-6E4A5A6782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iderações  para Aumentar a Privacidade e Segurança com Certificados X.5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ertificados não dispõem de uma aura mágica de segurança só porque são assinados digital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assinatura, o conteúdo, a validade ou toda a cadeia de certificação pode estar comprometida como resultado de uma fraude, de uma falha (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u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) ou de uma revogaçã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CC0C-C3F3-4286-AC69-6E6A05A6FE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4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cisões sobre Credibilidade Retiradas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lguns fornecedores de servidores utilizam certificados de CAs pré-determinadas e obrigam os usuários a aceitarem uma assinatura vinculada ao software cli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procedimento contraria a premissa de que o usuário deve ser o centro das decisões em todas as etapas do processo porque é quem “banca” os ris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BEF0-F3A4-4629-899F-CCE35B9CE3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Credibilidade Automá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dimento de decidir pelo usuário as questões relativas à confiabilidade em uma conex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rowse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ou cliente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-mai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rmazena certificados no computador junto com certificados que o próprio usuário armazenou e conf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1D31-84B7-471D-8660-CB45D4BF6A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Registro de Certifica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ertificados armazenados sem autorização  ficam órfãos quando a mensagem é excluí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usuário não tem como conectar o certificado com a sua origem, criando um certificado “virgem”, que nunca foi e nunca vai ser utiliz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certificado é armazenado no equipamento do usuário e ativado como credencial de credibilidade por toda a sua vida út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9DA8-2E00-46CC-A5F4-6E2A38C8FD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feito Dominó de Certificados Expir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 período de validade de um certificado de cliente ou servidor não pode exceder o período de validade da CA que o ass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do o certificado de uma CA expira, cria um efeito dominó sobre todos os certificados assinados por e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o certificado da CA está expirado, a sua chave privada pode estar comprometida e qualquer certificado assinado por ela pode ser fals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7412-AD49-429D-B8AE-F1343521B5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ida Útil dos Certific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 os recursos disponíveis atualmente, a vida útil de um certificado deveria ser bem menor que o período de um ano normalmente oferecido pelas 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esforço e custo para comprometer um certificado são absurdos (?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m modelo matemático propõe que a vida útil de um certificado deve ser inversamente proporcional à soma dos inversos da vida útil de cada atribu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DD8B-713C-4D73-8CE6-E20FD74698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186920" y="206064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have pública de uma Autoridade Certificadora - é um alvo natural para tentativas de comprometimento (por esta razão as CAs usam chaves extensas e adotam procedimentos regulares de troca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s mais utilizadas - são uma exceção a esta reg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s mais expostas - são as que têm o menor nível de proteçã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X.509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8676-4FD1-4D79-99D4-F9B4A3F592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90960" y="2462040"/>
            <a:ext cx="3224160" cy="311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133880" y="3583080"/>
            <a:ext cx="965160" cy="876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59520" y="2887560"/>
            <a:ext cx="315720" cy="569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3375000" y="3573360"/>
            <a:ext cx="433440" cy="693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475160" y="4846680"/>
            <a:ext cx="655560" cy="449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5320" y="29624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8880" y="52261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u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772080" y="3289320"/>
            <a:ext cx="1336320" cy="48744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97280" y="4241880"/>
            <a:ext cx="853920" cy="66996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987800" y="3573360"/>
            <a:ext cx="277920" cy="12178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91080" y="4336920"/>
            <a:ext cx="228600" cy="4543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844520" y="3432240"/>
            <a:ext cx="312840" cy="2617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66400" y="3787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0080" y="31687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re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03280" y="2565360"/>
            <a:ext cx="1589040" cy="5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i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03280" y="5013360"/>
            <a:ext cx="157500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00720" y="2503440"/>
            <a:ext cx="1515960" cy="6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ir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5024520"/>
            <a:ext cx="1517760" cy="6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mazen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5932440"/>
            <a:ext cx="1334880" cy="52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l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2720" y="1628640"/>
            <a:ext cx="161460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v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196720" y="6199200"/>
            <a:ext cx="16239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209680" y="560340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209680" y="3211200"/>
            <a:ext cx="0" cy="175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196720" y="1892160"/>
            <a:ext cx="16239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211480" y="189504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448240" y="1895400"/>
            <a:ext cx="16257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101000" y="194436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10360" y="3209400"/>
            <a:ext cx="0" cy="175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iclo de Vida de um Certificad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76A3-D8D1-4AD8-98DD-69833917D0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90960" y="2462040"/>
            <a:ext cx="3224160" cy="311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133880" y="3583080"/>
            <a:ext cx="965160" cy="876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159520" y="2887560"/>
            <a:ext cx="315720" cy="569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375000" y="3573360"/>
            <a:ext cx="433440" cy="693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475160" y="4846680"/>
            <a:ext cx="655560" cy="449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95320" y="29624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68880" y="52261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u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772080" y="3289320"/>
            <a:ext cx="1336320" cy="48744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7280" y="4241880"/>
            <a:ext cx="853920" cy="66996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987800" y="3573360"/>
            <a:ext cx="277920" cy="121788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91080" y="4336920"/>
            <a:ext cx="228600" cy="4543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844520" y="3432240"/>
            <a:ext cx="312840" cy="26172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66400" y="3787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40080" y="31687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re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2565360"/>
            <a:ext cx="1589040" cy="56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i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5013360"/>
            <a:ext cx="157500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00720" y="2503440"/>
            <a:ext cx="1515960" cy="6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ir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00720" y="5024520"/>
            <a:ext cx="1517760" cy="6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mazenar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5932440"/>
            <a:ext cx="1334880" cy="52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l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52720" y="1628640"/>
            <a:ext cx="1614600" cy="64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v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ert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196720" y="6199200"/>
            <a:ext cx="16239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560340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209680" y="3211200"/>
            <a:ext cx="0" cy="175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196720" y="1892160"/>
            <a:ext cx="16239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211480" y="189504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48240" y="1895400"/>
            <a:ext cx="1625760" cy="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101000" y="1944360"/>
            <a:ext cx="0" cy="58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7110360" y="3209400"/>
            <a:ext cx="0" cy="1754280"/>
          </a:xfrm>
          <a:prstGeom prst="line">
            <a:avLst/>
          </a:prstGeom>
          <a:ln w="28440">
            <a:solidFill>
              <a:srgbClr val="00cc99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Impact"/>
              </a:rPr>
              <a:t>Ciclo de Vida de um Certificado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8278-0549-4661-B2B3-3E4968DCC7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colo criado no MIT no final da década de 198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ma das formas de autenticação de usuários e serviços disponível a partir do Conectiva Linux 8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envolvido para fornecer autenticação poderosa em aplicações usuário/servidor, em que este funciona como a terceira parte no processo, oferendo autenticação ao usuári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ra denominação para o Servidor Kerbero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ey Distribution Cen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KDC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5881680"/>
            <a:ext cx="78487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erberus (Kerberus para os gregos) -  cão com três cabeças que tem por missão proteger a entrada do inferno de Had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4B329-017A-4E73-9952-C57E35849B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Kerberos - Visão G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769080" cy="444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9D04-BE65-481F-88BF-134F990AB9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protocolo fornece uma rede de segurança, regulando o acesso de usuário a serviços de red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 ambiente Kerberos, pelo menos um sistema executa o Servidor Kerberos. Este sistema precisa ser mantido seguro. O Servidor Kerberos, chamado de servidor confiável, fornece serviços de autenticação para provar que o usuário requisitante é genuín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administrador do sistema supõe que outros servidores na rede e todos clientes não são confiáveis. Para o protocolo Kerberos funcionar, todos sistemas que transmitem sobre o protocolo precisam confiar apenas no próprio Servidor Kerbe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B009-FCAF-4D1D-A745-CA120FB1BE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6920" y="1989000"/>
            <a:ext cx="74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ém de fornecer autenticação, o Kerberos pode oferecer outros serviços de segurança, como integridade e confidencialidade dos d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Kerberos usa chave privada de criptografia baseada no DES. Cada cliente e servidor tem uma chave DES privada. O protocolo Kerberos refere-se a estes clientes como principais. A senha do cliente mapeia a chave privada do client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A40F-7C65-49BC-9DF8-E00F889074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184464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ingle sign-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 usuário só precisa fornecer a senha uma vez, normalmente no início da sessão. Depois disso a senha não precisa ser informada outra vez se algum serviço for acessado. Por exemplo, a senha não será mais pedida ao acessar a conta de correio eletrônic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nha criptografad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senha nunca trafega em texto claro pela red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autenticação centralizad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mesma senha é usada para diversos serviços, todos consultam uma base de dados centralizada. O usuário não precisa memorizar várias senhas e uma política de senhas global pode ser facilmente criad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E73E-1172-49CB-ADBF-3C635D281D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dundânc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ervidores de autenticação secundários são previstos no protocol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últiplos domíni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ode ser criada uma estrutura hierarquizada de autenticação, de forma que usuários de um domínio possam se autenticar em outr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onfiguração do cliente facilitad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boa parte da configuração do cliente pode ser colocada no DNS, de modo que, em muitos casos, não é necessário alterar uma linha sequer na estação de trabalho para que ela comece a usar Kerber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adrã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Kerberos V é um padrão documentado e implementações diferentes que obedeçam ao mesmo padrão podem conversar entre s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C905-55D8-441D-9400-A300BC2A40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Verdana"/>
              </a:rPr>
              <a:t>Ticket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são usados para requisição de serviç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utenticação confiá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e chaves criptográficas efe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tege contra Interceptação, Fabricação, Modificação e Interrupção de dados em trâns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vantag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rmalmente depende de autenticação por usuário/senh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Kerber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442A-05B6-43D2-807D-7E4815B35E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joseana</cp:lastModifiedBy>
  <dcterms:modified xsi:type="dcterms:W3CDTF">2005-04-02T00:37:05Z</dcterms:modified>
  <cp:revision>924</cp:revision>
  <dc:subject/>
  <dc:title>Segurança da Informação</dc:title>
</cp:coreProperties>
</file>