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486D-4F83-4EE6-9BDF-660BB6A5F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5C0C-9312-40BF-B9E7-77874075E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4A1A-C748-4138-8D5A-77101F616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CA2C-E19E-4611-82F4-498AF3B9C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BD67D-0065-4732-8838-B53D4C9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C9E30-75EF-43AF-81D8-202ADF02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4D606-4F2E-473E-AF12-3B0F118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E9D6-F3FF-4000-8617-3675929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0CD9-881B-4EBC-A7E3-586DBDD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6697-D563-46E0-A01B-110C4D6B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697C-D9BE-4D68-A4A9-6445D09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7321-26EA-4EC6-8CA9-F8A1DB441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639F-6371-4D20-923D-68AFFE1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4092-B7C7-4998-AF66-067829C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5CBF6-794E-4BE1-A3E9-3D4ED94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5B6A8-48B8-41A3-AA32-29F7261F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0EED-95BF-413C-9BE7-70E8E7F0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2200-3839-4A24-9C49-2A18CEF73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13BD-97C5-45AD-AEA6-545BCF99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CE76-56D4-4240-A672-6CD58BC16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8BAE-E861-495F-8902-9884D28C0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ACB4-5681-4E6A-BFDD-DF8B09604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CDC2-09A6-4ED7-BCD8-7F1044DF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BA07-3C03-4184-BEBF-89E602550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7F1-0679-4404-B15B-19A0F456C8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A87-5D92-4FCD-917F-7342651AA4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9218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os algoritm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?  torná-lo independente do tipo de algoritmo utilizado (menos susceptível à violação,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dade permite que sejam utilizadas as normas  mais recentes disponíveis, incrementando a segurança)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as granularida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? tornar possível a proteção de uma única conexão TCP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todo o tráfego entre um par de hosts o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todo o tráfego entre um par de roteadores seguro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5AC2-E7C2-4493-B973-AD7E1F3ED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bora esteja na camada de IP é orientado à conex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nominação da conex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SA (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curity Associa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simplex entre dois pontos extremos e tem um identificador de segurança associado a mes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houver necessidade de tráfego seguro em ambos os sentidos – serão exigidas duas associações de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dores de segurança – transportados em pacotes, percorrem as conexões seguras e são usados para pesquisar chaves e outras informações relevantes ao chegar um pacote segu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6DCE-08C3-41F7-989E-05FB4E8E38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entidade deseja estabelecer uma associação de segurança - utiliza um SP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curity Parameter 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um endereço de destino (da entidade na qual se deseja fazer  a comunicação segura) e envia essas informações à entidade com que se quer estabelecer o canal seguro.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cada sessão de comunicação autenticada serão necessários dois SPIs, ou seja, um para cada sentido, devido ao fato de que a associação de segurança 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direci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5AB2-BB5F-4B19-A7EA-E8953E181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5040360" cy="3827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433160" y="177336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rnp.br/newsgen/9907/ipsec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5C54-F4E9-49D8-9F46-DC5B05DAC8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canismos de segurança inclusos no IPSec (definidos pelas especificações do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e cabeçalho (AH -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uthentication head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o encapsulamento IP (ESP -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ncrypted security paylo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cabeçalhos de extensão se seguem ao cabeçalho IP princip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beçalho de autenticação - 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beçalho para privacidade - ES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IPSec no IPv6 encripta os dados em todo o seu percurso enquanto no IPv4 os dados apenas podiam se encriptados entre roteadores da camada de distribuiçã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F2B9-5D96-49D1-BFBF-CE39309742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 de cabeçal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egura ao destinatário que os dados IP são realmente do remetente indicado no endereço de origem, e que o conteúdo foi entregue sem modificaçõ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 de algoritmo de autenticação utilizado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do encapsulamento 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confidencialidade, autenticação da origem e integridade dos dados encapsulados no pacote I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 de algoritmo de criptografia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/3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76C5-0D29-4270-96A2-3289B476C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530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beçalho de autenticação do IP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993080" cy="28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CB46-7C49-4713-A593-1B4F62288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4941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 ESP em modo de transporte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b) ESP em modo de tú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540000">
            <a:off x="684360" y="2193480"/>
            <a:ext cx="8280360" cy="263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9345-0EED-4D5E-A1EF-2F39F0187B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algoritmos de autenticação e criptografia utilizam o conceito de associação de segurança entre o transmissor e o recep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transmissor e o receptor devem concordar com uma chave secreta e com outros parâmetros relacionados à segurança, conhecidos apenas pelos membros da associaçã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ara gerar as chaves provavelmente será utilizado o IKMP (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Internet Key Management Protoco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empresa pode usar uma rede TCP/IP privada segura eliminando os links com instalações não-confiáveis, cifrando os pacotes que deixam as suas instalações físicas e autenticando os pacotes que entram nas suas instalações físic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C269-E7CB-48C4-9692-FCEBB14264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déia bás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mpedir a entrada de intrusos e a saída de dados secr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un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reiras interpostas entre a rede privada da organização e a rede externa, baseados na combinação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u somente em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sa o tráfego entre a rede interna e a rede externa em tempo real, permitindo ou bloqueando o tráfego de acordo com as regras definidas previ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5734080"/>
            <a:ext cx="7848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gundo Tanenbaum, os Firewalls são apenas uma adaptação moderna de uma antiga forma de segurança medieval: cavar uma fossa profunda em torno do castelo, ponte levadiça eletrônica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irewal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50BC-378A-461D-8EE9-CAE183B4BD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55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urança da Comun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de Correio Eletrô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na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84720" y="4411800"/>
            <a:ext cx="2221200" cy="16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5B9F-7B80-419A-9FC5-A87DD7435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7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27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m firewall que consiste em dois filtros de pacotes e um gateway de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3BC2-DD52-4560-9DF0-46863E173F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Firewal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– Problemas de seguranç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intruso pode inserir falsos endereços de ori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usuário interno pode transportar documentos secretos  utilizando, por exemplo, arquivos JPEG que passam por filtros de palav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ca de 70% dos ataques vêm de dentro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rew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para desativar o destino em vez de roubar dados (DOS –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enial of Serv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negação de serviç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intruso entra em centenas de computadores e depois comanda todos os computadores em um ataque ao mesmo alvo ao mesmo tempo - DDoS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istributed Denial of Serv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CB57-6508-4353-8FFF-54CDFE6A1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04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-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ç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é uma rede privada construída dentro da infra-estrutura de uma rede pública, como a Internet, utilizando recursos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garantir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fidencial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os dados trafeg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ncipais objetivos na Implantação de uma VP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ponibilizar acesso por meio de redes públicas, Internet, a baixo cus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olar uma rede distribuída contra interferência extern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ger a privacidade e a integridade de mensagens atravessando redes não confiáveis (públicas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ipular toda faixa de protocolos da Internet correntemente em uso de forma transparen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E6EE-BD72-4AD2-BCE6-286B4D34EE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567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cterísticas mínimas desejáveis para uma VPN sob o aspecto da seguranç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enticação de Usuári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Endere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ptografia de D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Cha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rte a Múltiplos Protoco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47CE-65AF-406C-97A5-9BA15304DB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1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urança - Idéia bás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utilizar, a partir da rede pública de telecomunicações,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úne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de criptografia entre pontos autorizados, criados através da Internet ou outras redes existentes (públicas ou privadas) para a transferência de informações, de modo seguro, entre redes ou usuários remot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B1A7-74A3-4351-8136-92A2E6B707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o IPSec for utilizado no “tunelamento”, será possível agregar todo o tráfego entre dois pares de escritórios quaisquer em uma única SA autenticada e criptografada, fornece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e de integridad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ilo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é mesmo uma considerável imunidade à análise de tráf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C78F-0C47-45B7-BE59-CDFDDE400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do um sistema é criado, cada par de firewall tem de negociar os parâmetros de sua SA, incluindo os serviços, os modos, os algoritmos e as cha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walls, VPNs e IPSec com ESP em modo túnel formam uma combinação natural e amplamente usada na pr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tagem dessa forma de organização de uma VPN – completa transparência para todo o software do usuário (o administrador de sistema tem que configurar e administrar o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rewa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CDB5-1BB1-4466-A29C-5BD4A1D7DD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34920" y="5084280"/>
            <a:ext cx="62974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a) Uma rede privada de linha  dedicada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b) Uma rede privada vir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5640" y="2300400"/>
            <a:ext cx="7993080" cy="27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5129-BD31-4B70-A9CC-F01F779686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lcance das redes 802.11 freqüentemente é de algumas centenas de metros – facilidade de captura de informaçõ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rede sem fio é um sonho que se tornou realidade para o espião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ados gratuitos sem qualquer trabalh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5F38-3813-4C47-9E13-4C056BF642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drão 802.11 define um protocolo de segurança do nível de enlace de dados, chamado WEP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ired Equivalent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ção do WEP: criptografar os pacotes sem f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WEP 802.11b oferece duas formas de criptografia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40 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128 bits (802.11a e 802.11g incluem uma terceira variante, 152 bits).</a:t>
            </a:r>
            <a:r>
              <a:rPr b="0" lang="pt-BR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D8AC-B91B-4E85-A0E1-B39232C409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Segurança na Arquitetura TCP/IP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014560" y="2362320"/>
            <a:ext cx="1959120" cy="946440"/>
          </a:xfrm>
          <a:prstGeom prst="rect">
            <a:avLst/>
          </a:prstGeom>
          <a:solidFill>
            <a:srgbClr val="99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tocolo de Apl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TP, SMTP, HTTP, Telnet, SNMP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4560" y="3276720"/>
            <a:ext cx="1960560" cy="733320"/>
          </a:xfrm>
          <a:prstGeom prst="rect">
            <a:avLst/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, U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4560" y="4800600"/>
            <a:ext cx="1977840" cy="733320"/>
          </a:xfrm>
          <a:prstGeom prst="rect">
            <a:avLst/>
          </a:prstGeom>
          <a:solidFill>
            <a:srgbClr val="99cc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, Token Ring, FDDI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4560" y="4038480"/>
            <a:ext cx="1965240" cy="733320"/>
          </a:xfrm>
          <a:prstGeom prst="rect">
            <a:avLst/>
          </a:prstGeom>
          <a:solidFill>
            <a:srgbClr val="0066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4560" y="5562720"/>
            <a:ext cx="1981080" cy="733320"/>
          </a:xfrm>
          <a:prstGeom prst="rect">
            <a:avLst/>
          </a:prstGeom>
          <a:solidFill>
            <a:srgbClr val="5f5f5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14560" y="2057400"/>
            <a:ext cx="1959120" cy="307080"/>
          </a:xfrm>
          <a:prstGeom prst="rect">
            <a:avLst/>
          </a:prstGeom>
          <a:solidFill>
            <a:srgbClr val="cc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62864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egurança pode ser implementada em diversas camadas da arquitetura TCP/I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608360"/>
            <a:ext cx="3457440" cy="717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6480" y="4608360"/>
            <a:ext cx="647640" cy="717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81760" y="4710240"/>
            <a:ext cx="2522520" cy="5140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5120" y="3527280"/>
            <a:ext cx="517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62800" y="352728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7960" y="3578400"/>
            <a:ext cx="64764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75600" y="3578400"/>
            <a:ext cx="110016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49920" y="3054240"/>
            <a:ext cx="647640" cy="257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97560" y="3054240"/>
            <a:ext cx="1100160" cy="257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4762440"/>
            <a:ext cx="51768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62800" y="476244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960" y="4813200"/>
            <a:ext cx="64764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75600" y="4813200"/>
            <a:ext cx="110016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8920" y="4710240"/>
            <a:ext cx="582840" cy="5140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4029120"/>
            <a:ext cx="2522520" cy="512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5120" y="4081320"/>
            <a:ext cx="51768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62800" y="408132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7960" y="4132440"/>
            <a:ext cx="64584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73800" y="4132440"/>
            <a:ext cx="110016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7480" y="4029120"/>
            <a:ext cx="584280" cy="512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386320"/>
            <a:ext cx="4648320" cy="8780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5486400"/>
            <a:ext cx="3458880" cy="7174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6480" y="5486400"/>
            <a:ext cx="647640" cy="7174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81760" y="5587920"/>
            <a:ext cx="2522520" cy="514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5120" y="5640480"/>
            <a:ext cx="517680" cy="40932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2800" y="5640480"/>
            <a:ext cx="1877760" cy="40932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7960" y="5691240"/>
            <a:ext cx="64764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5600" y="5691240"/>
            <a:ext cx="110016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8920" y="5587920"/>
            <a:ext cx="582840" cy="514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2209680"/>
            <a:ext cx="1100160" cy="255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762920" y="4800600"/>
            <a:ext cx="179640" cy="1523880"/>
          </a:xfrm>
          <a:custGeom>
            <a:avLst/>
            <a:gdLst>
              <a:gd name="textAreaLeft" fmla="*/ -360 w 179640"/>
              <a:gd name="textAreaRight" fmla="*/ 64440 w 179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5300640"/>
            <a:ext cx="1152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nolog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terogê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760" y="304812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3080" y="36576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480" y="41148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48006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840" y="571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24382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üência de empaco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1C61-4339-463C-84D6-853D6ACF86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802.11 ativ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estação tem uma chave secreta compartilhada com a estação base (o padrão não especifica a forma como as chaves são distribuída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vez estabelecidas, em geral as chaves permanecem estáveis por meses ou an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6254-667A-4BF4-904E-395699FAFF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313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dificação de pacotes usando a W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6021360"/>
            <a:ext cx="691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m método para romper essa abordagem foi publicado em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2BC1-951E-40DC-B320-A6E6F9AD46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ido à lentidão por parte de alguns fabricantes de hardware sem fio, o WEP nem sempre é ativado por padrão, e alguns fabricantes (notavelmente a Apple) não oferecem suporte total à versão mais segura de 128 bits do WE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Windows 2000, o Windows XP e o Windows Server 2003 incluem recursos de segurança para WLAN que pode ser usado para reforçar a segurança do sistema sem fio, e os pontos de acesso da WLAN provavelmente podem ser configurados para serem mais segu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86E9-F2A1-460C-89D5-D3B100C837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m um alcance bem mais curto que o 802.11 – não pode ser atacado a partir do estacionamento – mas isso não resolve o problema da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 segurança em várias camadas (p.ex.: Camada física – uso de saltos de freqüência - não é sec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fetua a autenticação apenas de dispositivos, não de usuários. O furto de um dispositiv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luetoot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dar ao ladrão acesso às informaçõ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32CA-E3BF-47C7-9B87-1F71C719E1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WAP 2.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Wireless Aplication Protoco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protocolos padrão em todas as cam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 de rede - admite o uso total do IP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 de transporte – proteção utilizando TLS (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Transport Layer Securit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colo para comunicações seguras - criptografia e autenti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ibliotecas de criptografia da camada de aplicação – controle de integridade e não-repú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A708-BC6E-4CEF-9A75-7631546F47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GP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M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rivacy Enhanced Ma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/MIME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MI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4950-4929-4449-BF3A-715B150C64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(Pretty Good Priv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cote completo para segurança de mensagens de correio eletrônico que forne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inaturas Digit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ac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oferece recursos de correio eletrô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ído gratuitamente via Internet (pacote completo incluindo código fon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taformas: UNIX, Linux, Windows e Mac 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0AE7-3C18-43CA-8CD6-FE9C37306E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(Pretty Good Priv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dificação: IDEA, chaves de 128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e chaves: 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: MD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AA48-6593-4F10-9E46-6638333C25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65784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PGP em operação para enviar uma mensag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9800" y="2425680"/>
            <a:ext cx="7954920" cy="370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0F80-0492-4E92-8771-AC7D971F96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amanhos de chave aceitos pelo P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su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384 bits): pode ser decifrado com facilidade atual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ercial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512 bits): pode ser decifrado por empresas de inform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ilit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1.024 bits): ninguém no planeta pode decif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Verdana"/>
              </a:rPr>
              <a:t>Alienígen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2.048 bits): não pode ser decifrado por ninguém de outros plane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871A-6215-4C84-B296-8F070E78B1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301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plicação de Criptografia em Segurança em Re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4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Localização de protocolos dentro do TCP/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76360" y="2781360"/>
          <a:ext cx="2422440" cy="1152360"/>
        </p:xfrm>
        <a:graphic>
          <a:graphicData uri="http://schemas.openxmlformats.org/drawingml/2006/table">
            <a:tbl>
              <a:tblPr/>
              <a:tblGrid>
                <a:gridCol w="838080"/>
                <a:gridCol w="792360"/>
                <a:gridCol w="7920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N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/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515960" y="4078440"/>
            <a:ext cx="2303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) segurança de re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2000" y="4059360"/>
            <a:ext cx="288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b) segurança de 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3640" y="2421000"/>
          <a:ext cx="2422800" cy="1530360"/>
        </p:xfrm>
        <a:graphic>
          <a:graphicData uri="http://schemas.openxmlformats.org/drawingml/2006/table">
            <a:tbl>
              <a:tblPr/>
              <a:tblGrid>
                <a:gridCol w="838440"/>
                <a:gridCol w="792000"/>
                <a:gridCol w="7923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N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826920" y="4579920"/>
            <a:ext cx="8066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ocolos da camada de aplicativo dentro do TCP/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19640" y="5013360"/>
          <a:ext cx="2303280" cy="1530360"/>
        </p:xfrm>
        <a:graphic>
          <a:graphicData uri="http://schemas.openxmlformats.org/drawingml/2006/table">
            <a:tbl>
              <a:tblPr/>
              <a:tblGrid>
                <a:gridCol w="1150560"/>
                <a:gridCol w="115272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M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D747-06E3-45C4-9599-2E2C35A632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694692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ormato de uma mensagem PGP clás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2697120"/>
            <a:ext cx="838656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3C03-48CB-4786-8092-196621F750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- Gerenciamento de Chave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usuário mantém duas estruturas de dados localment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 anel de chave 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ontém um ou mais pares de chave pública/privada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 anel de chave pública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contém as chaves públicas dos correspondentes do usuá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bs.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Na prática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– freqüentemente as pessoas recebem chaves públicas consultando um servidor de chaves confiável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 da padronização do X.509, o PGP também passou a admitir esses certificados, bem como o mecanismo tradicional de anel de chaves públicas do PGP. Todas as versões do PGP têm suporte X.5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FEAB-9F03-4C3C-A15B-CC041C7D0E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ivacy-Enhanced Mai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P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ão da Internet para o envio de mensagens de correio eletrônico criptografa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i criada uma implementação utilizando a lógica do DES chamada de Riodan's Internet Privacy-Enhanced Mai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P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riada pelo americano Mike Riord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osso mo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obre o mesmo território do PGP: privacidade e autenticidade para sistemas de correio eletrônico baseados na RFC 82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a: falta de utilização – Quem iria operar a raiz e sob que condições? (Estrutura rígida de certifica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7272-EAE6-4A24-BB1B-046F1607C7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/M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/Multipurpose Internet Mail Extension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Especificação para manter o e-mail segu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creve um protocolo  para a adição de serviços criptográficos de segurança por meio do encapsulamento de MIME de objetos encriptados e assinados digit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ofereci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ão-repú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idade de mens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dencialidade de mens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FA8A-30B4-455D-9E43-F5077FDD91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/M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mite uma variedade de algoritmos criptográf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que todos os tipos de mensagens sejam proteg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tem uma estrutura rígida de certificados – os usuários podem ter várias âncoras de confianç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5935-AED9-4ABB-917F-2C38760D2F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eaç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nclatura seg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poofing de DNS, DNS seguro, Nomes autocer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SL –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T – Secure Eletronic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o Código Mó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e miniaplicativos Java, Activ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Script, Vír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BF78-0D3A-4DA2-ABB3-80FA5DBF77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meaç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vasão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tes “derrubados”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ataques de negação de serviço (p.ex.: DDo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site “espelho”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ntre out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D57F-0B4D-47D7-82B4-5EB1A11CC9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7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menclatura Seg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587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 Situação normal.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b) Um ataque baseado na invasão do DNS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     e na modificação do registro de B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692360" y="2141640"/>
            <a:ext cx="655164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B910-4321-4D58-8F8B-002483AA82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menclatura Segura -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talação de um falso endereço IP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poofing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DN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che que contém endereço IP intensionamente falso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che envene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D93D-893E-49D8-8C32-A2F8844DDB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280" y="17017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NS Seg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nimização dos problemas de segurança de DNS – IDs aleatórias em suas consu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ível solução - uso de DNSSec (DNS Secu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baseia na criptografia de chave públ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da zona DNS tem um par de chave pública/chave priv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oda informação enviada por um servidor DNS é assinada com a chave privada de origem – verificação de autenticidad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ofereci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ova de onde os dados se origin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istribuição de chave públ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utenticação de transação e solicitaçã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NSSec ainda não teve uma distribuição total  - servidores de DNS estão vulneráveis a ataques de spoof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AB67-D59E-412E-BF8B-E08D4A50C6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92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des Privadas Virtu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sem f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e redes 802.1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o Bluetoot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o WAP 2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853F-BC39-405F-AFA6-F3F03B271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71280" y="1827000"/>
            <a:ext cx="7777080" cy="23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mes autocertific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NS não é a única possibilidade para proteger no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 abordagem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cure File Syste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(sistema de arquivo seguro)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não modifica o DNS e não utiliza certificados e não supõe a existência de uma P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8388360" cy="1233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00000" y="57340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URL autocertificado contendo um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ash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do nome e da chave pública do serv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DD25-0F81-453F-81F8-D7009F58EB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 de Internet para a criptografia e autenticação baseada em sessão, fornece um canal seguro entre as duas partes (o cliente e o servido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 uma autenticação de servidor e uma autenticação opcional de cliente para evitar espionagem, adulteração e falsificação de mensagens em aplicativos cliente-servidor. Estabelece um segredo compartilhado entre as duas partes – privac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trói uma conexão segura entre dois soquetes, inclui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gociação de parâmetros entre cliente e 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utenticação mútua de cliente e 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unicação secr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teção da integridade dos d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47C6-A36E-4B84-AAD6-671BFEAE8E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s (e protocolos) para um usuário doméstico navegando com a S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98F7-9143-4A72-86E8-30B12BB36F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ciona na camada de transporte (abaixo da camada de aplicativo) e independe dos protocolos dos aplicativos utiliz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s de aplicativo (HTTP, FTP, Telnet, etc.) podem estar de maneira transparente na camada da parte superior de S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B7E9-3FF5-410C-B7C5-9B38D02AA6E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 utilizado sobre SSL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TT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HT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mite uma variedade de algoritmos e opções distintas (p.ex.: presença ou ausência de compactação, quais os algoritmos criptografos serão usa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s de algoritmos utilizad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 triplo e SHA-1 (lento) – aplicações bancár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C4 e MD5 (mais rápido) – comércio eletrônico comu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iste de 2 subprotocolos: um para estabelecer a conexão e outro para usá-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EA00-52F8-4719-8C4B-80950BF75E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has detect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s incidentes bastante divulgados em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ve de 40 bits usada em versões de software para exportação é vulnerável a ata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s de estações de trabalho conseguem quebrar o código em algumas semanas de trabalh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ware especializado (possivelmente) pode realizar o mesmo em algumas hor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blema de implemen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ersão 2.0 do Navegador da Netscape usava chaves aleatórias previsíveis para gerar as chaves secre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nsagens quebradas em apenas alguns minutos em uma estação de trabalho conven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8A8A-CB81-4E9E-AC66-A22331F6E8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ção aberta que fornece uma estrutura para a proteção de cartões de pagamento utilizados em transações de comércio eletrôn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á incorporado no Microsoft Outlook e em aplicativos de e-mail do Outlook Express e no Messenger do Netsc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741E-0344-42D1-AD00-359A6468EB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fidencialidade das inform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 de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a conta do portador de cart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e comerci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operabil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7333-AC52-480F-A7E3-78D848357A0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is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dor do cart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erci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qui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l de pag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BA33-C872-42E7-A37F-F59F73C7446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Verdana"/>
              </a:rPr>
              <a:t>Segurança do código móvel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- Miniaplicativos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ntagens da interpre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erificar se o endereço da instrução é vál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s chamadas ao Sistema são captadas e interpre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um miniaplicativo tentar usar um recurso do sistema, sua chamada é repassada a um monitor de segurança para aprov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iniaplicativo Confiáve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veio do disco local) – as chamadas são execut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iniaplicativo não-confiáve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veio da Internet) – pode ser encapsulado em uma sandbox (caixa de areia) para limitar seu comportamento e bloquear tentativas de usar os recursos do sistema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blema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 modelo de segurança funciona mal e os bugs são consta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6430-F9CA-4697-B31E-77F8E9EF7AF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ualmente 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net Proto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IP) possui diversas vulnerabilidades ainda muito exploradas, permitindo por exempl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nitoração não autorizada de pacotes 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os trocados entre dois host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exploração de aplicações cuja autenticação é feita baseada no endereço 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B250-4304-49FE-BF5A-5654A07B96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ão programas binários que podem ser incorporados às páginas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ncontrado – realizada uma verificação para saber se deve ser executado ou n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todologia utilizada pela Microsoft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inatura de código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um hash do código assinado pelo criador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 o uso de criptografia de chave pública)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uthenticode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6070-B010-4485-BFD6-367F87D0EB9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bordagem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verifica apenas se o criador é confi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bordagem Ja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não determina o criador e certifica-se de que o miniaplicativo não executa ações que o proprietário da máquina afirmou que os miniaplicativos não poderiam execut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467B-A617-4D29-8143-91C1075752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nenhum modelo de segurança form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fornecedor cuida da segurança ao seu mo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scape Navigator 2 (algo similar ao modelo do Jav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scape Navigator 4 (modelo de assinatura de códig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os projetis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eb si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cham que as vantagens oferecidas pelo código móvel (imagens gráficas, interação rápida) são mais importantes que a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6B66-F931-415B-9401-D13F5361B8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0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Ví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 forma de código mó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idos para se reproduz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rmalmente infecta arquivos executáveis (não apen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o programa é executado, o controle é transferido para o vírus, que pode, por ex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 difundir para outras máquinas enviando cópias de si mes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fetar o setor de inicialização do disco ríg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lução: não é óbvia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5979-2545-424F-8A9E-D2C8835E0E8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Segurança 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É fácil ter-se um sistema de computação seguro. Você meramente tem que desconectar o seu sistema de qualquer rede externa, e permitir somente terminais ligados diretamente a ele. Colocar a máquina e seus terminais em uma sala fechada, e um guarda na porta.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.T. Grampp e R.H. Mor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020000" y="4941720"/>
            <a:ext cx="142884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8A7E-3E1A-436F-92DC-FF548577621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segurança na camada de rede engloba duas áreas funcionai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garante que um pacote recebido foi de fato transmitido pelo nó identificado como origem no cabeçalho do pacote. Além disso, esse mecanismo também assegura que o pacote não foi alterado enquanto transitava pela re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cidade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permite que sejam criptografadas mensagens de modo a evitar que essas possam ser interceptadas e lidas por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0858-515A-4F96-B08E-1D645DE28C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80280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de padrões abertos para assegurar na rede de IP uma comunicação privada seg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egu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confidencialidade, integridade e autenticidade para a comunicação de dados em uma rede pública de 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cote encriptado de IPSec – similar ao pacote comum  de IP (redução de custos de implementação e de gerenciamen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6021360"/>
            <a:ext cx="727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Vantagem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: Transparente para o usuário (utiliza a camada de re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A78B-8F9C-42D3-B489-7C474493CB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88328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par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os serviç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ranularida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ncipais serviç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gi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 de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eção contra ataques de reprodu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baseados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grafia de chave simétr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alto desempenho é importa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4FD8-8DF1-46CC-834C-92E004130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2-25T12:15:14Z</dcterms:modified>
  <cp:revision>871</cp:revision>
  <dc:subject/>
  <dc:title>Segurança da Informação</dc:title>
</cp:coreProperties>
</file>